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DE0-66A3-485A-9DA7-1A01E535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90E-11E3-4AFB-9ACE-48CC22B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530-C0F7-4487-9E17-C8EB8ABF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84C-58F2-4737-961B-6E159767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C09-0C81-43CF-9E30-CC0B9881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4C80-917A-4F2C-9980-29160C6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006-3E64-4404-B6AD-F6DA6397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ECD1-D466-4308-90B3-78AFC85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DEBF-5F15-44F3-BBCF-0092709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3CDB-8C1A-4C5C-ACD7-4A87ED2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61AD-D689-4C7F-80EF-DC4C93A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531-D9F0-4B81-A180-8DC4B1CE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AD7-72E1-479C-8D0C-466B45B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319A-8D15-4089-A461-D9B3A12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E2B-39BC-42DF-B495-A9EA1CF7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8DC-C85F-470A-8D45-6A7203E0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D5F-590D-4E7C-BB0C-108A7E2C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D3E-15C8-4ABC-B2E7-0D1BD9A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CCD-C84A-4405-A97B-82D0C26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AC7-09B9-4105-8A4D-C398F6B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302-0269-4F42-B34D-187DD0D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C30-62B2-4FAB-9DF9-7155730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ECD-81FC-4B67-941B-FC3920AE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6C1-5B52-45A1-83E2-1E7D1E7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5DB-BD35-48C3-AA97-1941720CF0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76C-BB49-4439-A777-217F030A42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ing Microsoft Active Directory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IS 165 – Week 1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s 70-217 &amp; 70-2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e Directory Features &amp; Servi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of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ing access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ement of re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zed admin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ication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open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Archite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P/ADSI, MAPI, SAM, RE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ory System Agent (D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ble Storage Eng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ore (NTDS.D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Archite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1089" t="28993" r="5492" b="6237"/>
          <a:stretch/>
        </p:blipFill>
        <p:spPr>
          <a:xfrm>
            <a:off x="2057400" y="2209680"/>
            <a:ext cx="58672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e Directory Object Contain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Directory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Directory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Directory Logical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&amp; For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Contro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Obje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&amp; 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 &amp;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ers, etc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tional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Sch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 a type of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s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properties of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, Datatype &amp; length, etc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be included in multiple cla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 may be extended by adding or replacing classes and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eversible without restoring AD from system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Enterprise Admin rights &amp; AD Schema snap-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e automatically when Exchange 2000 is instal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Compon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s - Security bou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and resources belong to one dom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ain Admins defines Administration bounda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and resources exist in OU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name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es group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confer privileges – groups do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nd For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es – contiguous DNS name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domains in a Global Cat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-way implicit, transitive tru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s - Define replication bound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Concep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Cat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s and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s and Tru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lobal Catalo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es all objects in its dom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es a subset of all objects in the entire for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only source of Universal group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d for logins, except by Domain Adm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Global Catalog serv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default, on the first DC in a forest or dom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GC servers can be created on any D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ru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ve a GC at every physical si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the GC and infrastructure master role on separate ho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pl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nformation is replica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level A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Catalogu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s provide replication bound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IS 165 – Week 1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2003 Systems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1 - Introduction To Active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2 – Domain Naming Services (D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ion Within a S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ication topology is automatically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t least two paths between D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ication is triggered by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s are not compressed - RP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ion between si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s between bridgehead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s as schedu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ompressed and may use SMT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changes replicate immedi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u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two-way transitive tru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 between parent and child domains in a tree and top-level domains in a for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one-way non-transitive tru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etween AD and NT 4.0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s in different for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Domains and Kerberos Rea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NS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-lookup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-lookup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, NS, MX, SRV, CNAME, P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guished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distinguished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across all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change when objects move or re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NT 4.0 S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Operation Master Ro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st-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Naming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-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ID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DC Emulator - Down-level clients and BD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Tasks &amp;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Users and Compu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&amp; manage user accounts, groups &amp; 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Domains &amp; Tru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 tru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to native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lternate user principal name suf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er domain naming master 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Sites an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 re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modify the AD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installed be defa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tools covered in lab – Know them for the ex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s of Active 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&amp; Active Director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s logi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Directory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atalo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Master R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Directory management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2 – Understanding D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Addressing &amp; Host N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osts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NS Name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Mess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me Resolu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a DNS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Addressing &amp; Host Na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iest IP network – ARP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-level name identified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s mapped to IP Addresses – hosts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s file would bec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orm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host entries require updated hosts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s could not choose just any  host names – only those not ye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osts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\WINNT\system32\drivers\etc\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048120"/>
            <a:ext cx="61722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Copyright (c) 1993-1999 Microsoft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This is a sample HOSTS file used by Microsoft TCP/IP for Windo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This file contains the mappings of IP addresses to host names. 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entry should be kept on an individual line. The IP address shou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be placed in the first column followed by the corresponding host na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The IP address and the host name should be separated by at least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sp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Additionally, comments (such as these) may be inserted on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lines or following the machine name denoted by a '#' symbo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     102.54.94.97     rhino.acme.com          # sourc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      38.25.63.10     x.acme.com              # x client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7.0.0.1       local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11.200.25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icu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11.200.25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icu20.mcse.walliha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2003 Security 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Server is not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ounts are managed lo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re managed lo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ounts are managed centr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resources are managed centr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Server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S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entralize nam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 identification of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rvices such as mail 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erarchic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erse resource record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rward Lookup Name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s host names to IP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s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t domain “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p-level domains – com, org, gov, etc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-level domains – privately 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Forward Lookup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2057400"/>
            <a:ext cx="2590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895480"/>
            <a:ext cx="2590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895480"/>
            <a:ext cx="25905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962520"/>
            <a:ext cx="2590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58092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666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95288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56272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61722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S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ward Lookup Z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nes repres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zone may represent one or more dom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nes represent a contiguous nam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nes define replication bound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ward Lookup Z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4382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42900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44956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AI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57200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200400"/>
            <a:ext cx="441936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20040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0400" y="35053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895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742840" y="38862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38862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343400"/>
            <a:ext cx="762012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0960" y="54864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valid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NS Messag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 uses UDP for name resolution (port 5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 uses TCP for zone file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message format handles al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 Header – See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gs Bit8 – Recursion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gs Bit9 – Recursion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ame Resolution Proc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computr2"/>
          <p:cNvSpPr/>
          <p:nvPr/>
        </p:nvSpPr>
        <p:spPr>
          <a:xfrm>
            <a:off x="1143000" y="3200400"/>
            <a:ext cx="1600200" cy="16002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ower"/>
          <p:cNvSpPr/>
          <p:nvPr/>
        </p:nvSpPr>
        <p:spPr>
          <a:xfrm>
            <a:off x="4038480" y="3124080"/>
            <a:ext cx="762120" cy="15242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ower"/>
          <p:cNvSpPr/>
          <p:nvPr/>
        </p:nvSpPr>
        <p:spPr>
          <a:xfrm>
            <a:off x="6324480" y="2057400"/>
            <a:ext cx="609840" cy="1143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ower"/>
          <p:cNvSpPr/>
          <p:nvPr/>
        </p:nvSpPr>
        <p:spPr>
          <a:xfrm>
            <a:off x="6324480" y="3429000"/>
            <a:ext cx="609840" cy="1143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ower"/>
          <p:cNvSpPr/>
          <p:nvPr/>
        </p:nvSpPr>
        <p:spPr>
          <a:xfrm>
            <a:off x="6324480" y="4800600"/>
            <a:ext cx="609840" cy="1143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65600" y="37339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89360" y="5105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43792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2743200"/>
            <a:ext cx="1295280" cy="533520"/>
          </a:xfrm>
          <a:prstGeom prst="wedgeRoundRectCallout">
            <a:avLst>
              <a:gd name="adj1" fmla="val -14337"/>
              <a:gd name="adj2" fmla="val 1413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02240" y="281952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ur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00600" y="243828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00240" y="2590920"/>
            <a:ext cx="1523880" cy="99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0024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42670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800240" y="44193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14800" y="5104800"/>
            <a:ext cx="1371600" cy="533160"/>
          </a:xfrm>
          <a:prstGeom prst="wedgeRoundRectCallout">
            <a:avLst>
              <a:gd name="adj1" fmla="val -51041"/>
              <a:gd name="adj2" fmla="val 1300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n-Recur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Reverse Lookup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8769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34340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809880"/>
            <a:ext cx="14475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2895480"/>
            <a:ext cx="14475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-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25909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28600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33560" y="2895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181480" y="2590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191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724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715000"/>
            <a:ext cx="3581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53 PTR saicu20.mcse.walliha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668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NS Configu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a server to forward unknown que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ing-only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servers do not maintain zones or e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ers must be enab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e in DH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, 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Secure updates (Active Directory integrated zones on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figuring D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2003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jor lay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 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l 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r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S Record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– Hos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AME – Canonical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 – Name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 – Authoritative name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X – Mail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V – Well-know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TR – Reverse lookup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W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W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o use W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BIOS N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mhosts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tBIOS nam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BIOS nod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INS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W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IOS Na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BIOS originally served single 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BIOS names were cached lo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s would broadcast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he requested computer re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ply was cached lo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mhosts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with NetBI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s on remote LANs –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nvironments –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mhosts file enabled the most popular servers to be resolved lo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mhosts file structu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address &lt;space or tab&gt;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hosts File Records &amp; T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ndard reco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.11.200.25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icu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#PRE – preloads entry in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#DOM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Windows NT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#INCLU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lepat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Loads info from a centrally managed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_ALTERNATE &amp; BEGIN_ ALTER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Lmhosts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 The following example illustrates all of these extens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2.54.94.97     rhino         #PRE #DOM:networking  #net group's D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2.54.94.102    "appname  \0x14"                    #special app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2.54.94.123    popular            #PRE             #source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2.54.94.117    localsrv           #PRE             #needed for the incl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ALTERN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LUDE \\localsrv\public\lmho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LUDE \\rhino\public\lmho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ALTERN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NetBIOS Name Server - WI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re configured with the WINS server’s IP address (enables un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register their name and IP with W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TL - 6 days by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refresh at half TT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r IP address changes are registered with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release names when they shut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query the name server to resolve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IOS Nod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371600" y="2362320"/>
          <a:ext cx="6019920" cy="420048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1828800"/>
              </a:tblGrid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d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ast-W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ast-W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 then W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ed B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cast then Lm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 Node (hybri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ast-W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 then 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S Enhanced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ast-W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W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he WINS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 a node type (op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-enhanced H-node by defa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S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tatic mapp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S Proxy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broadcast name regi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EnableProxy to 1 in registry - Any WINS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vironment sub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ulates other 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Win32, OS/2, POSIX (UNI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ions on applic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only the associated 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,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al Sub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sub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on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tation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shared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hared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rnel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ervices – Available to kernel and user mod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 manager, virtual memory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services – Available only to kernel mod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 2003 Sub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0029" t="18140" r="15310" b="2216"/>
          <a:stretch/>
        </p:blipFill>
        <p:spPr>
          <a:xfrm>
            <a:off x="2362320" y="2057400"/>
            <a:ext cx="48006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Direc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Wallihan</cp:lastModifiedBy>
  <dcterms:modified xsi:type="dcterms:W3CDTF">2005-05-07T20:48:32Z</dcterms:modified>
  <cp:revision>5</cp:revision>
  <dc:subject/>
  <dc:title>PowerPoint Presentation</dc:title>
</cp:coreProperties>
</file>