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C3F-1BC4-43F6-AD80-7F5764A7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4A0-4D2A-4522-A3D0-53DD2393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60C67-C720-44D3-BA93-B82EDB27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0A0CC-BBC4-4CDB-8036-334938DA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217CE-40A3-4A5E-BEC2-7DA788A9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8C5C3-4372-4991-9D27-A138AE07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51F01-B36C-4A3D-8220-FBCD4C05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8C512-CABD-44B7-930E-6AD972A3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6744D-39EA-4897-8940-ACF09968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A5292-232A-4767-88EF-E834E648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8CBF7-59F4-49C8-91DF-EFE1F220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473BF-7D00-4B32-AEC0-D798D01A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E93-A276-4407-8E14-CF8C724D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DF129-702B-4500-B7B3-D90C1423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280D1-177E-4EAB-B42A-9978F1F5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44AC9-13C4-4915-8AB0-1D14005E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AD16E-9BA0-457B-BD82-6B2C1645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D761F-9417-412B-AE42-03AE45C5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D9D7A-C8FF-4BA8-987D-8BF51071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94010-8838-43B4-9347-FDC8BBB6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CCAD6-6303-4755-8D1C-BEF6C157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4A1C0-8962-41DF-9D1E-74A82BB8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C0AED-24D5-4029-A37C-9FAB395F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1A8-3CB0-4209-9D16-243EE65F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5B186-2858-4974-9687-91E264C0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9B0888-104C-47B6-AD51-CFFCD7A6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EDFB88-2BA6-4B2D-93CF-CB10FAD6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C960EC-FFCD-49FE-BC0A-B1AD9B72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AD4F3E-D7CD-45EC-B632-9DCD51EB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E69D15-1031-4AC7-B76D-BB59357A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DAE3C3-B039-49D7-8287-9EB09661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01B368-7867-40B0-805D-79E35BC1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B5F8DC-03E0-4081-826F-74B025A0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65DB49-B405-4EF4-8E46-2CF63027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B87C-31A5-41CF-9E71-F9B4643D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A3B8B0-F2BA-4027-89AF-05ACA5DA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BCEC41-2406-46C1-B833-1F3893CF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D4BFF1-4C3D-4280-B752-92A230FC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D2050-37FB-4B48-A330-D5F3CE60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8B8BC-A4EA-4082-A5A6-47DD0B3A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50E60-51D4-4B2F-8F50-0F3E547D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53A54-BC60-410C-9B96-23EABDA4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C1D7A-FA63-4544-9F37-4E7431E8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641D8-A12C-472A-8791-15F86341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93700-7335-4BED-827A-601CD9C9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2FE7-68FF-4894-A6EA-807E1B14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815A3-0068-4AA6-B56E-8CB4F151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9F838-4018-4EF3-B8C1-21D96414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83456-1E4C-45D7-AA54-D9D072BA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7150D-FB46-4D45-A2F2-6335A1EE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DDB01-B928-4E08-9382-9D8A1EC9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33288-5931-4759-BD6A-6B8A0537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BF9915-A90C-4EBF-A761-5E77A481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7A6F3-DDE3-46E1-9906-59690EEF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8F16F-395E-46AA-A8A4-9DEE9E92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22294-0A66-4550-B66F-7C0FDAB0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85E6-BB14-4E65-B0D9-DE3376B5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15AB5-751A-45D2-88CE-0DC93CE6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24F97-AAA5-430F-BF86-8A2DFDC0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E8A73-A48C-40FE-9214-E184B4E3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017BD-8855-4C40-8271-882BDCF3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61448-504D-47EB-AA2E-B2C63154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E1E54-94ED-4F76-A42E-F858FDA4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4A6B5-861E-44FC-A92E-E6CF0418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61BBC-033A-4B34-A425-28DAC38A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E6E6A-6EF0-432A-BF99-B12F56E4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0D35B-EA1A-4748-88A8-BAE8D52C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5F3D-B250-4DB8-B71D-F46E4689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9E675D-F4E8-4448-9591-A0A57638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EA3581-D2DB-4C53-9E8B-58AD0011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F5A98-B677-4CCA-A156-C601AA9D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57023-2F52-40FD-8B71-AD328A39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7E18F-4A8D-49F5-9FD5-87391E88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A0CD6A-F33F-4B05-8819-EDAD6C24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D8474-AFC1-4D6A-8D15-40687502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F554C-2493-4EDA-9113-B1F8DA3B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938F5-6225-41F5-B766-A883CE3A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D5533E-5F13-4F57-AA6B-843956F4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20A6-3716-41ED-960C-F566F346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CA35DC-8651-44EC-AEAA-2BB3CDB2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1DC36-8047-4267-B13F-628D090D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BC7881-330F-495C-A810-1A8EBB7E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18070D-00F2-4C6A-A962-F8517D97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80BBAD-BB9D-4E74-A031-BE5FC1B1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1C18E2-79FB-461D-A34B-FFA4BAF6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A5669-40F1-44C8-972E-A2CDE362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DF0DFF-FEAF-4325-84C2-861DD90D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090F1-AF07-4E96-9796-DEF2E3AF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2B0D99-5A8B-4EB2-A899-6E0413EF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80EA-4A0A-4DEB-BBB2-92852113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05BAD9-B108-45B2-9F7A-7770CA7A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1B9F1D-E077-4F64-B9EC-9EF06252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908F25-B511-4FDB-884F-E8489AEC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BB7D74-FD64-4327-9503-3A9C09BD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DA2D0-6B2F-40AB-BC2C-5214F161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0E3E90-52FB-43ED-8057-F926E3BA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8125E5-973C-4830-AEC9-DC83C733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D33DCA-68A3-4EC8-B694-EA952565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58267A-87A2-4F2B-B728-CD41EF20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3C0C3-F87B-4C89-9C00-773B9086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A246-6F02-443F-8EFA-E3DDC043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85A027-CBF1-4624-82F1-A0803E4F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E413B0-9067-44DF-A2B7-EFF6BFBF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D7B21E-D336-44E4-8E9A-9E741519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512FE1-765C-431F-AC13-BDE8A622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57F07-8C81-4B6D-BAC6-AA001B00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DAC880-D1C0-4714-B867-7BED61C2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FF29F5-DCBA-4AB3-B85A-0BF0AB05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089182-9A0F-450D-9EA5-2ED89603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CC67A-074A-435B-B8D8-8E036E1E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1AE667-2E22-4542-BE4F-460EEDDC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928-43BE-4524-844D-4D48972D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C497-296D-46BE-842F-E7D99290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313FB-BA45-4F67-AFD4-724CDC2D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E4C56-9C61-4630-8DF6-4F0082BD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2CAE1E-A81D-4D12-908C-281C1ED7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39CC0-C593-41B4-B5E1-FDE8EC4C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441704-C2FD-456A-85BA-72D6854E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817D6C-95C1-4220-BD09-5BC6D5A8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62A873-2E9F-4106-8ACF-6B283CF1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03D95F-D8BF-45EF-8C6D-C3E6D7CE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2E7761-BABE-4E67-97E6-6852AD62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6E3BC-5A59-4BA7-81AD-34D3D091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5F30-8146-4284-8684-51C95D7A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647342-F4FA-46BA-A843-8132664A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ECD28F-14EC-471D-B195-185ACDB0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B9A2CE-FF67-460F-AA39-532466BF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122768-6928-4253-BBFB-06C33C2A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8C4DEA-DB12-4DE0-B4EA-E6D31B2F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AF5AB-04F0-4BA2-821F-42420D9C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E6737-7E1E-41BE-88D3-8C7D2522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FA8BDE-CE74-46AE-918C-D319DB27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F7A19D-2CDD-451B-BD25-03F2DC0D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B5914B-5202-40A4-800B-92DA6945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845B-656D-4A97-9B8C-777AFF7A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F90B90-29E0-4EE0-B565-FB7B30FD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5B336D-D63E-4831-B5E9-8202538A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419C2B-E35D-4C9D-B2CA-55DE9145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DC66B4-B036-4205-9FF9-F92E8072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6C45B6-46F9-417F-96E3-9526F1D3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FBA9FC-80A7-450F-9B18-14763C7E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423D2-8E38-4542-BE81-39D3B091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52CF7E-6A8F-4B8D-AE70-7D4EC86B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7D73DC-C09E-463F-AAFF-5D6F1F07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896458-5E4F-4F31-8311-810C4293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8EFF-94BC-48F5-8EF7-38041A87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5577A9-F8D6-4905-A2DF-3EB06417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3DA2CC-32E3-4738-AE56-BF91638E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767A2B-CCCC-4945-B6D9-6129FADF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C9A1B8-3954-4D6D-9065-F81CA5CC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F75A2E-E007-45F7-815A-CCAE4B59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9FBD9F-8202-4F53-9557-CDE1D8E4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3EB5BA-CEDA-48CD-B3C3-D6A2E2D7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BDBEAD-A500-4F5A-9325-7FBD934E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1EAABC-0958-4E55-A6C2-4BBCF63A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3E4D4D-176E-4910-B621-B618D1DA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ECF3-6108-4451-9E8E-697C0D94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81C541-BD71-4CF3-8D02-DDAF64FE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F1B1C-FE3A-43B0-95A5-3EBFC1D1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FDCB2-B23E-404F-9EA2-E958C474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7363-D9D5-4655-A1EF-678DDDF8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6D58B-7948-4FA8-8F07-2E72F4F2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592B9-C226-459F-AC60-C691BE3A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3CA-00D2-4A15-A5A2-C96F8A6A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C4E0C-2216-4D42-B097-E9F708A5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A6F68-320A-4DAF-BA83-B4A0855B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03BB3-56E0-4D77-B0CA-02317042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D4D75-0A15-4535-BEA7-17ADDB69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9C17-0385-49A5-AAE2-7938A302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28853-0932-426A-A0D5-728B2032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00E01-F323-4BA4-8A60-4E87F4CB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BAB59-9D05-4987-A6A3-E5B4A52D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65FB3-D552-4B59-A470-6733DD57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B58B0-B478-4EBB-9A20-4B702EAE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5460-1C40-4598-9F0F-197F6B33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09133-4821-4D28-A73C-2EA55855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CC26A-2900-4E0F-933A-60C79E58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58962-15A9-437C-A760-62B2431F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386F0-540E-40A1-83F0-E594FC54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81D09-8D53-4298-92EC-FA606F66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9A32F-0DB9-42AF-9C57-B90550F0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17456-501E-459E-8233-A8220B91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BE46F-BAFB-4A6E-9BB8-E225CF49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58567-BE55-489D-AB53-8FEADC77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0B980-0817-494B-820F-9FE92FB3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5D2-2634-448D-854E-8312158E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9E8FC-6B8A-4B7B-8D65-6EB2CCBE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0AA9D-812A-4AEE-BC8F-43D78E1A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7A077-45BF-48F2-A3D2-B4F104B4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53ED8-95E6-451B-8EDB-8622E7A8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A4C1A-6F10-49D2-A26F-232D58C0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609CD-947B-49E1-AB6C-EEF54CBC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F77F6-DC6D-46C3-A223-3A82DE80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DB548-9FF7-4A12-9986-BA41A5A2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A6EEE-DB3C-437B-BFEF-9DB181BD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0665C-3C7E-4BED-8260-6FF18A29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57D-B25E-4E07-A16C-FBADC685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2BD90-E1C2-4CB9-8F6F-14F842E3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65DD9-4DAD-46B2-95A1-39C379FE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52B65-88A4-4BD3-81FC-B548D003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37536-11B5-4E8E-B39B-89C10CDD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50915-8092-4C78-94C6-D5412A86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16FC9-6B8D-4D90-8E2D-B2DB40BE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24373-7508-4839-947D-47A1512E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49909-7317-4A7A-8569-0499D22B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A6ED6-5D72-49AD-BC23-D618E625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DFB1A-5FC0-42EE-978F-1CEAF0B9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3F9-5D53-4852-8D8C-3E1A2100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21D5A-3581-40ED-8925-CCB15BB0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2AD58-04FC-42FB-82E1-A607C617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DBE7C-31C8-406D-ABEF-5A15FEFA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7498E-F48D-433D-9853-EF09BA76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550EA-C552-4F43-A94A-43A24072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1139F-81C9-4E84-ABE0-9E429F54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1C230-E393-4D71-8BBF-EB0F2B62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19AA4-D653-48A0-8D51-614BC15E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2A5DC-16DC-4FEF-A1DD-04A3F91C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0D3C7-2601-40B8-880D-946F0A6F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258-40B2-4F9D-9367-6EC2FF62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5F379-12FF-4A09-9694-1C9FFF5D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49C81-28E2-4DB6-ACB1-A631446C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C1950-9707-4943-B81E-1EA7AC21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EACD6-4996-460C-9CD2-826BA1AF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EACD5-EFAE-44EF-A2C9-A1DB4C02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9542D-874C-4A63-8238-8C7EEDD0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E9335-EBAA-40D5-9EA3-76F61F32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AA60C-9466-4600-834B-E941EA6A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0D7DF-5686-4567-ABA3-968467BF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FAEA2-9CF8-43DE-BD7A-FDCAEBB6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7954-FBBE-445B-B4F9-37C6B27B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D5CA3-A2FA-40A9-A2BF-BF71BCE5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9B019-6E10-447E-A215-BA26A702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99E00-E6F3-4144-940C-3F40A4D8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B803F-51CF-4848-82B7-920554B7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ED2D4-14E9-48D5-9A90-C9ED0FB1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AB5BE-AD42-4BB4-9B9C-0F5C44EE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D7615-50EC-4C0E-9074-677740CA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CD81F-1A59-4344-AAD4-5D3FC0F2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A7A0C-D78B-49C6-B95D-8E2359D2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C7E5C-3270-46D1-9EA6-A5F15329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E3D9-67B9-40F3-A825-35675D4DC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5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5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D437-BC23-471B-9B74-6E55D2E2908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9E14-9D1C-4B91-9321-7290566F5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2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3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7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7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9BA8-A95E-44C0-97FA-F50353520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2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3176-33EF-41F8-B42E-F7D984198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8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82E5-3B40-4E57-89F0-2091ACFC8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45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042F-34CD-416A-AEB8-9020E11001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2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3A5C-59DC-43DE-988D-D4887FEEF4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3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4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dt" idx="4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ftr" idx="5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C75D-1440-4C83-BDBF-725D065A76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4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4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dt" idx="5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ftr" idx="5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0423-CFC3-463D-8919-701F8D3628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9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150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151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154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5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5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5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A20F-77E2-4A28-90F3-1163173D4D8D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C2FD-1CE0-4AD7-9850-7A0CEA999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19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20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PlaceHolder 1"/>
          <p:cNvSpPr>
            <a:spLocks noGrp="1"/>
          </p:cNvSpPr>
          <p:nvPr>
            <p:ph type="dt" idx="5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ftr" idx="5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sldNum" idx="6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268E-BBB2-4DA5-802D-479C2B625F68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8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BB50-4FE9-4B85-950E-004DBD6097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DF91-631B-41FE-AADE-51BAE663CB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9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8DB1-3BF9-4FA7-8D12-D386B7C439E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62F3-22AE-432B-80B1-302D27E0874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2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44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31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63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65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42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1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6AED-A42B-4C28-8E04-DCF6211E24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9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44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31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63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65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42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1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F45A-9E21-441E-93D9-DBA0D630FB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7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7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0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A9BE-9646-4CE8-A86C-8FEFA0F57E3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4282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Liberty"/>
              </a:rPr>
              <a:t>America In Motion</a:t>
            </a:r>
            <a:br>
              <a:rPr sz="5400"/>
            </a:br>
            <a:br>
              <a:rPr sz="5400"/>
            </a:br>
            <a:r>
              <a:rPr b="0" lang="en-US" sz="4800" spc="-1" strike="noStrike">
                <a:solidFill>
                  <a:srgbClr val="cc0000"/>
                </a:solidFill>
                <a:latin typeface="Splendid ES"/>
              </a:rPr>
              <a:t>Industrial Revolution</a:t>
            </a:r>
            <a:r>
              <a:rPr b="0" lang="en-US" sz="6600" spc="-1" strike="noStrike">
                <a:solidFill>
                  <a:srgbClr val="cc0000"/>
                </a:solidFill>
                <a:latin typeface="Splendid ES"/>
              </a:rPr>
              <a:t> </a:t>
            </a:r>
            <a:br>
              <a:rPr sz="6600"/>
            </a:br>
            <a:r>
              <a:rPr b="1" lang="en-US" sz="3600" spc="-1" strike="noStrike">
                <a:solidFill>
                  <a:srgbClr val="000000"/>
                </a:solidFill>
                <a:latin typeface="Alien League"/>
              </a:rPr>
              <a:t>EARLY 1800’s</a:t>
            </a:r>
            <a:br>
              <a:rPr sz="5400"/>
            </a:b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100" spc="-1" strike="noStrike">
                <a:solidFill>
                  <a:srgbClr val="cc0000"/>
                </a:solidFill>
                <a:latin typeface="Liberty"/>
              </a:rPr>
              <a:t>S</a:t>
            </a:r>
            <a:r>
              <a:rPr b="0" lang="en-US" sz="10100" spc="-1" strike="noStrike">
                <a:solidFill>
                  <a:srgbClr val="000066"/>
                </a:solidFill>
                <a:latin typeface="Liberty"/>
              </a:rPr>
              <a:t>e</a:t>
            </a:r>
            <a:r>
              <a:rPr b="0" lang="en-US" sz="10100" spc="-1" strike="noStrike">
                <a:solidFill>
                  <a:srgbClr val="cc0000"/>
                </a:solidFill>
                <a:latin typeface="Liberty"/>
              </a:rPr>
              <a:t>c</a:t>
            </a:r>
            <a:r>
              <a:rPr b="0" lang="en-US" sz="10100" spc="-1" strike="noStrike">
                <a:solidFill>
                  <a:srgbClr val="000066"/>
                </a:solidFill>
                <a:latin typeface="Liberty"/>
              </a:rPr>
              <a:t>t</a:t>
            </a:r>
            <a:r>
              <a:rPr b="0" lang="en-US" sz="10100" spc="-1" strike="noStrike">
                <a:solidFill>
                  <a:srgbClr val="cc0000"/>
                </a:solidFill>
                <a:latin typeface="Liberty"/>
              </a:rPr>
              <a:t>i</a:t>
            </a:r>
            <a:r>
              <a:rPr b="0" lang="en-US" sz="10100" spc="-1" strike="noStrike">
                <a:solidFill>
                  <a:srgbClr val="000066"/>
                </a:solidFill>
                <a:latin typeface="Liberty"/>
              </a:rPr>
              <a:t>o</a:t>
            </a:r>
            <a:r>
              <a:rPr b="0" lang="en-US" sz="10100" spc="-1" strike="noStrike">
                <a:solidFill>
                  <a:srgbClr val="cc0000"/>
                </a:solidFill>
                <a:latin typeface="Liberty"/>
              </a:rPr>
              <a:t>n </a:t>
            </a:r>
            <a:r>
              <a:rPr b="0" lang="en-US" sz="10100" spc="-1" strike="noStrike">
                <a:solidFill>
                  <a:srgbClr val="000066"/>
                </a:solidFill>
                <a:latin typeface="Liberty"/>
              </a:rPr>
              <a:t>2</a:t>
            </a:r>
            <a:r>
              <a:rPr b="0" lang="en-US" sz="10100" spc="-1" strike="noStrike">
                <a:solidFill>
                  <a:srgbClr val="cc0000"/>
                </a:solidFill>
                <a:latin typeface="Liberty"/>
              </a:rPr>
              <a:t>:</a:t>
            </a:r>
            <a:br>
              <a:rPr sz="10100"/>
            </a:br>
            <a:r>
              <a:rPr b="1" lang="en-US" sz="3400" spc="-1" strike="noStrike">
                <a:solidFill>
                  <a:srgbClr val="0033cc"/>
                </a:solidFill>
                <a:latin typeface="Architext"/>
              </a:rPr>
              <a:t>A Chance for Employ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0280" y="3967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Splendid ES"/>
              </a:rPr>
              <a:t>Different new jobs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iberty"/>
              </a:rPr>
              <a:t>Q1:</a:t>
            </a:r>
            <a:r>
              <a:rPr b="0" lang="en-US" sz="2800" spc="-1" strike="noStrike">
                <a:solidFill>
                  <a:srgbClr val="000066"/>
                </a:solidFill>
                <a:latin typeface="Liberty"/>
              </a:rPr>
              <a:t> How did it produce job opportun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iberty"/>
              </a:rPr>
              <a:t>Q2: </a:t>
            </a:r>
            <a:r>
              <a:rPr b="0" lang="en-US" sz="2800" spc="-1" strike="noStrike">
                <a:solidFill>
                  <a:srgbClr val="000000"/>
                </a:solidFill>
                <a:latin typeface="Liberty"/>
              </a:rPr>
              <a:t>did salaries increase or decre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iberty"/>
              </a:rPr>
              <a:t>Q3:</a:t>
            </a:r>
            <a:r>
              <a:rPr b="0" lang="en-US" sz="2800" spc="-1" strike="noStrike">
                <a:solidFill>
                  <a:srgbClr val="000066"/>
                </a:solidFill>
                <a:latin typeface="Liberty"/>
              </a:rPr>
              <a:t> What new jobs were now avail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iberty"/>
              </a:rPr>
              <a:t>Q4:</a:t>
            </a:r>
            <a:r>
              <a:rPr b="0" lang="en-US" sz="2800" spc="-1" strike="noStrike">
                <a:solidFill>
                  <a:srgbClr val="000066"/>
                </a:solidFill>
                <a:latin typeface="Libert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iberty"/>
              </a:rPr>
              <a:t>What Methods made jobs quick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iberty"/>
              </a:rPr>
              <a:t>Q5:</a:t>
            </a:r>
            <a:r>
              <a:rPr b="0" lang="en-US" sz="2800" spc="-1" strike="noStrike">
                <a:solidFill>
                  <a:srgbClr val="000066"/>
                </a:solidFill>
                <a:latin typeface="Liberty"/>
              </a:rPr>
              <a:t> Who benefited from th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iberty"/>
              </a:rPr>
              <a:t>Q6:</a:t>
            </a:r>
            <a:r>
              <a:rPr b="0" lang="en-US" sz="2800" spc="-1" strike="noStrike">
                <a:solidFill>
                  <a:srgbClr val="000066"/>
                </a:solidFill>
                <a:latin typeface="Libert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iberty"/>
              </a:rPr>
              <a:t>do we have similar jobs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berty"/>
              </a:rPr>
              <a:t>Brian Kenne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300" spc="-1" strike="noStrike">
                <a:solidFill>
                  <a:srgbClr val="cc0000"/>
                </a:solidFill>
                <a:latin typeface="Liberty"/>
              </a:rPr>
              <a:t>S</a:t>
            </a:r>
            <a:r>
              <a:rPr b="0" lang="en-US" sz="9300" spc="-1" strike="noStrike">
                <a:solidFill>
                  <a:srgbClr val="000066"/>
                </a:solidFill>
                <a:latin typeface="Liberty"/>
              </a:rPr>
              <a:t>e</a:t>
            </a:r>
            <a:r>
              <a:rPr b="0" lang="en-US" sz="9300" spc="-1" strike="noStrike">
                <a:solidFill>
                  <a:srgbClr val="cc0000"/>
                </a:solidFill>
                <a:latin typeface="Liberty"/>
              </a:rPr>
              <a:t>c</a:t>
            </a:r>
            <a:r>
              <a:rPr b="0" lang="en-US" sz="9300" spc="-1" strike="noStrike">
                <a:solidFill>
                  <a:srgbClr val="000066"/>
                </a:solidFill>
                <a:latin typeface="Liberty"/>
              </a:rPr>
              <a:t>t</a:t>
            </a:r>
            <a:r>
              <a:rPr b="0" lang="en-US" sz="9300" spc="-1" strike="noStrike">
                <a:solidFill>
                  <a:srgbClr val="cc0000"/>
                </a:solidFill>
                <a:latin typeface="Liberty"/>
              </a:rPr>
              <a:t>i</a:t>
            </a:r>
            <a:r>
              <a:rPr b="0" lang="en-US" sz="9300" spc="-1" strike="noStrike">
                <a:solidFill>
                  <a:srgbClr val="000066"/>
                </a:solidFill>
                <a:latin typeface="Liberty"/>
              </a:rPr>
              <a:t>o</a:t>
            </a:r>
            <a:r>
              <a:rPr b="0" lang="en-US" sz="9300" spc="-1" strike="noStrike">
                <a:solidFill>
                  <a:srgbClr val="cc0000"/>
                </a:solidFill>
                <a:latin typeface="Liberty"/>
              </a:rPr>
              <a:t>n </a:t>
            </a:r>
            <a:r>
              <a:rPr b="0" lang="en-US" sz="9300" spc="-1" strike="noStrike">
                <a:solidFill>
                  <a:srgbClr val="000066"/>
                </a:solidFill>
                <a:latin typeface="Liberty"/>
              </a:rPr>
              <a:t>3</a:t>
            </a:r>
            <a:r>
              <a:rPr b="0" lang="en-US" sz="9300" spc="-1" strike="noStrike">
                <a:solidFill>
                  <a:srgbClr val="cc0000"/>
                </a:solidFill>
                <a:latin typeface="Liberty"/>
              </a:rPr>
              <a:t>:</a:t>
            </a:r>
            <a:br>
              <a:rPr sz="9300"/>
            </a:br>
            <a:r>
              <a:rPr b="1" lang="en-US" sz="3000" spc="-1" strike="noStrike">
                <a:solidFill>
                  <a:srgbClr val="0033cc"/>
                </a:solidFill>
                <a:latin typeface="Architext"/>
              </a:rPr>
              <a:t>Inventions and their inven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8088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Usuzi"/>
              </a:rPr>
              <a:t>Industrial Revolution: </a:t>
            </a:r>
            <a:br>
              <a:rPr sz="3200"/>
            </a:br>
            <a:r>
              <a:rPr b="0" lang="en-US" sz="3200" spc="-1" strike="noStrike" u="sng">
                <a:solidFill>
                  <a:srgbClr val="000066"/>
                </a:solidFill>
                <a:uFillTx/>
                <a:latin typeface="Usuzi"/>
              </a:rPr>
              <a:t>Inventions</a:t>
            </a:r>
            <a:r>
              <a:rPr b="1" lang="en-US" sz="4400" spc="-1" strike="noStrike">
                <a:solidFill>
                  <a:srgbClr val="cc0000"/>
                </a:solidFill>
                <a:latin typeface="Splendid ES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Liberty"/>
              </a:rPr>
              <a:t>1: </a:t>
            </a:r>
            <a:r>
              <a:rPr b="0" lang="en-US" sz="3200" spc="-1" strike="noStrike">
                <a:solidFill>
                  <a:srgbClr val="000066"/>
                </a:solidFill>
                <a:latin typeface="Liberty"/>
              </a:rPr>
              <a:t>Tele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Liberty"/>
              </a:rPr>
              <a:t>2:</a:t>
            </a:r>
            <a:r>
              <a:rPr b="0" lang="en-US" sz="3200" spc="-1" strike="noStrike">
                <a:solidFill>
                  <a:srgbClr val="000066"/>
                </a:solidFill>
                <a:latin typeface="Libert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iberty"/>
              </a:rPr>
              <a:t>Steam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Liberty"/>
              </a:rPr>
              <a:t>3:</a:t>
            </a:r>
            <a:r>
              <a:rPr b="0" lang="en-US" sz="3200" spc="-1" strike="noStrike">
                <a:solidFill>
                  <a:srgbClr val="000066"/>
                </a:solidFill>
                <a:latin typeface="Liberty"/>
              </a:rPr>
              <a:t> Sewing Machine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Liberty"/>
              </a:rPr>
              <a:t>4:</a:t>
            </a:r>
            <a:r>
              <a:rPr b="0" lang="en-US" sz="3200" spc="-1" strike="noStrike">
                <a:solidFill>
                  <a:srgbClr val="000066"/>
                </a:solidFill>
                <a:latin typeface="Libert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iberty"/>
              </a:rPr>
              <a:t>Mechanical calc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Liberty"/>
              </a:rPr>
              <a:t>5:</a:t>
            </a:r>
            <a:r>
              <a:rPr b="0" lang="en-US" sz="3200" spc="-1" strike="noStrike">
                <a:solidFill>
                  <a:srgbClr val="000066"/>
                </a:solidFill>
                <a:latin typeface="Liberty"/>
              </a:rPr>
              <a:t> pneumatic T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Liberty"/>
              </a:rPr>
              <a:t>6: </a:t>
            </a:r>
            <a:r>
              <a:rPr b="0" lang="en-US" sz="3200" spc="-1" strike="noStrike">
                <a:solidFill>
                  <a:srgbClr val="000000"/>
                </a:solidFill>
                <a:latin typeface="Liberty"/>
              </a:rPr>
              <a:t>Ba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iberty"/>
              </a:rPr>
              <a:t>Anatoly cherny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010280" y="1071720"/>
            <a:ext cx="2057400" cy="54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berty"/>
              </a:rPr>
              <a:t>-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iberty"/>
              </a:rPr>
              <a:t>-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berty"/>
              </a:rPr>
              <a:t>-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iberty"/>
              </a:rPr>
              <a:t>-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berty"/>
              </a:rPr>
              <a:t>-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iberty"/>
              </a:rPr>
              <a:t>-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Libert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Libert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100" spc="-1" strike="noStrike">
                <a:solidFill>
                  <a:srgbClr val="cc0000"/>
                </a:solidFill>
                <a:latin typeface="Liberty"/>
              </a:rPr>
              <a:t>S</a:t>
            </a:r>
            <a:r>
              <a:rPr b="0" lang="en-US" sz="10100" spc="-1" strike="noStrike">
                <a:solidFill>
                  <a:srgbClr val="000066"/>
                </a:solidFill>
                <a:latin typeface="Liberty"/>
              </a:rPr>
              <a:t>e</a:t>
            </a:r>
            <a:r>
              <a:rPr b="0" lang="en-US" sz="10100" spc="-1" strike="noStrike">
                <a:solidFill>
                  <a:srgbClr val="cc0000"/>
                </a:solidFill>
                <a:latin typeface="Liberty"/>
              </a:rPr>
              <a:t>c</a:t>
            </a:r>
            <a:r>
              <a:rPr b="0" lang="en-US" sz="10100" spc="-1" strike="noStrike">
                <a:solidFill>
                  <a:srgbClr val="000066"/>
                </a:solidFill>
                <a:latin typeface="Liberty"/>
              </a:rPr>
              <a:t>t</a:t>
            </a:r>
            <a:r>
              <a:rPr b="0" lang="en-US" sz="10100" spc="-1" strike="noStrike">
                <a:solidFill>
                  <a:srgbClr val="cc0000"/>
                </a:solidFill>
                <a:latin typeface="Liberty"/>
              </a:rPr>
              <a:t>i</a:t>
            </a:r>
            <a:r>
              <a:rPr b="0" lang="en-US" sz="10100" spc="-1" strike="noStrike">
                <a:solidFill>
                  <a:srgbClr val="000066"/>
                </a:solidFill>
                <a:latin typeface="Liberty"/>
              </a:rPr>
              <a:t>o</a:t>
            </a:r>
            <a:r>
              <a:rPr b="0" lang="en-US" sz="10100" spc="-1" strike="noStrike">
                <a:solidFill>
                  <a:srgbClr val="cc0000"/>
                </a:solidFill>
                <a:latin typeface="Liberty"/>
              </a:rPr>
              <a:t>n </a:t>
            </a:r>
            <a:r>
              <a:rPr b="0" lang="en-US" sz="10100" spc="-1" strike="noStrike">
                <a:solidFill>
                  <a:srgbClr val="000066"/>
                </a:solidFill>
                <a:latin typeface="Liberty"/>
              </a:rPr>
              <a:t>4</a:t>
            </a:r>
            <a:r>
              <a:rPr b="0" lang="en-US" sz="10100" spc="-1" strike="noStrike">
                <a:solidFill>
                  <a:srgbClr val="cc0000"/>
                </a:solidFill>
                <a:latin typeface="Liberty"/>
              </a:rPr>
              <a:t>:</a:t>
            </a:r>
            <a:br>
              <a:rPr sz="10100"/>
            </a:br>
            <a:r>
              <a:rPr b="1" lang="en-US" sz="3400" spc="-1" strike="noStrike">
                <a:solidFill>
                  <a:srgbClr val="0033cc"/>
                </a:solidFill>
                <a:latin typeface="Architext"/>
              </a:rPr>
              <a:t>Conclusion: 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Architext"/>
              </a:rPr>
              <a:t>Putting Pieces Together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ndependence"/>
              </a:rPr>
              <a:t>Putting the pieces together</a:t>
            </a:r>
            <a:endParaRPr b="1" lang="en-US" sz="40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iberty"/>
              </a:rPr>
              <a:t>Q1:</a:t>
            </a:r>
            <a:r>
              <a:rPr b="0" lang="en-US" sz="2800" spc="-1" strike="noStrike">
                <a:solidFill>
                  <a:srgbClr val="000066"/>
                </a:solidFill>
                <a:latin typeface="Liberty"/>
              </a:rPr>
              <a:t> How Did Agriculture chan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iberty"/>
              </a:rPr>
              <a:t>Q2:</a:t>
            </a:r>
            <a:r>
              <a:rPr b="0" lang="en-US" sz="2800" spc="-1" strike="noStrike">
                <a:solidFill>
                  <a:srgbClr val="000066"/>
                </a:solidFill>
                <a:latin typeface="Libert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iberty"/>
              </a:rPr>
              <a:t>When was the telephone introduc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iberty"/>
              </a:rPr>
              <a:t>Q3:</a:t>
            </a:r>
            <a:r>
              <a:rPr b="0" lang="en-US" sz="2800" spc="-1" strike="noStrike">
                <a:solidFill>
                  <a:srgbClr val="000066"/>
                </a:solidFill>
                <a:latin typeface="Liberty"/>
              </a:rPr>
              <a:t> were there different social class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iberty"/>
              </a:rPr>
              <a:t>Q4:</a:t>
            </a:r>
            <a:r>
              <a:rPr b="0" lang="en-US" sz="2800" spc="-1" strike="noStrike">
                <a:solidFill>
                  <a:srgbClr val="000066"/>
                </a:solidFill>
                <a:latin typeface="Libert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iberty"/>
              </a:rPr>
              <a:t>Why did oil become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iberty"/>
              </a:rPr>
              <a:t>Q5:</a:t>
            </a:r>
            <a:r>
              <a:rPr b="0" lang="en-US" sz="2800" spc="-1" strike="noStrike">
                <a:solidFill>
                  <a:srgbClr val="000066"/>
                </a:solidFill>
                <a:latin typeface="Liberty"/>
              </a:rPr>
              <a:t> Who benefited from the chan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iberty"/>
              </a:rPr>
              <a:t>Q6:</a:t>
            </a:r>
            <a:r>
              <a:rPr b="0" lang="en-US" sz="2800" spc="-1" strike="noStrike">
                <a:solidFill>
                  <a:srgbClr val="000066"/>
                </a:solidFill>
                <a:latin typeface="Libert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iberty"/>
              </a:rPr>
              <a:t>Has the revolution stopp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iberty"/>
              </a:rPr>
              <a:t>Sam Dav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-76320" y="5638680"/>
            <a:ext cx="9220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0c0c0"/>
                </a:solidFill>
                <a:latin typeface="Movie Times"/>
              </a:rPr>
              <a:t>Bibliography</a:t>
            </a:r>
            <a:br>
              <a:rPr sz="3800"/>
            </a:br>
            <a:br>
              <a:rPr sz="38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 the order in which they appear…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1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2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3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4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5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6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7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8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9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10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11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12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13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14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15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16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17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18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19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20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21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22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23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24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25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26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27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28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29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30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31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32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33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34 –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lide 35 –</a:t>
            </a:r>
            <a:br>
              <a:rPr sz="14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300" spc="-1" strike="noStrike">
                <a:solidFill>
                  <a:srgbClr val="cc0000"/>
                </a:solidFill>
                <a:latin typeface="Liberty"/>
              </a:rPr>
              <a:t>S</a:t>
            </a:r>
            <a:r>
              <a:rPr b="0" lang="en-US" sz="9300" spc="-1" strike="noStrike">
                <a:solidFill>
                  <a:srgbClr val="000066"/>
                </a:solidFill>
                <a:latin typeface="Liberty"/>
              </a:rPr>
              <a:t>e</a:t>
            </a:r>
            <a:r>
              <a:rPr b="0" lang="en-US" sz="9300" spc="-1" strike="noStrike">
                <a:solidFill>
                  <a:srgbClr val="cc0000"/>
                </a:solidFill>
                <a:latin typeface="Liberty"/>
              </a:rPr>
              <a:t>c</a:t>
            </a:r>
            <a:r>
              <a:rPr b="0" lang="en-US" sz="9300" spc="-1" strike="noStrike">
                <a:solidFill>
                  <a:srgbClr val="000066"/>
                </a:solidFill>
                <a:latin typeface="Liberty"/>
              </a:rPr>
              <a:t>t</a:t>
            </a:r>
            <a:r>
              <a:rPr b="0" lang="en-US" sz="9300" spc="-1" strike="noStrike">
                <a:solidFill>
                  <a:srgbClr val="cc0000"/>
                </a:solidFill>
                <a:latin typeface="Liberty"/>
              </a:rPr>
              <a:t>i</a:t>
            </a:r>
            <a:r>
              <a:rPr b="0" lang="en-US" sz="9300" spc="-1" strike="noStrike">
                <a:solidFill>
                  <a:srgbClr val="000066"/>
                </a:solidFill>
                <a:latin typeface="Liberty"/>
              </a:rPr>
              <a:t>o</a:t>
            </a:r>
            <a:r>
              <a:rPr b="0" lang="en-US" sz="9300" spc="-1" strike="noStrike">
                <a:solidFill>
                  <a:srgbClr val="cc0000"/>
                </a:solidFill>
                <a:latin typeface="Liberty"/>
              </a:rPr>
              <a:t>n </a:t>
            </a:r>
            <a:r>
              <a:rPr b="0" lang="en-US" sz="9300" spc="-1" strike="noStrike">
                <a:solidFill>
                  <a:srgbClr val="000066"/>
                </a:solidFill>
                <a:latin typeface="Liberty"/>
              </a:rPr>
              <a:t>1</a:t>
            </a:r>
            <a:r>
              <a:rPr b="0" lang="en-US" sz="9300" spc="-1" strike="noStrike">
                <a:solidFill>
                  <a:srgbClr val="cc0000"/>
                </a:solidFill>
                <a:latin typeface="Liberty"/>
              </a:rPr>
              <a:t>:</a:t>
            </a:r>
            <a:br>
              <a:rPr sz="9300"/>
            </a:br>
            <a:r>
              <a:rPr b="0" lang="en-US" sz="3000" spc="-1" strike="noStrike">
                <a:solidFill>
                  <a:srgbClr val="0033cc"/>
                </a:solidFill>
                <a:latin typeface="Architext"/>
              </a:rPr>
              <a:t>An Informational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Independence"/>
              </a:rPr>
              <a:t>You may be wondering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Liberty"/>
              </a:rPr>
              <a:t>Q1:</a:t>
            </a:r>
            <a:r>
              <a:rPr b="0" lang="en-US" sz="3200" spc="-1" strike="noStrike">
                <a:solidFill>
                  <a:srgbClr val="000066"/>
                </a:solidFill>
                <a:latin typeface="Liberty"/>
              </a:rPr>
              <a:t> What was the Industrial Rev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Liberty"/>
              </a:rPr>
              <a:t>Q2:</a:t>
            </a:r>
            <a:r>
              <a:rPr b="0" lang="en-US" sz="3200" spc="-1" strike="noStrike">
                <a:solidFill>
                  <a:srgbClr val="000066"/>
                </a:solidFill>
                <a:latin typeface="Liberty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Liberty"/>
              </a:rPr>
              <a:t>Was America the first to chan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Liberty"/>
              </a:rPr>
              <a:t>Q3:</a:t>
            </a:r>
            <a:r>
              <a:rPr b="0" lang="en-US" sz="3200" spc="-1" strike="noStrike">
                <a:solidFill>
                  <a:srgbClr val="000066"/>
                </a:solidFill>
                <a:latin typeface="Liberty"/>
              </a:rPr>
              <a:t> How did it affect foreign rel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Liberty"/>
              </a:rPr>
              <a:t>Q4:</a:t>
            </a:r>
            <a:r>
              <a:rPr b="0" lang="en-US" sz="3200" spc="-1" strike="noStrike">
                <a:solidFill>
                  <a:srgbClr val="000066"/>
                </a:solidFill>
                <a:latin typeface="Liberty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Liberty"/>
              </a:rPr>
              <a:t>Who took part in the mov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Liberty"/>
              </a:rPr>
              <a:t>Q5:</a:t>
            </a:r>
            <a:r>
              <a:rPr b="0" lang="en-US" sz="3200" spc="-1" strike="noStrike">
                <a:solidFill>
                  <a:srgbClr val="000066"/>
                </a:solidFill>
                <a:latin typeface="Liberty"/>
              </a:rPr>
              <a:t> How did it make peoples’ lives easi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Liberty"/>
              </a:rPr>
              <a:t>Q6:</a:t>
            </a:r>
            <a:r>
              <a:rPr b="0" lang="en-US" sz="3200" spc="-1" strike="noStrike">
                <a:solidFill>
                  <a:srgbClr val="000066"/>
                </a:solidFill>
                <a:latin typeface="Liberty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Liberty"/>
              </a:rPr>
              <a:t>How does this affect us To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838512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Splendid ES"/>
              </a:rPr>
              <a:t>What was the Industrial Revolution?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volutionary methods of 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pportunity for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aster, more efficient production of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Splendid ES"/>
              </a:rPr>
              <a:t>Was America the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Splendid ES"/>
              </a:rPr>
              <a:t>first</a:t>
            </a:r>
            <a:r>
              <a:rPr b="1" lang="en-US" sz="5400" spc="-1" strike="noStrike">
                <a:solidFill>
                  <a:srgbClr val="ff0000"/>
                </a:solidFill>
                <a:latin typeface="Splendid ES"/>
              </a:rPr>
              <a:t> </a:t>
            </a:r>
            <a:r>
              <a:rPr b="1" lang="en-US" sz="5400" spc="-1" strike="noStrike">
                <a:solidFill>
                  <a:srgbClr val="000066"/>
                </a:solidFill>
                <a:latin typeface="Splendid ES"/>
              </a:rPr>
              <a:t>to change?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Liberty"/>
              </a:rPr>
              <a:t>Why</a:t>
            </a:r>
            <a:r>
              <a:rPr b="1" lang="en-US" sz="3600" spc="-1" strike="noStrike">
                <a:solidFill>
                  <a:srgbClr val="000066"/>
                </a:solidFill>
                <a:latin typeface="Liberty"/>
              </a:rPr>
              <a:t> did </a:t>
            </a:r>
            <a:r>
              <a:rPr b="1" lang="en-US" sz="3600" spc="-1" strike="noStrike">
                <a:solidFill>
                  <a:srgbClr val="ff0000"/>
                </a:solidFill>
                <a:latin typeface="Liberty"/>
              </a:rPr>
              <a:t>America</a:t>
            </a:r>
            <a:r>
              <a:rPr b="1" lang="en-US" sz="3600" spc="-1" strike="noStrike">
                <a:solidFill>
                  <a:srgbClr val="000066"/>
                </a:solidFill>
                <a:latin typeface="Liberty"/>
              </a:rPr>
              <a:t> suddenly </a:t>
            </a:r>
            <a:r>
              <a:rPr b="1" lang="en-US" sz="3600" spc="-1" strike="noStrike">
                <a:solidFill>
                  <a:srgbClr val="ff0000"/>
                </a:solidFill>
                <a:latin typeface="Liberty"/>
              </a:rPr>
              <a:t>Change</a:t>
            </a:r>
            <a:r>
              <a:rPr b="1" lang="en-US" sz="3600" spc="-1" strike="noStrike">
                <a:solidFill>
                  <a:srgbClr val="000066"/>
                </a:solidFill>
                <a:latin typeface="Liberty"/>
              </a:rPr>
              <a:t>?</a:t>
            </a:r>
            <a:r>
              <a:rPr b="1" lang="en-US" sz="3600" spc="-1" strike="noStrike">
                <a:solidFill>
                  <a:srgbClr val="cc0000"/>
                </a:solidFill>
                <a:latin typeface="Liberty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Liberty"/>
              </a:rPr>
              <a:t>Who</a:t>
            </a:r>
            <a:r>
              <a:rPr b="0" lang="en-US" sz="3600" spc="-1" strike="noStrike">
                <a:solidFill>
                  <a:srgbClr val="ff0000"/>
                </a:solidFill>
                <a:latin typeface="Liberty"/>
              </a:rPr>
              <a:t> took </a:t>
            </a:r>
            <a:r>
              <a:rPr b="0" lang="en-US" sz="3600" spc="-1" strike="noStrike">
                <a:solidFill>
                  <a:srgbClr val="000066"/>
                </a:solidFill>
                <a:latin typeface="Liberty"/>
              </a:rPr>
              <a:t>part </a:t>
            </a:r>
            <a:r>
              <a:rPr b="0" lang="en-US" sz="3600" spc="-1" strike="noStrike">
                <a:solidFill>
                  <a:srgbClr val="ff0000"/>
                </a:solidFill>
                <a:latin typeface="Liberty"/>
              </a:rPr>
              <a:t>in </a:t>
            </a:r>
            <a:r>
              <a:rPr b="0" lang="en-US" sz="3600" spc="-1" strike="noStrike">
                <a:solidFill>
                  <a:srgbClr val="000066"/>
                </a:solidFill>
                <a:latin typeface="Liberty"/>
              </a:rPr>
              <a:t>the</a:t>
            </a:r>
            <a:r>
              <a:rPr b="0" lang="en-US" sz="3600" spc="-1" strike="noStrike">
                <a:solidFill>
                  <a:srgbClr val="ff0000"/>
                </a:solidFill>
                <a:latin typeface="Liberty"/>
              </a:rPr>
              <a:t> movement</a:t>
            </a:r>
            <a:r>
              <a:rPr b="0" lang="en-US" sz="3600" spc="-1" strike="noStrike">
                <a:solidFill>
                  <a:srgbClr val="000066"/>
                </a:solidFill>
                <a:latin typeface="Liberty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Liberty"/>
              </a:rPr>
              <a:t>How did it make peoples’ lives </a:t>
            </a:r>
            <a:r>
              <a:rPr b="1" lang="en-US" sz="3200" spc="-1" strike="noStrike">
                <a:solidFill>
                  <a:srgbClr val="ff0000"/>
                </a:solidFill>
                <a:latin typeface="Liberty"/>
              </a:rPr>
              <a:t>easier</a:t>
            </a:r>
            <a:r>
              <a:rPr b="1" lang="en-US" sz="3200" spc="-1" strike="noStrike">
                <a:solidFill>
                  <a:srgbClr val="000066"/>
                </a:solidFill>
                <a:latin typeface="Liberty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Liberty"/>
              </a:rPr>
              <a:t>How did the industrial revolution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Liberty"/>
              </a:rPr>
              <a:t>Affect Us </a:t>
            </a:r>
            <a:r>
              <a:rPr b="0" lang="en-US" sz="3600" spc="-1" strike="noStrike">
                <a:solidFill>
                  <a:srgbClr val="ff0000"/>
                </a:solidFill>
                <a:latin typeface="Anything You Want"/>
              </a:rPr>
              <a:t>Today?!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bla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1:56:07Z</dcterms:created>
  <dc:creator>Michael Karpeles</dc:creator>
  <dc:description/>
  <dc:language>en-US</dc:language>
  <cp:lastModifiedBy>MeK </cp:lastModifiedBy>
  <dcterms:modified xsi:type="dcterms:W3CDTF">2005-09-09T05:09:40Z</dcterms:modified>
  <cp:revision>66</cp:revision>
  <dc:subject/>
  <dc:title>A Mixed America</dc:title>
</cp:coreProperties>
</file>