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EB0-1A0E-4FC9-94D6-C9BAB8AE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3C1-6E79-4DC0-8A38-88044E2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CFC-388E-4F9E-A086-162C3369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856-7484-4F0F-8C02-E6572FA6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D3C-B4A1-459B-94A8-5CBBE4F9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246-C88D-4D34-B0BA-CA2594C6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389-0648-4F2D-BDE6-2EE2E100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8AA-6635-4DD3-8A45-D124FE38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86C-F807-4B76-AEAE-B2A7AF1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FD3-B8F7-4A97-B69C-897A2AC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322-6C15-4465-B110-FC5841C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EAD-A48E-46E9-A94B-2564C94C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106-79B1-4C5B-B0B6-ABF2C766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4"/>
          <p:cNvGrpSpPr/>
          <p:nvPr/>
        </p:nvGrpSpPr>
        <p:grpSpPr>
          <a:xfrm>
            <a:off x="0" y="-450360"/>
            <a:ext cx="9144000" cy="7308360"/>
            <a:chOff x="0" y="-450360"/>
            <a:chExt cx="9144000" cy="7308360"/>
          </a:xfrm>
        </p:grpSpPr>
        <p:pic>
          <p:nvPicPr>
            <p:cNvPr id="42" name="Picture 473" descr=""/>
            <p:cNvPicPr/>
            <p:nvPr/>
          </p:nvPicPr>
          <p:blipFill>
            <a:blip r:embed="rId1"/>
            <a:stretch/>
          </p:blipFill>
          <p:spPr>
            <a:xfrm>
              <a:off x="0" y="7920"/>
              <a:ext cx="914400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 rot="1773000">
              <a:off x="1905120" y="76320"/>
              <a:ext cx="2819160" cy="25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5560">
                    <a:solidFill>
                      <a:srgbClr val="e9cb9f"/>
                    </a:solidFill>
                    <a:miter/>
                  </a:ln>
                  <a:solidFill>
                    <a:srgbClr val="f3e4cd"/>
                  </a:solidFill>
                  <a:latin typeface="Arial Black"/>
                </a:rPr>
                <a:t>City Zoo</a:t>
              </a:r>
              <a:endParaRPr b="0" lang="en-US" sz="1800" spc="1" strike="noStrike">
                <a:ln w="25560">
                  <a:solidFill>
                    <a:srgbClr val="e9cb9f"/>
                  </a:solidFill>
                  <a:miter/>
                </a:ln>
                <a:solidFill>
                  <a:srgbClr val="f3e4cd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" name="Text Box 162"/>
            <p:cNvSpPr/>
            <p:nvPr/>
          </p:nvSpPr>
          <p:spPr>
            <a:xfrm rot="807000">
              <a:off x="6171840" y="5347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26:18Z</dcterms:created>
  <dc:creator>MCS</dc:creator>
  <dc:description/>
  <dc:language>en-US</dc:language>
  <cp:lastModifiedBy>Lindy Seale</cp:lastModifiedBy>
  <dcterms:modified xsi:type="dcterms:W3CDTF">2010-06-02T03:44:16Z</dcterms:modified>
  <cp:revision>7</cp:revision>
  <dc:subject/>
  <dc:title>Slide 1</dc:title>
</cp:coreProperties>
</file>