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7.jpeg" ContentType="image/jpeg"/>
  <Override PartName="/ppt/media/image50.jpeg" ContentType="image/jpeg"/>
  <Override PartName="/ppt/media/image4.png" ContentType="image/png"/>
  <Override PartName="/ppt/media/image12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1.png" ContentType="image/png"/>
  <Override PartName="/ppt/media/image47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42.jpeg" ContentType="image/jpeg"/>
  <Override PartName="/ppt/media/image19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6ED-F02A-4F89-ACD3-97F3C8D4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5C6-7F72-45A5-9D72-67218BD8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B2A-BEF5-44FD-8F95-30B4DB17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249-1030-4A9F-8DC7-03916655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7631-161D-41D4-9C5F-4A0FC3C6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220D-36D8-41DF-8838-D3059D4B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826E-FE70-42CD-B62F-D8FD4A08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9835-2D97-4297-852C-1400691E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D44-4D1B-437F-88D1-726C1E4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2995-F3BA-4EB6-8992-CA30DEA7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B5B0-0FB0-459B-B1BE-4120B11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B6F-D3A8-41FB-AAFA-97390B2C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BD9A-FCEB-4DE7-B9DF-74976BD8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DCB8-4BD6-4248-91FF-B657B25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FF6E-34D7-467C-AA27-A5BF17C8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7930-8243-470A-94E2-7D8C6BC1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5A4F-2C6F-4522-B588-6496324C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5F0-EA4D-4554-A911-9B4F0105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6BC-4FA1-4864-B8C4-890164F9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B5B-4467-439E-A70D-D1B2AA81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EA8-7A64-4CA7-9E59-D3243A72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621-65E0-45AA-B5A8-4103F04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915-E868-4D29-B86C-96B042C7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B29-AD40-4226-A451-F95F0A94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1C9B-692F-4F73-A8D5-9C1ACC4093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8370-F74B-4E5C-8EB0-F1F86FCA2AA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skincarephysicians.com/agingskinnet/images/squa2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msu.edu/~aslocum/sun/sunscreen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sunsetgarden.com/pix/sunsetdive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soulseekersmc.com/alcoholic.jpg&amp;imgrefurl=http://www.soulseekersmc.com/events.html&amp;h=271&amp;w=256&amp;prev=/images%3Fq%3Dalcoholic%26svnum%3D10%26hl%3Den%26lr%3D%26ie%3DUTF-8%26oe%3DUTF-8" TargetMode="External"/><Relationship Id="rId2" Type="http://schemas.openxmlformats.org/officeDocument/2006/relationships/image" Target="../media/image19.jpeg"/><Relationship Id="rId3" Type="http://schemas.openxmlformats.org/officeDocument/2006/relationships/slide" Target="slide3.xml"/><Relationship Id="rId4" Type="http://schemas.openxmlformats.org/officeDocument/2006/relationships/hyperlink" Target="http://images.google.com/imgres?imgurl=www.schneider-weisse.com/bynb/images/alkoholfrei.jpg&amp;imgrefurl=http://www.schneider-weisse.com/bynb/produkte/alkoholfrei.htm&amp;h=444&amp;w=280&amp;prev=/images%3Fq%3Dalcoholic%26start%3D40%26svnum%3D10%26hl%3Den%26lr%3D%26ie%3DUTF-8%26oe%3DUTF-8%26sa%3DN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images.google.com/imgres?imgurl=www.unitedwaysb.org/addiction.jpg&amp;imgrefurl=http://www.unitedwaysb.org/who.html&amp;h=725&amp;w=875&amp;prev=/images%3Fq%3Daddiction%26svnum%3D10%26hl%3Den%26lr%3D%26ie%3DUTF-8%26oe%3DUTF-8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.xml"/><Relationship Id="rId3" Type="http://schemas.openxmlformats.org/officeDocument/2006/relationships/hyperlink" Target="http://www.llgc.org.uk/ymgyrchu/Datganoli/Refferendwm/DARE08en.gi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iams.nih.gov/hi/topics/arthritis/graphics/exercise.gif&amp;imgrefurl=http://www.niams.nih.gov/hi/topics/arthritis/oahandout.htm&amp;h=379&amp;w=208&amp;prev=/images%3Fq%3Dexercise%26svnum%3D10%26hl%3Den%26lr%3D%26ie%3DUTF-8%26oe%3DUTF-8" TargetMode="External"/><Relationship Id="rId2" Type="http://schemas.openxmlformats.org/officeDocument/2006/relationships/image" Target="../media/image28.jpeg"/><Relationship Id="rId3" Type="http://schemas.openxmlformats.org/officeDocument/2006/relationships/slide" Target="slide3.xml"/><Relationship Id="rId4" Type="http://schemas.openxmlformats.org/officeDocument/2006/relationships/hyperlink" Target="http://images.google.com/imgres?imgurl=www.student-counselling.ed.ac.uk/images/inside_gifs/selfhelp/exercise.gif&amp;imgrefurl=http://www.student-counselling.ed.ac.uk/selfhelp/exercise.html&amp;h=562&amp;w=702&amp;prev=/images%3Fq%3Dexercise%26svnum%3D10%26hl%3Den%26lr%3D%26ie%3DUTF-8%26oe%3DUTF-8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images.google.com/imgres?imgurl=graphics.thathomesite.com/graphics/clip/exercise.gif&amp;imgrefurl=http://ths.gardenweb.com/forums/exercise/&amp;h=147&amp;w=160&amp;prev=/images%3Fq%3Dexercise%26svnum%3D10%26hl%3Den%26lr%3D%26ie%3DUTF-8%26oe%3DUTF-8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surgerydoor.co.uk/images/flexibility.gif&amp;imgrefurl=http://www.surgerydoor.co.uk/level2/Sportsandfitness_Exerciseforflexability.shtml&amp;h=171&amp;w=200&amp;prev=/images%3Fq%3Dflexibility%26svnum%3D10%26hl%3Den%26lr%3D%26ie%3DUTF-8%26oe%3DUTF-8" TargetMode="External"/><Relationship Id="rId2" Type="http://schemas.openxmlformats.org/officeDocument/2006/relationships/image" Target="../media/image34.jpeg"/><Relationship Id="rId3" Type="http://schemas.openxmlformats.org/officeDocument/2006/relationships/slide" Target="slide3.xml"/><Relationship Id="rId4" Type="http://schemas.openxmlformats.org/officeDocument/2006/relationships/hyperlink" Target="http://images.google.com/imgres?imgurl=www.mcleodmassage.ca/photos/flexibility.gif&amp;imgrefurl=http://www.mcleodmassage.ca/training.htm&amp;h=220&amp;w=178&amp;prev=/images%3Fq%3Dflexibility%26svnum%3D10%26hl%3Den%26lr%3D%26ie%3DUTF-8%26oe%3DUTF-8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images.google.com/imgres?imgurl=www.tothenextlevel.org/graphics/flexibility.jpg&amp;imgrefurl=http://www.tothenextlevel.org/docs/physiology/flexibility.html&amp;h=480&amp;w=640&amp;prev=/images%3Fq%3Dflexibility%26svnum%3D10%26hl%3Den%26lr%3D%26ie%3DUTF-8%26oe%3DUTF-8" TargetMode="Externa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fatloss.com/24hh1.gif&amp;imgrefurl=http://fatloss.com/burnfat24.htm&amp;h=152&amp;w=169&amp;prev=/images%3Fq%3Dburning%2Bcalories%26svnum%3D10%26hl%3Den%26lr%3D%26ie%3DUTF-8%26oe%3DUTF-8" TargetMode="External"/><Relationship Id="rId2" Type="http://schemas.openxmlformats.org/officeDocument/2006/relationships/image" Target="../media/image37.jpeg"/><Relationship Id="rId3" Type="http://schemas.openxmlformats.org/officeDocument/2006/relationships/slide" Target="slide3.xm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ealthfitness.com.au/newsletter/nav/exercise-cardio-aerobic.jpg&amp;imgrefurl=http://healthfitness.com.au/newsletter/nav.html&amp;h=173&amp;w=154&amp;prev=/images%3Fq%3Daerobic%2Bexercise%26svnum%3D10%26hl%3Den%26lr%3D%26ie%3DUTF-8%26oe%3DUTF-8" TargetMode="External"/><Relationship Id="rId2" Type="http://schemas.openxmlformats.org/officeDocument/2006/relationships/image" Target="../media/image39.jpeg"/><Relationship Id="rId3" Type="http://schemas.openxmlformats.org/officeDocument/2006/relationships/slide" Target="slide3.xml"/><Relationship Id="rId4" Type="http://schemas.openxmlformats.org/officeDocument/2006/relationships/hyperlink" Target="http://images.google.com/imgres?imgurl=www.spacesciencegroup.nsula.edu/sotw/newlessons/graphics/aerobic.jpg&amp;imgrefurl=http://www.spacesciencegroup.nsula.edu/sotw/newlessons/default.asp%3Ftheme%3Dhumanbody%26pagename%3Daerobic&amp;h=266&amp;w=200&amp;prev=/images%3Fq%3Daerobic%2Bexercise%26svnum%3D10%26hl%3Den%26lr%3D%26ie%3DUTF-8%26oe%3DUTF-8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images.google.com/imgres?imgurl=www.treadmillbynet.com/gfx/images/trot685.jpg&amp;imgrefurl=http://www.treadmillbynet.com/Treadmills-Aerobics-Exercise-Equipment.htm&amp;h=196&amp;w=191&amp;prev=/images%3Fq%3Daerobic%2Bexercise%26svnum%3D10%26hl%3Den%26lr%3D%26ie%3DUTF-8%26oe%3DUTF-8" TargetMode="External"/><Relationship Id="rId7" Type="http://schemas.openxmlformats.org/officeDocument/2006/relationships/image" Target="../media/image41.jpeg"/><Relationship Id="rId8" Type="http://schemas.openxmlformats.org/officeDocument/2006/relationships/hyperlink" Target="http://www.howtobefit.com/pics/mb2.jpg" TargetMode="External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images.google.com/imgres?imgurl=www.who.int/emc/images/vaccination-mean.jpg&amp;imgrefurl=http://www.who.int/emc/diseases/smallpox/factsheet.html&amp;h=342&amp;w=472&amp;prev=/images%3Fq%3Dvaccination%26svnum%3D10%26hl%3Den%26lr%3D%26ie%3DUTF-8%26oe%3DUTF-8" TargetMode="External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hivdent.org/_peag/plaq01.gif&amp;imgrefurl=http://www.hivdent.org/_peag/faq-plaq.htm&amp;h=252&amp;w=310&amp;prev=/images%3Fq%3Dplaque%2Bon%2Bteeth%26svnum%3D10%26hl%3Den%26lr%3D%26ie%3DUTF-8%26oe%3DUTF-8" TargetMode="External"/><Relationship Id="rId2" Type="http://schemas.openxmlformats.org/officeDocument/2006/relationships/image" Target="../media/image44.jpeg"/><Relationship Id="rId3" Type="http://schemas.openxmlformats.org/officeDocument/2006/relationships/slide" Target="slide3.xml"/><Relationship Id="rId4" Type="http://schemas.openxmlformats.org/officeDocument/2006/relationships/hyperlink" Target="http://images.google.com/imgres?imgurl=www.edoc.co.za/dhw/owners_manual/images/oraldisease_plaquep4.gif&amp;imgrefurl=http://www.edoc.co.za/dhw/owners_manual/oraldisease2.html&amp;h=153&amp;w=200&amp;prev=/images%3Fq%3Dplaque%2Bon%2Bteeth%26start%3D20%26svnum%3D10%26hl%3Den%26lr%3D%26ie%3DUTF-8%26oe%3DUTF-8%26sa%3DN" TargetMode="External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childrenshealth.co.uk/common_ailments/fevers/images/dwg_sleeping_girl.jpg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asarchcenter.com/images/skin.gif" TargetMode="External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thestudentzone.com/articles/images/badbreath2.jpg&amp;imgrefurl=http://www.thestudentzone.com/articles/badbreath.html&amp;h=150&amp;w=200&amp;prev=/images%3Fq%3Dbad%2Bbreath%26svnum%3D10%26hl%3Den%26lr%3D%26ie%3DUTF-8%26oe%3DUTF-8" TargetMode="External"/><Relationship Id="rId2" Type="http://schemas.openxmlformats.org/officeDocument/2006/relationships/image" Target="../media/image48.jpeg"/><Relationship Id="rId3" Type="http://schemas.openxmlformats.org/officeDocument/2006/relationships/slide" Target="slide3.xml"/><Relationship Id="rId4" Type="http://schemas.openxmlformats.org/officeDocument/2006/relationships/hyperlink" Target="http://veggie.free.fr/images/bad%20breath%20garlic.jpg" TargetMode="External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14.xml"/><Relationship Id="rId4" Type="http://schemas.openxmlformats.org/officeDocument/2006/relationships/slide" Target="slide19.xml"/><Relationship Id="rId5" Type="http://schemas.openxmlformats.org/officeDocument/2006/relationships/slide" Target="slide24.xml"/><Relationship Id="rId6" Type="http://schemas.openxmlformats.org/officeDocument/2006/relationships/slide" Target="slide6.xml"/><Relationship Id="rId7" Type="http://schemas.openxmlformats.org/officeDocument/2006/relationships/slide" Target="slide10.xml"/><Relationship Id="rId8" Type="http://schemas.openxmlformats.org/officeDocument/2006/relationships/slide" Target="slide15.xml"/><Relationship Id="rId9" Type="http://schemas.openxmlformats.org/officeDocument/2006/relationships/slide" Target="slide20.xml"/><Relationship Id="rId10" Type="http://schemas.openxmlformats.org/officeDocument/2006/relationships/slide" Target="slide25.xml"/><Relationship Id="rId11" Type="http://schemas.openxmlformats.org/officeDocument/2006/relationships/slide" Target="slide7.xml"/><Relationship Id="rId12" Type="http://schemas.openxmlformats.org/officeDocument/2006/relationships/slide" Target="slide11.xml"/><Relationship Id="rId13" Type="http://schemas.openxmlformats.org/officeDocument/2006/relationships/slide" Target="slide16.xml"/><Relationship Id="rId14" Type="http://schemas.openxmlformats.org/officeDocument/2006/relationships/slide" Target="slide21.xml"/><Relationship Id="rId15" Type="http://schemas.openxmlformats.org/officeDocument/2006/relationships/slide" Target="slide26.xml"/><Relationship Id="rId16" Type="http://schemas.openxmlformats.org/officeDocument/2006/relationships/slide" Target="slide7.xml"/><Relationship Id="rId17" Type="http://schemas.openxmlformats.org/officeDocument/2006/relationships/slide" Target="slide12.xml"/><Relationship Id="rId18" Type="http://schemas.openxmlformats.org/officeDocument/2006/relationships/slide" Target="slide17.xml"/><Relationship Id="rId19" Type="http://schemas.openxmlformats.org/officeDocument/2006/relationships/slide" Target="slide22.xml"/><Relationship Id="rId20" Type="http://schemas.openxmlformats.org/officeDocument/2006/relationships/slide" Target="slide27.xml"/><Relationship Id="rId21" Type="http://schemas.openxmlformats.org/officeDocument/2006/relationships/slide" Target="slide8.xml"/><Relationship Id="rId22" Type="http://schemas.openxmlformats.org/officeDocument/2006/relationships/slide" Target="slide13.xml"/><Relationship Id="rId23" Type="http://schemas.openxmlformats.org/officeDocument/2006/relationships/slide" Target="slide18.xml"/><Relationship Id="rId24" Type="http://schemas.openxmlformats.org/officeDocument/2006/relationships/slide" Target="slide23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kidshealth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hyperlink" Target="http://www.agr.state.tx.us/education/teach/images/image44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lex5.k12.sc.us/foodserv/My%20Webs/Milk_Yogurt_Title.gif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nowandfire.biz/gfx/costume-specials/carrot.jpg" TargetMode="External"/><Relationship Id="rId2" Type="http://schemas.openxmlformats.org/officeDocument/2006/relationships/image" Target="../media/image8.jpeg"/><Relationship Id="rId3" Type="http://schemas.openxmlformats.org/officeDocument/2006/relationships/slide" Target="slide3.xml"/><Relationship Id="rId4" Type="http://schemas.openxmlformats.org/officeDocument/2006/relationships/hyperlink" Target="http://www.edhelper.com/clipart/stories/broccoli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google.com/imgres?imgurl=www.wcboe.k12.md.us/mainfold/supportse/foodservice/images/giveme5trivia%2520images/cucumber.gif&amp;imgrefurl=http://www.wcboe.k12.md.us/mainfold/supportse/foodservice/studentpage/giveme5trivia.htm&amp;h=250&amp;w=187&amp;prev=/images%3Fq%3Dcucumber%26svnum%3D10%26hl%3Den%26lr%3D%26ie%3DUTF-8%26oe%3DUTF-8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hyperlink" Target="http://www.nysaes.cornell.edu/pp/extension/tfabp/factshts/pome/pmappm/pmappm6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pref.kyoto.jp/intro/21cent/kankyo/contents_e/globe_prob/ozon/images/ozn12.gif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Impact"/>
              </a:rPr>
              <a:t>WELCOME TO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ccff"/>
                </a:solidFill>
                <a:latin typeface="Impact"/>
              </a:rPr>
              <a:t>GOLD MEDAL SCHOOL STYLE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3559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Impact"/>
              </a:rPr>
              <a:t>Sunburns can lead to getting this disease when you are older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33526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skin canc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505320"/>
            <a:ext cx="22446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Impact"/>
              </a:rPr>
              <a:t>The acronym SPF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What is Su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Protection Factor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276720"/>
            <a:ext cx="25401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Impact"/>
              </a:rPr>
              <a:t>The condition when the heart and arteries can’t cool the body fast enough on a hot day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35049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is heat exhaustion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0193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Never do this off the side of a pool unless an adult says it is deep enough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403848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is dive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733920"/>
            <a:ext cx="33336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meone whose mind and body constantly craves alcohol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4038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is an alcoholic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2514600"/>
            <a:ext cx="129564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29400" y="4495680"/>
            <a:ext cx="990720" cy="1562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495680" y="342900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Alcohol is this kind of a drug, which means that it slows down or depresses the brain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403848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is 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depressant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1952640" cy="218916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352680" y="457200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Chemicals that change the way our bodies work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3505320"/>
            <a:ext cx="40384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are drug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86400" y="4419720"/>
            <a:ext cx="186696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People who use drugs and alcohol may become dependant on them, which is called this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403848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is addict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3352680"/>
            <a:ext cx="30099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best way of not being affected by drugs and alcohol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is “just say no!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3880" y="4648320"/>
            <a:ext cx="1324080" cy="131436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14880" y="3941640"/>
            <a:ext cx="3105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This keeps people’s bodies and minds healthy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90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is exercise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419720"/>
            <a:ext cx="825480" cy="149832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rId3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7440" y="4336920"/>
            <a:ext cx="1739880" cy="1397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86200" y="4267080"/>
            <a:ext cx="866880" cy="800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3886200" y="5638680"/>
            <a:ext cx="1095480" cy="752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9"/>
          <a:stretch/>
        </p:blipFill>
        <p:spPr>
          <a:xfrm>
            <a:off x="2133720" y="4648320"/>
            <a:ext cx="676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Impact"/>
              </a:rPr>
              <a:t>Meet your host . . . . 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Alex Trebek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181480" cy="35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The strongest muscle in your body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403848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is the heart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438880" y="2060640"/>
            <a:ext cx="2457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Impact"/>
              </a:rPr>
              <a:t>when you're this, you can be more active without having to worry about getting sprains and strained muscles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743200" y="3505320"/>
            <a:ext cx="403848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is flexible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5410080"/>
            <a:ext cx="1244880" cy="10670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9880" y="5257800"/>
            <a:ext cx="1041480" cy="1282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3880" y="5410080"/>
            <a:ext cx="127656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Exercise helps you stay at a healthy weight by doing this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403884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is burning 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xtra calorie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4419720"/>
            <a:ext cx="1923840" cy="17380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5791320" y="3048120"/>
            <a:ext cx="201600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Impact"/>
              </a:rPr>
              <a:t>DAILY DOUBLE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ny kind of activity that makes your muscles use oxyg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hat is aerobic exercis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590920"/>
            <a:ext cx="1054080" cy="118116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67480" y="3733920"/>
            <a:ext cx="1290600" cy="1704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886200"/>
            <a:ext cx="120636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705720" y="1905120"/>
            <a:ext cx="22190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You receive these shots to protect you from some very serious diseases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5334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are vaccination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4495680"/>
            <a:ext cx="259092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66ccff"/>
                </a:solidFill>
                <a:latin typeface="Impact"/>
              </a:rPr>
              <a:t>Brushing your teeth prevents this, which is like a magnet for bacteria and suga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8991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Impact"/>
              </a:rPr>
              <a:t>What is plaque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876920"/>
            <a:ext cx="1828800" cy="149832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3200400"/>
            <a:ext cx="2438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When you do this, your brain sorts through and stores information, replaces chemicals, and solves problems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40384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is sleep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5181480"/>
            <a:ext cx="161604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It is the largest organ in your body and it’s constantly protecting you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403884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is the skin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2514600"/>
            <a:ext cx="36864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Impact"/>
              </a:rPr>
              <a:t>Bad breath is the common name for this medical condition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3429000"/>
            <a:ext cx="403884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4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halitosis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3581280"/>
            <a:ext cx="1244520" cy="93996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rId3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91120" y="4038480"/>
            <a:ext cx="15350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Impact"/>
              </a:rPr>
              <a:t>FINAL JEOPARDY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403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ALLERGIES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286000" cy="16923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305920" y="5638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Impact"/>
              </a:rPr>
              <a:t>Gold Medal School Jeopar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6095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NAL JEOPAR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1295280"/>
          <a:ext cx="8229600" cy="4571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The Food Guide Pyram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Water and Sun Safe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Drugs and Alcoh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Keeping Fit and Having Fu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Being Good to my Bo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21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22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23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2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Impact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Impact"/>
              </a:rPr>
              <a:t>If you eat a food that you've developed an allergy to, your body releases chemicals called </a:t>
            </a:r>
            <a:r>
              <a:rPr b="1" lang="en-US" sz="4000" spc="-1" strike="noStrike">
                <a:solidFill>
                  <a:srgbClr val="ccecff"/>
                </a:solidFill>
                <a:latin typeface="Impact"/>
              </a:rPr>
              <a:t>these</a:t>
            </a:r>
            <a:r>
              <a:rPr b="0" lang="en-US" sz="4000" spc="-1" strike="noStrike">
                <a:solidFill>
                  <a:srgbClr val="ccecff"/>
                </a:solidFill>
                <a:latin typeface="Impact"/>
              </a:rPr>
              <a:t>, which make you feel sick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are histamines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848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381880" y="571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038480"/>
            <a:ext cx="8686800" cy="31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al thanks to the Gold Medal Schools, Jeopardy, and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www.kidshealth.org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Impact"/>
              </a:rPr>
              <a:t>THE END</a:t>
            </a:r>
            <a:endParaRPr b="0" lang="en-US" sz="1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You should eat 6-11 servings from this food group every day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3962160"/>
            <a:ext cx="807732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What is the bread, cereal, rice and pasta group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Bread, Cereal, Rice and Pasta"/>
          <p:cNvPicPr/>
          <p:nvPr/>
        </p:nvPicPr>
        <p:blipFill>
          <a:blip r:embed="rId2"/>
          <a:stretch/>
        </p:blipFill>
        <p:spPr>
          <a:xfrm>
            <a:off x="3276720" y="5638680"/>
            <a:ext cx="32954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5400" spc="-1" strike="noStrike">
                <a:solidFill>
                  <a:srgbClr val="ccecff"/>
                </a:solidFill>
                <a:latin typeface="Impact"/>
              </a:rPr>
              <a:t>Eating and drinking foods from this group helps you get enough calciu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3915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is the milk, yogurt, and cheese group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553080" y="4668840"/>
            <a:ext cx="1619280" cy="218916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4668840"/>
            <a:ext cx="2325600" cy="2189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5486400"/>
            <a:ext cx="33624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Impact"/>
              </a:rPr>
              <a:t>Foods from this group are loaded with vitamins and minerals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66520" y="251460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hat is the vegetable group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343400"/>
            <a:ext cx="2973600" cy="218916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4419720"/>
            <a:ext cx="1674720" cy="2081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2920" y="3962520"/>
            <a:ext cx="1612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31 0.19884 C 0.12587 0.14427 0.10243 0.08994 0.08576 0.0719 C 0.0691 0.05387 0.0658 0.07953 0.04931 0.09086 C 0.03281 0.10219 -0.00364 0.12485 -0.01267 0.13965 C -0.0217 0.15445 -0.00399 0.17086 -0.00469 0.17965 C -0.00538 0.18844 -0.01493 0.19283 -0.01736 0.19237 C -0.01979 0.1919 0.03004 0.19329 -0.01892 0.17757 C -0.06788 0.16185 -0.26111 0.10821 -0.31111 0.09734 C -0.36111 0.08647 -0.31788 0.08069 -0.31892 0.11214 C -0.31996 0.14358 -0.32535 0.24231 -0.31736 0.28555 C -0.30937 0.32878 -0.31042 0.36508 -0.27135 0.37202 C -0.23229 0.37896 -0.14114 0.33156 -0.08246 0.32763 C -0.02378 0.3237 0.05122 0.37456 0.08108 0.3489 C 0.11094 0.32323 0.08629 0.21803 0.09688 0.17341 C 0.10747 0.12878 0.13073 0.10867 0.14445 0.08046 C 0.15816 0.05225 0.14115 0.12531 0.17951 0.00439 C 0.21788 -0.11653 0.40035 -0.68093 0.37465 -0.64463 C 0.34896 -0.60833 0.12691 0.08855 0.02552 0.22196 C -0.07587 0.35537 -0.19687 0.19838 -0.23333 0.15653 C -0.26979 0.11468 -0.23246 -0.00347 -0.19358 -0.0296 C -0.15469 -0.05573 -0.03229 -0.00532 -3.05556E-006 2.13873E-006 E">
                                      <p:cBhvr>
                                        <p:cTn id="8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This is important because it helps your digestive system move things along the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Impact"/>
              </a:rPr>
              <a:t>way it should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3809880"/>
            <a:ext cx="403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is fib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410080" y="4668840"/>
            <a:ext cx="1844640" cy="218916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4653000"/>
            <a:ext cx="2590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Impact"/>
              </a:rPr>
              <a:t>The measure of how much energy the nutrients protein, carbohydrate, and fat can supply your body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733920" y="45925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What is a calori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13716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Impact"/>
              </a:rPr>
              <a:t>The sun sends down these invisible rays that harm your skin.</a:t>
            </a:r>
            <a:r>
              <a:rPr b="0" lang="en-US" sz="5400" spc="-1" strike="noStrike">
                <a:solidFill>
                  <a:srgbClr val="ccecff"/>
                </a:solidFill>
                <a:latin typeface="Impact"/>
              </a:rPr>
              <a:t>	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are ultraviolet (UV) ray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485640"/>
          </a:xfrm>
          <a:prstGeom prst="leftArrow">
            <a:avLst>
              <a:gd name="adj1" fmla="val 50000"/>
              <a:gd name="adj2" fmla="val 43162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7040" y="2860560"/>
            <a:ext cx="23810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2:10:56Z</dcterms:created>
  <dc:creator>Student Life Computer Support</dc:creator>
  <dc:description/>
  <dc:language>en-US</dc:language>
  <cp:lastModifiedBy>class</cp:lastModifiedBy>
  <dcterms:modified xsi:type="dcterms:W3CDTF">2003-07-16T14:47:59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84780662</vt:r8>
  </property>
  <property fmtid="{D5CDD505-2E9C-101B-9397-08002B2CF9AE}" pid="3" name="_AuthorEmail">
    <vt:lpwstr>kasey_madsen@byu.edu</vt:lpwstr>
  </property>
  <property fmtid="{D5CDD505-2E9C-101B-9397-08002B2CF9AE}" pid="4" name="_AuthorEmailDisplayName">
    <vt:lpwstr>Kasey Madsen</vt:lpwstr>
  </property>
  <property fmtid="{D5CDD505-2E9C-101B-9397-08002B2CF9AE}" pid="5" name="_EmailSubject">
    <vt:lpwstr>jeopardy</vt:lpwstr>
  </property>
  <property fmtid="{D5CDD505-2E9C-101B-9397-08002B2CF9AE}" pid="6" name="_ReviewingToolsShownOnce">
    <vt:lpwstr/>
  </property>
</Properties>
</file>