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24480"/>
            <a:ext cx="9144000" cy="30492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6248520" y="5875200"/>
          <a:ext cx="2133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5875200"/>
                    <a:ext cx="2133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24480"/>
            <a:ext cx="9144000" cy="30492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248520" y="5875200"/>
          <a:ext cx="2133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5875200"/>
                    <a:ext cx="2133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B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lph M. DeFrange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SCS, MBA, PhD cand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efrangesco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ata col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da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 nam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anation of project/activ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 numb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 descrip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un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spons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da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critical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ase Administration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ata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atabase type (Oracle, SQL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umber of concurrent us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umber of total us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 required per us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 required for the database (SGA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ile systems or raw volum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isk space required for the databas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col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is a custom Applic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es, what kind (C, C++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uch memory is required for the Applic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uch disk is required for the Applic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uch data will it genera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total users will use the Applic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up all the memory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Applications (Online JFS, Gl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additional Applications (compil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up the storag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using cluste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SI or Fibre chann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roring or strip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you need an additional copy of the data for t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23880" y="30492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1447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decisio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213372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2133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25146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2514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2514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2819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32004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3429000"/>
            <a:ext cx="2590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886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3886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esting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4419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600200" y="48006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5181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rrored and stri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5181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rrored or stri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200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JB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MTI, SUN 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9112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EM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5562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Hitachi or H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4800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4800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05120" y="380880"/>
            <a:ext cx="609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a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158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1560" y="121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 cfp_rate2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" y="3276720"/>
            <a:ext cx="1218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825560" y="2057400"/>
            <a:ext cx="6918120" cy="3546360"/>
            <a:chOff x="1825560" y="2057400"/>
            <a:chExt cx="6918120" cy="3546360"/>
          </a:xfrm>
        </p:grpSpPr>
        <p:grpSp>
          <p:nvGrpSpPr>
            <p:cNvPr id="141" name=""/>
            <p:cNvGrpSpPr/>
            <p:nvPr/>
          </p:nvGrpSpPr>
          <p:grpSpPr>
            <a:xfrm>
              <a:off x="1830240" y="2062080"/>
              <a:ext cx="6908760" cy="3537000"/>
              <a:chOff x="1830240" y="2062080"/>
              <a:chExt cx="6908760" cy="3537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1830240" y="2062080"/>
                <a:ext cx="1954080" cy="884160"/>
                <a:chOff x="1830240" y="2062080"/>
                <a:chExt cx="1954080" cy="8841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898640" y="2062080"/>
                  <a:ext cx="1817640" cy="8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eav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830240" y="2062080"/>
                  <a:ext cx="195408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784320" y="2062080"/>
                <a:ext cx="1371600" cy="884160"/>
                <a:chOff x="3784320" y="2062080"/>
                <a:chExt cx="1371600" cy="8841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52720" y="2062080"/>
                  <a:ext cx="1235160" cy="8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784320" y="2062080"/>
                  <a:ext cx="137160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155920" y="2062080"/>
                <a:ext cx="1598760" cy="884160"/>
                <a:chOff x="5155920" y="2062080"/>
                <a:chExt cx="1598760" cy="8841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224320" y="2062080"/>
                  <a:ext cx="1461960" cy="8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.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155920" y="2062080"/>
                  <a:ext cx="159876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754680" y="2062080"/>
                <a:ext cx="1984320" cy="884160"/>
                <a:chOff x="6754680" y="2062080"/>
                <a:chExt cx="1984320" cy="8841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823080" y="2062080"/>
                  <a:ext cx="1847520" cy="8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.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54680" y="2062080"/>
                  <a:ext cx="198432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830240" y="2946240"/>
                <a:ext cx="1954080" cy="884160"/>
                <a:chOff x="1830240" y="2946240"/>
                <a:chExt cx="1954080" cy="8841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898640" y="2946240"/>
                  <a:ext cx="1817640" cy="8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dium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830240" y="2946240"/>
                  <a:ext cx="195408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3784320" y="2946240"/>
                <a:ext cx="1371600" cy="884160"/>
                <a:chOff x="3784320" y="2946240"/>
                <a:chExt cx="1371600" cy="8841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3852720" y="2946240"/>
                  <a:ext cx="1235160" cy="8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.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784320" y="2946240"/>
                  <a:ext cx="137160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155920" y="2946240"/>
                <a:ext cx="1598760" cy="884160"/>
                <a:chOff x="5155920" y="2946240"/>
                <a:chExt cx="1598760" cy="8841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224320" y="2946240"/>
                  <a:ext cx="1461960" cy="8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.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155920" y="2946240"/>
                  <a:ext cx="159876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6754680" y="2946240"/>
                <a:ext cx="1984320" cy="884160"/>
                <a:chOff x="6754680" y="2946240"/>
                <a:chExt cx="1984320" cy="8841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6823080" y="2946240"/>
                  <a:ext cx="1847520" cy="8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.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754680" y="2946240"/>
                  <a:ext cx="198432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1830240" y="3830400"/>
                <a:ext cx="1954080" cy="884520"/>
                <a:chOff x="1830240" y="3830400"/>
                <a:chExt cx="1954080" cy="8845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898640" y="3830400"/>
                  <a:ext cx="1817640" cy="88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gh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830240" y="3830400"/>
                  <a:ext cx="1954080" cy="88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784320" y="3830400"/>
                <a:ext cx="1371600" cy="884520"/>
                <a:chOff x="3784320" y="3830400"/>
                <a:chExt cx="1371600" cy="8845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852720" y="3830400"/>
                  <a:ext cx="1235160" cy="88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784320" y="3830400"/>
                  <a:ext cx="1371600" cy="88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155920" y="3830400"/>
                <a:ext cx="1598760" cy="884520"/>
                <a:chOff x="5155920" y="3830400"/>
                <a:chExt cx="1598760" cy="8845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24320" y="3830400"/>
                  <a:ext cx="1461960" cy="88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.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155920" y="3830400"/>
                  <a:ext cx="1598760" cy="88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754680" y="3830400"/>
                <a:ext cx="1984320" cy="884520"/>
                <a:chOff x="6754680" y="3830400"/>
                <a:chExt cx="1984320" cy="8845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823080" y="3830400"/>
                  <a:ext cx="1847520" cy="88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.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754680" y="3830400"/>
                  <a:ext cx="1984320" cy="88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830240" y="4714920"/>
                <a:ext cx="1954080" cy="884160"/>
                <a:chOff x="1830240" y="4714920"/>
                <a:chExt cx="1954080" cy="8841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898640" y="4714920"/>
                  <a:ext cx="1817640" cy="8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# of user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830240" y="4714920"/>
                  <a:ext cx="195408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784320" y="4714920"/>
                <a:ext cx="1371600" cy="884160"/>
                <a:chOff x="3784320" y="4714920"/>
                <a:chExt cx="1371600" cy="8841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852720" y="4714920"/>
                  <a:ext cx="1235160" cy="8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5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784320" y="4714920"/>
                  <a:ext cx="137160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155920" y="4714920"/>
                <a:ext cx="1598760" cy="884160"/>
                <a:chOff x="5155920" y="4714920"/>
                <a:chExt cx="1598760" cy="8841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224320" y="4714920"/>
                  <a:ext cx="1461960" cy="8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1-5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155920" y="4714920"/>
                  <a:ext cx="159876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6754680" y="4714920"/>
                <a:ext cx="1984320" cy="884160"/>
                <a:chOff x="6754680" y="4714920"/>
                <a:chExt cx="1984320" cy="8841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6823080" y="4714920"/>
                  <a:ext cx="1847520" cy="8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1-10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754680" y="4714920"/>
                  <a:ext cx="198432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" name=""/>
            <p:cNvSpPr/>
            <p:nvPr/>
          </p:nvSpPr>
          <p:spPr>
            <a:xfrm>
              <a:off x="1825560" y="2057400"/>
              <a:ext cx="6918120" cy="3546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0481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concur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828800" y="22860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ov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00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66880" y="1447920"/>
            <a:ext cx="3048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Use of inhouse 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hared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omewhat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1447920"/>
            <a:ext cx="2590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op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hared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east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3200400"/>
            <a:ext cx="3048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Fully 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andby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ost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3200400"/>
            <a:ext cx="3047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abor int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andby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omewhat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3200400"/>
            <a:ext cx="312408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1447920"/>
            <a:ext cx="312408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1447920"/>
            <a:ext cx="289548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3200400"/>
            <a:ext cx="289548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066680"/>
            <a:ext cx="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49528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51055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 Fail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51055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alFail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26668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lling 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of the business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up memory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up storag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is business/technical requirements + server specification + technical drawings &amp; 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repeatabl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enfor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l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paper tr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customized/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S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ing it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80880"/>
            <a:ext cx="609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1371600"/>
            <a:ext cx="594360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 company is about to launch a new sales initiative. A new Application that is written in VB and will run on NT and the backend database will run on Un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fer to the paper 055-SBE-Methodology.doc for technical/business requir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up the mem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6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Ap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10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mem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499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Increased to 2GB for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up the sto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sto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1G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ze the CP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50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system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0 from Spec cfp_rate 2000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ailover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 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P ‘L’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CPU @550 Mh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0GB 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SCSI conn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x18.2GB Ultra for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x9.1GB Ultra for lo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x9.1GB Ultra for OS + Apps + scripts + SW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x100Mbps Ethernet c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x4mm DAT tape dr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 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P-UX 11i 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mniBack backup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ance Pl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ine J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 compi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24x7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on conference 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5-Solutions-Based-Engineering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and templates on 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5-SBE-Methodology.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5-SBE-Excel-Templates.x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5-Rational-Template.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6094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BD00028_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30988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ering a system is somewhat complex and difficult, often due to the lack of detailed requirements and the knowledge to apply those requirements to a desig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alph M. DeFrange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BE?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sw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BE provid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ools necessary for the SE to collect technical requirem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uides the SE through server sizing proce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rovides output based on inpu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repeatabl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enfor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l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paper tr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customized/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ity is the mother of inv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a consistent way to collect requirements and desig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arot cards and a crystal 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o the CIO why your system is over/under sized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- CM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M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uses CM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E will meet CMMI, Six Sigma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strea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only as good as the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eant to replac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eart of the methodolog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requirements leads to a poor desig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should not be written in stone – The process to capture them should 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are subject t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changes can cause major design changes and cost over ru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2:09:04Z</dcterms:created>
  <dc:creator>Alex Sapiz</dc:creator>
  <dc:description/>
  <dc:language>en-US</dc:language>
  <cp:lastModifiedBy>Aetna Inc.</cp:lastModifiedBy>
  <dcterms:modified xsi:type="dcterms:W3CDTF">2002-08-21T14:53:06Z</dcterms:modified>
  <cp:revision>10</cp:revision>
  <dc:subject/>
  <dc:title>PowerPoint Presentation</dc:title>
</cp:coreProperties>
</file>