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3D3-21B8-4B3E-8FA6-A62C9C98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10C-E954-409F-A13B-D01D4C4F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EAD-0D43-4F80-9045-0BB9473B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D8E-6F69-4813-8A57-8E5B682C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7409-5977-4579-84E4-7BAFF7F3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A512-907A-40C8-B6F0-202EB4C6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9C26-E762-4F95-8CB2-6372F2D5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62D9-B7A8-4602-B26A-39476072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9229-7C7F-4D32-A33D-C67C8A1F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BA28-3832-4F3D-BC01-654330F2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0EDB-420F-4A31-B844-61AF3820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8BA-BE5A-4597-87E4-4EA067EB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0D3F-6A7A-483C-9041-C4345A74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D076-A8EE-46F1-BF44-41377DAD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444D-3544-419B-8F3D-FEE3CA00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32A4-C99D-46B5-B262-683330D9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140B-DBCE-4C3B-AEA3-3D77F6B7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BCD-9676-40AD-8B0B-2C0F15EC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9B5-9BD7-49B3-8F99-AF4D5503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8BE-4E7C-4EB1-8563-E0AC1038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19C-40D2-46E5-A48D-46B0996A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0E4-0A1A-4727-B2AD-0F35B362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812-CF11-44B7-9F20-EBCDABB8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083-F7F3-4664-B3AE-9B95EFD4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2204-E187-4B99-9AD6-0E72607C14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CBD9-DB03-4F56-97CC-7B72DA7850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nu.ca/" TargetMode="External"/><Relationship Id="rId2" Type="http://schemas.openxmlformats.org/officeDocument/2006/relationships/hyperlink" Target="http://www.heritage.nf.ca/aboriginal/innu.html" TargetMode="External"/><Relationship Id="rId3" Type="http://schemas.openxmlformats.org/officeDocument/2006/relationships/hyperlink" Target="http://www.google.ca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0" y="579096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Lucida Sans Unicode"/>
              </a:rPr>
              <a:t>By: Tiam, Steve, Yezen and Franc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 rot="1658400">
            <a:off x="61560" y="2271600"/>
            <a:ext cx="8915400" cy="19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Innu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Lucida Sans Unicode"/>
              </a:rPr>
              <a:t>Who are the Innu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pproximately 16,000 Innu (known as Montagnais or Naskapi before) liv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in Nitassinan (eastern Quebec and Labrador). There’s 13 differ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ommunities - Utshimassit, Sheshatshiu, Pakuashipi, La Romain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atashquan, Mingan, Uashat, Maliotenam, Betsiamites, Les Escoumin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ashteuiatsh, Schefferville, and Kawawachikamac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 rot="20994600">
            <a:off x="380520" y="3886200"/>
            <a:ext cx="2562480" cy="18288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 rot="868200">
            <a:off x="5715000" y="388620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Lucida Sans Unicode"/>
              </a:rPr>
              <a:t>Wher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Lucida Sans Unicode"/>
              </a:rPr>
              <a:t>do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Lucida Sans Unicode"/>
              </a:rPr>
              <a:t> they live?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419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The two Labrador communi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re Sheshatshiu; where Gr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ake (Kakatshu-utshishtun) me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ake Melville (Atatshuinipeku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nd Davis Inlet (Utshimassit) 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n island off the north coast o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abrador. The population o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Sheshatshiu is about 1,000 whi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Utshimassit's is about 50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n the Quebec North Shore, th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Innu communities are Mashteuiatsh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es Escoumins, Betsiamites 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Uashat Maliotenam (Sept-Iles) 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epresented by the organiz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amuitun, while the communities o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ingan, Natashquan, La Roma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nd Pakuashipi (St. Augustine)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5029200" y="1371600"/>
          <a:ext cx="36576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371600"/>
                    <a:ext cx="3657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Lucida Sans Unicode"/>
                <a:ea typeface="Times New Roman"/>
              </a:rPr>
              <a:t>How did they live?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0042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The Innu lived in small bands with a knowledge of a huge area of th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Québec Labrador peninsula. They lived in skin tents and we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dependent upon the caribou (</a:t>
            </a:r>
            <a:r>
              <a:rPr b="0" i="1" lang="en-US" sz="1800" spc="-1" strike="noStrike">
                <a:solidFill>
                  <a:srgbClr val="ffffff"/>
                </a:solidFill>
                <a:latin typeface="Lucida Sans Unicode"/>
              </a:rPr>
              <a:t>a lot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 for much of their food, clothing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C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 rot="20549400">
            <a:off x="1143000" y="3733560"/>
            <a:ext cx="2428920" cy="1728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 rot="1283400">
            <a:off x="5866920" y="3733560"/>
            <a:ext cx="2438640" cy="1749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447920" y="41148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91320" y="34290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Lucida Sans Unicode"/>
              </a:rPr>
              <a:t>What problems were they faced with?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The arrival of European trading.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abrador and northern Québec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the 19th century and there we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ttempts to draw the Innu into 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dependency on European tra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goods. The late 19th and early 20t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entury were marked by increasin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ompetition from white and settl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ur trappers, particularly in centra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abrador. The collapse in fur pric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in the 1930s and the reduction i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the size of the caribou herd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aused great suffering among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Innu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24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Sans Unicode"/>
              </a:rPr>
              <a:t>continua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The Innu and the Inuit were implacable enemies who were perpetually 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war. The best evidence we have today is that the Innu were in so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ccupation of the Labrador coast before about AD 1300, when the Thu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Inuit migration first arrived from the north. During the 17th and 18t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enturies the Inuit, expanding south, pushed back the Innu. Thi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estricted their access to coastal resources. Although some rai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between the two groups probably occurred, no evidence of organiz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warfare between them has been found. Neither group has any organiz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ilitary tradition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505320" y="4267080"/>
            <a:ext cx="1638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Lucida Sans Unicode"/>
              </a:rPr>
              <a:t>How did they deal with them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385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Despite these assaults on their culture many Innu retain much of thei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traditional relationship with the land and its animals. The Innu 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egotiating for recognition of their aboriginal rights to their tradit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territory and struggling to heal the ravages of years of village lif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29718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Lucida Sans Unicode"/>
              </a:rPr>
              <a:t>Facts about the Inn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The word "Innu" means "human being"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The Innu language is called "Innu-aimun.“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There are over 16,000 Innu who live in the communities in Québec and Labrad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6121440" y="1743120"/>
            <a:ext cx="1247760" cy="1886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972040" y="3925800"/>
            <a:ext cx="15447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Bibliograph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.innu.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www.heritage.nf.ca/aboriginal/innu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www.google.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9:02:26Z</dcterms:created>
  <dc:creator>Francine</dc:creator>
  <dc:description/>
  <dc:language>en-US</dc:language>
  <cp:lastModifiedBy>Francine</cp:lastModifiedBy>
  <dcterms:modified xsi:type="dcterms:W3CDTF">2002-12-12T21:02:25Z</dcterms:modified>
  <cp:revision>20</cp:revision>
  <dc:subject/>
  <dc:title>The Innu</dc:title>
</cp:coreProperties>
</file>