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2BF7-4CFC-4839-BCBE-6273E1EC5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72BD-C069-49D3-9318-3BB0C779C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9A97-B7AE-4C3B-A12A-1DDFC0A15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B84A-1DF5-4E71-9CD6-BDB2326F0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060B-6034-4ACC-9FC9-670392106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142E-EF15-47BA-84C9-87D1041CA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B0D4-B573-42C1-880F-31B0CABD8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ADE7-C07C-45DC-A3B3-CF0B8C62C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F656-5A29-4F7A-8450-3E812ABE2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87C7-B1AE-48AF-8E48-641A59FF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4AEA-17E0-4DA4-BF5C-C7318A4E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15E9-2941-4FC9-BE19-9EBB7CD7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on Plan of Tivoli within A-Comp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IS 675-8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enda Flickinger (Koc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19807-80AC-4C04-987B-669B6B5877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ion Plan of Tivoli within A-Comp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B688-4A83-4294-9418-7B32F59C1D1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ion Plan – Inventory (cont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1: Use of Tivoli Inventory will provide more accurate inventory data than manual inventory proced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2: Use of Tivoli Inventory will provide more complete inventory dta than manual inventory proced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3: Use of Tivoli Inventory will provide more timely (current) inventory data than manual inventory proced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4DE1-CA34-433F-9F49-36D5187BB52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ion Plan – Inventory (cont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sk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current inventory for four defined prod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ail Inventory records must incl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tation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 version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ntory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 inventory records must incl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y Count by version number of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BD3C-17B7-4E02-BBAD-D2BA15B6178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ion Results -- Inven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09480" y="2438280"/>
            <a:ext cx="8000640" cy="3428640"/>
            <a:chOff x="609480" y="2438280"/>
            <a:chExt cx="8000640" cy="3428640"/>
          </a:xfrm>
        </p:grpSpPr>
        <p:grpSp>
          <p:nvGrpSpPr>
            <p:cNvPr id="66" name=""/>
            <p:cNvGrpSpPr/>
            <p:nvPr/>
          </p:nvGrpSpPr>
          <p:grpSpPr>
            <a:xfrm>
              <a:off x="615600" y="2444760"/>
              <a:ext cx="7986600" cy="3414240"/>
              <a:chOff x="615600" y="2444760"/>
              <a:chExt cx="7986600" cy="3414240"/>
            </a:xfrm>
          </p:grpSpPr>
          <p:grpSp>
            <p:nvGrpSpPr>
              <p:cNvPr id="67" name=""/>
              <p:cNvGrpSpPr/>
              <p:nvPr/>
            </p:nvGrpSpPr>
            <p:grpSpPr>
              <a:xfrm>
                <a:off x="615600" y="2444760"/>
                <a:ext cx="2661840" cy="853200"/>
                <a:chOff x="615600" y="2444760"/>
                <a:chExt cx="2661840" cy="85320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705960" y="2444760"/>
                  <a:ext cx="2481480" cy="85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ariabl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615600" y="2444760"/>
                  <a:ext cx="2661840" cy="85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" name=""/>
              <p:cNvGrpSpPr/>
              <p:nvPr/>
            </p:nvGrpSpPr>
            <p:grpSpPr>
              <a:xfrm>
                <a:off x="3277800" y="2444760"/>
                <a:ext cx="2661840" cy="853200"/>
                <a:chOff x="3277800" y="2444760"/>
                <a:chExt cx="2661840" cy="85320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368160" y="2444760"/>
                  <a:ext cx="2481480" cy="85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anual Inventory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3277800" y="2444760"/>
                  <a:ext cx="2661840" cy="85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5940360" y="2444760"/>
                <a:ext cx="2661840" cy="853200"/>
                <a:chOff x="5940360" y="2444760"/>
                <a:chExt cx="2661840" cy="85320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6030720" y="2444760"/>
                  <a:ext cx="2481480" cy="85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utomated Tivoli Inventory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5940360" y="2444760"/>
                  <a:ext cx="2661840" cy="85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615600" y="3298320"/>
                <a:ext cx="2661840" cy="853560"/>
                <a:chOff x="615600" y="3298320"/>
                <a:chExt cx="2661840" cy="85356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705960" y="3298320"/>
                  <a:ext cx="2481480" cy="853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ccuracy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615600" y="3298320"/>
                  <a:ext cx="2661840" cy="853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3277800" y="3298320"/>
                <a:ext cx="2661840" cy="853560"/>
                <a:chOff x="3277800" y="3298320"/>
                <a:chExt cx="2661840" cy="85356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3368160" y="3298320"/>
                  <a:ext cx="2481480" cy="853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73%   (1.06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3277800" y="3298320"/>
                  <a:ext cx="2661840" cy="853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5940360" y="3298320"/>
                <a:ext cx="2661840" cy="853560"/>
                <a:chOff x="5940360" y="3298320"/>
                <a:chExt cx="2661840" cy="85356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6030720" y="3298320"/>
                  <a:ext cx="2481480" cy="853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5%  (1.13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5940360" y="3298320"/>
                  <a:ext cx="2661840" cy="853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615600" y="4152240"/>
                <a:ext cx="2661840" cy="853200"/>
                <a:chOff x="615600" y="4152240"/>
                <a:chExt cx="2661840" cy="85320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705960" y="4152240"/>
                  <a:ext cx="2481480" cy="85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Completenes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615600" y="4152240"/>
                  <a:ext cx="2661840" cy="85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3277800" y="4152240"/>
                <a:ext cx="2661840" cy="853200"/>
                <a:chOff x="3277800" y="4152240"/>
                <a:chExt cx="2661840" cy="85320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3368160" y="4152240"/>
                  <a:ext cx="2481480" cy="85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7%  (.99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3277800" y="4152240"/>
                  <a:ext cx="2661840" cy="85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5940360" y="4152240"/>
                <a:ext cx="2661840" cy="853200"/>
                <a:chOff x="5940360" y="4152240"/>
                <a:chExt cx="2661840" cy="85320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6030720" y="4152240"/>
                  <a:ext cx="2481480" cy="85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9.2% (1.32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5940360" y="4152240"/>
                  <a:ext cx="2661840" cy="85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615600" y="5005800"/>
                <a:ext cx="2661840" cy="853200"/>
                <a:chOff x="615600" y="5005800"/>
                <a:chExt cx="2661840" cy="85320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705960" y="5005800"/>
                  <a:ext cx="2481480" cy="85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imeliness (Avg Days Old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615600" y="5005800"/>
                  <a:ext cx="2661840" cy="85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3277800" y="5005800"/>
                <a:ext cx="2661840" cy="853200"/>
                <a:chOff x="3277800" y="5005800"/>
                <a:chExt cx="2661840" cy="85320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3368160" y="5005800"/>
                  <a:ext cx="2481480" cy="85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 days (1.7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3277800" y="5005800"/>
                  <a:ext cx="2661840" cy="85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5940360" y="5005800"/>
                <a:ext cx="2661840" cy="853200"/>
                <a:chOff x="5940360" y="5005800"/>
                <a:chExt cx="2661840" cy="85320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6030720" y="5005800"/>
                  <a:ext cx="2481480" cy="85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 days (1.03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5940360" y="5005800"/>
                  <a:ext cx="2661840" cy="85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3" name=""/>
            <p:cNvSpPr/>
            <p:nvPr/>
          </p:nvSpPr>
          <p:spPr>
            <a:xfrm>
              <a:off x="609480" y="2438280"/>
              <a:ext cx="8000640" cy="34286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0056-DAE4-4FBF-B5F6-46AB089DCF4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ion Results - Inven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213372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H1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se of Tivoli Inventory will provide more accurate inventory data than manual inventory procedur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600200" y="2819520"/>
            <a:ext cx="6043680" cy="1228680"/>
            <a:chOff x="1600200" y="2819520"/>
            <a:chExt cx="6043680" cy="1228680"/>
          </a:xfrm>
        </p:grpSpPr>
        <p:grpSp>
          <p:nvGrpSpPr>
            <p:cNvPr id="107" name=""/>
            <p:cNvGrpSpPr/>
            <p:nvPr/>
          </p:nvGrpSpPr>
          <p:grpSpPr>
            <a:xfrm>
              <a:off x="1604880" y="2824200"/>
              <a:ext cx="6033960" cy="1219320"/>
              <a:chOff x="1604880" y="2824200"/>
              <a:chExt cx="6033960" cy="1219320"/>
            </a:xfrm>
          </p:grpSpPr>
          <p:grpSp>
            <p:nvGrpSpPr>
              <p:cNvPr id="108" name=""/>
              <p:cNvGrpSpPr/>
              <p:nvPr/>
            </p:nvGrpSpPr>
            <p:grpSpPr>
              <a:xfrm>
                <a:off x="1604880" y="2824200"/>
                <a:ext cx="2011320" cy="609840"/>
                <a:chOff x="1604880" y="2824200"/>
                <a:chExt cx="2011320" cy="60984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1673280" y="2824200"/>
                  <a:ext cx="187488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ariabl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1604880" y="2824200"/>
                  <a:ext cx="201132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3616200" y="2824200"/>
                <a:ext cx="2011320" cy="609840"/>
                <a:chOff x="3616200" y="2824200"/>
                <a:chExt cx="2011320" cy="60984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3684600" y="2824200"/>
                  <a:ext cx="187488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-Test (p&lt;=.050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3616200" y="2824200"/>
                  <a:ext cx="201132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5627520" y="2824200"/>
                <a:ext cx="2011320" cy="609840"/>
                <a:chOff x="5627520" y="2824200"/>
                <a:chExt cx="2011320" cy="60984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5695920" y="2824200"/>
                  <a:ext cx="187488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earson’s 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5627520" y="2824200"/>
                  <a:ext cx="201132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1604880" y="3434040"/>
                <a:ext cx="2011320" cy="609480"/>
                <a:chOff x="1604880" y="3434040"/>
                <a:chExt cx="2011320" cy="60948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1673280" y="3434040"/>
                  <a:ext cx="187488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ccuracy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604880" y="3434040"/>
                  <a:ext cx="20113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3616200" y="3434040"/>
                <a:ext cx="2011320" cy="609480"/>
                <a:chOff x="3616200" y="3434040"/>
                <a:chExt cx="2011320" cy="60948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3684600" y="3434040"/>
                  <a:ext cx="187488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.73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3616200" y="3434040"/>
                  <a:ext cx="20113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5627520" y="3434040"/>
                <a:ext cx="2011320" cy="609480"/>
                <a:chOff x="5627520" y="3434040"/>
                <a:chExt cx="2011320" cy="60948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5695920" y="3434040"/>
                  <a:ext cx="187488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.9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627520" y="3434040"/>
                  <a:ext cx="20113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6" name=""/>
            <p:cNvSpPr/>
            <p:nvPr/>
          </p:nvSpPr>
          <p:spPr>
            <a:xfrm>
              <a:off x="1600200" y="2819520"/>
              <a:ext cx="6043680" cy="12286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523880" y="44197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his data shows that Tivoli did provide more accurate data than did the manual inventory syste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9EEF-76A8-40A0-AB82-E200F504B70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ion Results – Inven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2133720"/>
            <a:ext cx="914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H2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se of Tivoli Inventory will provide more complete inventory data than manual inventory procedur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447920" y="3048120"/>
            <a:ext cx="6043320" cy="1228680"/>
            <a:chOff x="1447920" y="3048120"/>
            <a:chExt cx="6043320" cy="1228680"/>
          </a:xfrm>
        </p:grpSpPr>
        <p:grpSp>
          <p:nvGrpSpPr>
            <p:cNvPr id="131" name=""/>
            <p:cNvGrpSpPr/>
            <p:nvPr/>
          </p:nvGrpSpPr>
          <p:grpSpPr>
            <a:xfrm>
              <a:off x="1452240" y="3052800"/>
              <a:ext cx="6033240" cy="1219320"/>
              <a:chOff x="1452240" y="3052800"/>
              <a:chExt cx="6033240" cy="1219320"/>
            </a:xfrm>
          </p:grpSpPr>
          <p:grpSp>
            <p:nvGrpSpPr>
              <p:cNvPr id="132" name=""/>
              <p:cNvGrpSpPr/>
              <p:nvPr/>
            </p:nvGrpSpPr>
            <p:grpSpPr>
              <a:xfrm>
                <a:off x="1452240" y="3052800"/>
                <a:ext cx="2010960" cy="609480"/>
                <a:chOff x="1452240" y="3052800"/>
                <a:chExt cx="2010960" cy="6094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520280" y="3052800"/>
                  <a:ext cx="187452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ariabl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452240" y="3052800"/>
                  <a:ext cx="201096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3463200" y="3052800"/>
                <a:ext cx="2010960" cy="609480"/>
                <a:chOff x="3463200" y="3052800"/>
                <a:chExt cx="2010960" cy="6094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3531240" y="3052800"/>
                  <a:ext cx="187452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-Test (p&lt;=.050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463200" y="3052800"/>
                  <a:ext cx="201096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5474520" y="3052800"/>
                <a:ext cx="2010960" cy="609480"/>
                <a:chOff x="5474520" y="3052800"/>
                <a:chExt cx="2010960" cy="60948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5542560" y="3052800"/>
                  <a:ext cx="187452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earson’s 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5474520" y="3052800"/>
                  <a:ext cx="201096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1452240" y="3662280"/>
                <a:ext cx="2010960" cy="609840"/>
                <a:chOff x="1452240" y="3662280"/>
                <a:chExt cx="2010960" cy="609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1520280" y="3662280"/>
                  <a:ext cx="187452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ccuracy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452240" y="3662280"/>
                  <a:ext cx="201096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3463200" y="3662280"/>
                <a:ext cx="2010960" cy="609840"/>
                <a:chOff x="3463200" y="3662280"/>
                <a:chExt cx="2010960" cy="60984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3531240" y="3662280"/>
                  <a:ext cx="187452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.12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463200" y="3662280"/>
                  <a:ext cx="201096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5474520" y="3662280"/>
                <a:ext cx="2010960" cy="609840"/>
                <a:chOff x="5474520" y="3662280"/>
                <a:chExt cx="2010960" cy="60984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5542560" y="3662280"/>
                  <a:ext cx="187452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.97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5474520" y="3662280"/>
                  <a:ext cx="201096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447920" y="3048120"/>
              <a:ext cx="6043320" cy="12286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523880" y="4495680"/>
            <a:ext cx="914400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his shows that the Tivoli inventory was more complete than the manual inventory procedure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35BC-0294-4C38-B91B-35BDABEC3EB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ion Results -- Inven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190512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H3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se of Tivoli Inventory will provide more timely (current) inventory data than manual inventory procedur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40" y="2300400"/>
            <a:ext cx="91440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523880" y="2819520"/>
            <a:ext cx="6043680" cy="1228680"/>
            <a:chOff x="1523880" y="2819520"/>
            <a:chExt cx="6043680" cy="1228680"/>
          </a:xfrm>
        </p:grpSpPr>
        <p:grpSp>
          <p:nvGrpSpPr>
            <p:cNvPr id="156" name=""/>
            <p:cNvGrpSpPr/>
            <p:nvPr/>
          </p:nvGrpSpPr>
          <p:grpSpPr>
            <a:xfrm>
              <a:off x="1528560" y="2824200"/>
              <a:ext cx="6033960" cy="1218960"/>
              <a:chOff x="1528560" y="2824200"/>
              <a:chExt cx="6033960" cy="1218960"/>
            </a:xfrm>
          </p:grpSpPr>
          <p:grpSp>
            <p:nvGrpSpPr>
              <p:cNvPr id="157" name=""/>
              <p:cNvGrpSpPr/>
              <p:nvPr/>
            </p:nvGrpSpPr>
            <p:grpSpPr>
              <a:xfrm>
                <a:off x="1528560" y="2824200"/>
                <a:ext cx="2011320" cy="609480"/>
                <a:chOff x="1528560" y="2824200"/>
                <a:chExt cx="2011320" cy="60948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1596960" y="2824200"/>
                  <a:ext cx="187488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ariabl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1528560" y="2824200"/>
                  <a:ext cx="20113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3539880" y="2824200"/>
                <a:ext cx="2011320" cy="609480"/>
                <a:chOff x="3539880" y="2824200"/>
                <a:chExt cx="2011320" cy="60948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3608280" y="2824200"/>
                  <a:ext cx="187488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-Test (p&lt;=.050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539880" y="2824200"/>
                  <a:ext cx="20113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5551200" y="2824200"/>
                <a:ext cx="2011320" cy="609480"/>
                <a:chOff x="5551200" y="2824200"/>
                <a:chExt cx="2011320" cy="60948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5619600" y="2824200"/>
                  <a:ext cx="187488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earson’s 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5551200" y="2824200"/>
                  <a:ext cx="20113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1528560" y="3433680"/>
                <a:ext cx="2011320" cy="609480"/>
                <a:chOff x="1528560" y="3433680"/>
                <a:chExt cx="2011320" cy="60948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1596960" y="3433680"/>
                  <a:ext cx="187488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ccuracy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528560" y="3433680"/>
                  <a:ext cx="20113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3539880" y="3433680"/>
                <a:ext cx="2011320" cy="609480"/>
                <a:chOff x="3539880" y="3433680"/>
                <a:chExt cx="2011320" cy="60948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3608280" y="3433680"/>
                  <a:ext cx="187488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.37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539880" y="3433680"/>
                  <a:ext cx="20113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5551200" y="3433680"/>
                <a:ext cx="2011320" cy="609480"/>
                <a:chOff x="5551200" y="3433680"/>
                <a:chExt cx="2011320" cy="60948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5619600" y="3433680"/>
                  <a:ext cx="187488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.9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5551200" y="3433680"/>
                  <a:ext cx="20113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5" name=""/>
            <p:cNvSpPr/>
            <p:nvPr/>
          </p:nvSpPr>
          <p:spPr>
            <a:xfrm>
              <a:off x="1523880" y="2819520"/>
              <a:ext cx="6043680" cy="12286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1066680" y="4419720"/>
            <a:ext cx="914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his data shows that the Tivoli data was more current than the data provided through the manual proces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752A-C146-416D-A706-051A5286F80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DS Organization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199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: Provide Desktop Support Services to 70,000 – 90,000 workstations nationw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olidation of dozens of geographically dispersed support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ly consolidated people and reporting followed up by trouble/request ticketing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22DB-FFE2-49B1-B274-ECB61FC690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ed Improv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7 PDS began focusing on Enterprise System Management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ed Tivoli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n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ronic Software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ed Monito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E08A-3B70-445B-A358-09B871E38A8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voli 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ktop Inven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s and Houses Inventory on over 70,000 works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ntory is used as a foundation f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nic Software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te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 Deci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8FE9-113D-480E-B03D-EEEDE15D24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voli Uses (cont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ctronic Software Distrib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tely deploy software to over 70,000 works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ies on inventory accu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te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tely access client workstations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sue 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1608-D3EE-4C07-A3DD-B050477A047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ion Plan – Electronic Software Distribution (ES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ectiveness – Was the right software distributed in the right timeframe to the right peo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groups of 10 associates will receive the trea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½ will receive manual trea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½ will receive ESD trea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naires will provide the data to test the hypoth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6B64-A272-4615-A283-508CBBA71ED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ion Plan – Remote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Friendliness – The theory I have is that support people aren’t using the Tivoli RC because they have not given it a fair try and when they realize it is friendly they will switch to this preferred meth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Analysis will be perform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Ta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iew Internet Security set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iew the mail configuration and set up a new PST for the 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 Test Questionna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F5D1-CB5A-430A-8FE7-199A8E1207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ion Plan - Inven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e Data Quality – Timeliness, Completeness and Accur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liness – how current the data in the database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ness – number of elements stored/total number of elements to be sto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uracy – number of correct elements/number of elements coll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9D3D-093E-4A19-9737-FFDD8B8E93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ion Plan – Inventory (cont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riment will be condu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gust 15 – November 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Teams comprised of 4 team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tasks per 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team will use Tivoli Invento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team will use manual invento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7EDC-4414-467B-B6DA-8CA483BBE74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9T15:49:14Z</dcterms:created>
  <dc:creator>bkoch</dc:creator>
  <dc:description/>
  <dc:language>en-US</dc:language>
  <cp:lastModifiedBy>bkoch</cp:lastModifiedBy>
  <dcterms:modified xsi:type="dcterms:W3CDTF">2003-07-29T16:47:22Z</dcterms:modified>
  <cp:revision>9</cp:revision>
  <dc:subject/>
  <dc:title>Evaluation Plan of Tivoli within A-Company</dc:title>
</cp:coreProperties>
</file>