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041-C8CB-47C6-88B5-44101AFD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3B2-5FBA-4DB1-96BF-968D8032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C54-E61F-4F82-8E62-319A3351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36F-BC39-4CEE-8DAF-C11ACA4E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511-DA16-4431-8F56-87909E52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011-C8FB-466D-BF03-3A80D15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D02-3918-42D5-9551-5ACA4537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321-5E08-4E6D-BB80-C9287D17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DF6-58DA-43F3-A339-19DD3A42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E2D-E8C2-4000-B8B4-22AC256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0F1-727F-4D19-ACB7-626522A6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BC5-D36D-4C1F-849B-D6BB345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A96C-FD4F-4771-833A-9AF41384B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7840" y="24987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DSL – Digital Subscriber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74640" y="441360"/>
            <a:ext cx="595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versidade de Santa Cruz do S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partamento d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iplina de Redes de Compu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f. Edgar Meneg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77880" y="3946680"/>
            <a:ext cx="59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exandre Mart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rnando Boett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ulio Cezar Kronb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74640" y="5927760"/>
            <a:ext cx="59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nta Cruz do Sul, 29 de novembro d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200" y="1130400"/>
            <a:ext cx="86835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IDSL – ISDN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não provê serviço de voz no mesmo par de ca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utiliza uma DLC (Digital Loop Carri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s próximas às da ISDN – 128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é um serviço ‘always-on’, mas pode utilizar o modem 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6000" y="16200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Variações Simét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200" y="1130400"/>
            <a:ext cx="8683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Serviço ‘always-on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Telefone / Internet simultâne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25x mais rápido que dial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onexão dedicada e velo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usto ef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Downloads mais rápi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Não há sinal de ocup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A conexão não c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680" y="16200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Benefí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861200">
            <a:off x="254160" y="1942920"/>
            <a:ext cx="263520" cy="28224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9861200">
            <a:off x="266760" y="257760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861200">
            <a:off x="266760" y="31618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9861200">
            <a:off x="254160" y="37936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861200">
            <a:off x="254160" y="437796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861200">
            <a:off x="266760" y="501300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861200">
            <a:off x="266760" y="55972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7840" y="24987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 Black"/>
              </a:rPr>
              <a:t>ADSL – Asymmetric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112716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onverte linhas de telefone existentes em caminhos de acesso para comunicação de dados em alta velocid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0226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Até 9 Mbps downst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089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832 Kbps em ambas as direçõ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9680" y="16200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A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861200">
            <a:off x="241200" y="42508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861200">
            <a:off x="254160" y="53146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12716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Está transformando a rede de informações públicas em um sistema onipresente e podero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9680" y="16200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A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1127160"/>
            <a:ext cx="8809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ria três canais de informa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um canal downstream de alta velocidade (de 1,5 a 9 M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um canal duplex de velocidade média (de 16 a 832 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e um POTS (Plain Old Telephone Service) ou um canal 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04812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ada canal pode ser multiplexado para formar múltiplos canais de baixa taxa de transferênc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3182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Isto pode ser feito por FDM ou Cancelamento de E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5520" y="162000"/>
            <a:ext cx="335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Capac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861200">
            <a:off x="266760" y="328896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9861200">
            <a:off x="266760" y="552096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860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127160"/>
            <a:ext cx="87631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F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Frequency Division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uma banda para downstream e outra para 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os caminhos downstream e upstream são multiplex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280656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0880" y="162000"/>
            <a:ext cx="29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Tecn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860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127160"/>
            <a:ext cx="87631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ancelamento de E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a banda upstream sobrepõe a banda 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separa as duas por meio de cancelamento de 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objetiva otimizar a utilização da largura de b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63560" y="292104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0880" y="162000"/>
            <a:ext cx="29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Tecnolo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860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modem_adsl" descr=""/>
          <p:cNvPicPr/>
          <p:nvPr/>
        </p:nvPicPr>
        <p:blipFill>
          <a:blip r:embed="rId1"/>
          <a:stretch/>
        </p:blipFill>
        <p:spPr>
          <a:xfrm>
            <a:off x="990720" y="1117440"/>
            <a:ext cx="7162560" cy="5588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6640" y="162000"/>
            <a:ext cx="26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O mod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860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central_office" descr=""/>
          <p:cNvPicPr/>
          <p:nvPr/>
        </p:nvPicPr>
        <p:blipFill>
          <a:blip r:embed="rId1"/>
          <a:stretch/>
        </p:blipFill>
        <p:spPr>
          <a:xfrm>
            <a:off x="1562040" y="1104840"/>
            <a:ext cx="6019920" cy="5567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1400" y="162000"/>
            <a:ext cx="514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A central telefôn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12716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Trata-se de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um serviço que oferece uma conexão à Internet mais rápida do que as conexões dial-up padrã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7360" y="16200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02264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Usando uma linha convencional, o serviço permite acesso à Internet ‘always-on’, sem bloquear a banda utilizada pelo telef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9861200">
            <a:off x="266760" y="42256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12716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A linha telefônica convencional é transformada em um link digital de alta velocid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352680"/>
            <a:ext cx="868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Oferece taxas de transferência que variam de 1,5 a 9 Mbp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360" y="16200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9861200">
            <a:off x="254160" y="35650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a_serviço_dsl" descr=""/>
          <p:cNvPicPr/>
          <p:nvPr/>
        </p:nvPicPr>
        <p:blipFill>
          <a:blip r:embed="rId1"/>
          <a:stretch/>
        </p:blipFill>
        <p:spPr>
          <a:xfrm>
            <a:off x="216000" y="1206360"/>
            <a:ext cx="8686800" cy="519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7440" y="162000"/>
            <a:ext cx="540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Diagrama do Serviç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12716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ADSL – Asymmetric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d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ior parte da largura de banda é 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downstream de até 9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upstream de até 1,5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uma pequena porção da largura de banda é dedicada à 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718080"/>
            <a:ext cx="868356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G.Lite ou DSL 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é uma for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is lenta de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não requer o splitter na terminação d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realiza o split para ele remotamente na companhia telefô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downstream de até 6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upstream de até 384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é esperado que torne-se a mais instalada forma de 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2360" y="162000"/>
            <a:ext cx="60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Variações Assimét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861200">
            <a:off x="254160" y="392076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112716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RADSL – Rate-Adaptive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é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ecnologia ADSL da Wes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opera sobre uma linha de telefone exis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o software é capaz de determinar e ajustar a taxa 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downstream de até 2,2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upstream de até 1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718080"/>
            <a:ext cx="86835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VDSL – Very high data rate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ecnologia de transmissão (CAP, DMT) em fase de estu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promete taxas de 51 a 55 Mbps sobre fios de 300 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prevê-se que vá co-existir com a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2360" y="162000"/>
            <a:ext cx="60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Variações Assimét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861200">
            <a:off x="254160" y="392076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127160"/>
            <a:ext cx="8686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CDSL – Consumer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é uma tecnologia ADSL da Rock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utiliza sua própria tecnologia de entrega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não é necessário o splitter na terminação do usu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downstream de até 1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/ upstream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718080"/>
            <a:ext cx="86835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x2/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é um modem desenvolvido pela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suporta 56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atualizável para ADSL via software, quando disponí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‘o último modem que você precisará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2360" y="162000"/>
            <a:ext cx="60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Variações Assimét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861200">
            <a:off x="254160" y="392076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127160"/>
            <a:ext cx="8686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SDSL – Symmetric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implementações são específicas dos prov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as taxas variam de 128 Kbps a 2,32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803680"/>
            <a:ext cx="86835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SH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padrão da indústria para DSL simé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opera de 192 Kbps a 2,3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não transporta voz – utiliza técnicas de voz-sobre-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útil em aplicações ‘data-only’ devido às taxas upstream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está sendo desenvolvida inicialmente para empr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6000" y="16200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Variações Simét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861200">
            <a:off x="254160" y="300960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000" y="1127160"/>
            <a:ext cx="8770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HDSL – High bit-rate DS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variação mais recente a ser largamente uti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usada para transmissões digitais dentro de corpor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a taxa de transferência é menor do que para a 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pode carregar em um cabo simples de par-trançado 2,3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13160"/>
            <a:ext cx="86835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· HDSL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usa apenas um par de cabos para o transporte dos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· não provê serviço de voz no mesmo par de cab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· taxa fixa de 1,5 Mbps downstream e up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99072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000" y="16200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 Black"/>
              </a:rPr>
              <a:t>Variações Simétr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861200">
            <a:off x="254160" y="135864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861200">
            <a:off x="254160" y="3619080"/>
            <a:ext cx="263520" cy="282600"/>
          </a:xfrm>
          <a:prstGeom prst="diamond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23:30:35Z</dcterms:created>
  <dc:creator>qualquer</dc:creator>
  <dc:description/>
  <dc:language>en-US</dc:language>
  <cp:lastModifiedBy>qualquer</cp:lastModifiedBy>
  <dcterms:modified xsi:type="dcterms:W3CDTF">2001-11-29T07:24:49Z</dcterms:modified>
  <cp:revision>23</cp:revision>
  <dc:subject/>
  <dc:title>Apresentação do PowerPoint</dc:title>
</cp:coreProperties>
</file>