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20.wmf" ContentType="image/x-wmf"/>
  <Override PartName="/ppt/media/image5.jpeg" ContentType="image/jpeg"/>
  <Override PartName="/ppt/media/image11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036-BFC5-49E1-92E7-0988D928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6DC-01BB-4423-B454-F0124A7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4B6-A3E3-41B7-A477-E21A83AA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EF6-EDFB-4343-A6E6-54AE7A2E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862-0FF9-4E7B-8AC4-60785DB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56B-BF8A-4D3E-B860-E2036FE8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1C7-FA6E-45A1-AB13-D7CCD83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D42-8081-412A-A531-3411DB3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F23-1941-4449-A4DD-EBC7D252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1A7-7BA0-41DF-964D-F1B0398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62D-D366-4DE9-A462-2D4C7DB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5D9-BF5A-42D5-A009-D4EA96E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C7E-6BCF-4D51-8E66-E54CEDD58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ffiliates.allposters.com/link/redirect.asp?aid=344765&amp;item=337755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dex.com/gf/buildings/liberty/libertyfacts/soleastgw.020302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dex.com/gf/buildings/liberty/libertyfacts/solbedloe&apos;spaintingm1x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Lady%20Liberty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hyperlink" Target="http://affiliates.allposters.com/link/redirect.asp?aid=344765&amp;item=32291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hyperlink" Target="http://affiliates.allposters.com/link/redirect.asp?aid=344765&amp;item=356504" TargetMode="External"/><Relationship Id="rId4" Type="http://schemas.openxmlformats.org/officeDocument/2006/relationships/hyperlink" Target="http://affiliates.allposters.com/link/redirect.asp?aid=344765&amp;item=356504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reestyle Script"/>
              </a:rPr>
              <a:t>Lady Liber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2895120"/>
            <a:ext cx="3429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indy By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654_a" descr="Statue of Liber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533520"/>
            <a:ext cx="3571920" cy="541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ty’s crown has seven spikes which represent the seven seas and the seven continent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olstamp29ax" descr=""/>
          <p:cNvPicPr/>
          <p:nvPr/>
        </p:nvPicPr>
        <p:blipFill>
          <a:blip r:embed="rId2"/>
          <a:stretch/>
        </p:blipFill>
        <p:spPr>
          <a:xfrm>
            <a:off x="5715000" y="3809880"/>
            <a:ext cx="2001960" cy="222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52480" y="4648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tab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er left arm, she holds a tablet inscribed in Roman numerals with the 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ly 4, 1776-the date of the signing of the Declaration of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05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soleastgw.020302x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4419720"/>
            <a:ext cx="10969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52480" y="4648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 left h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er raised right hand, she holds a beacon of light to welcome voyagers to 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olbedloe'spaintingm1x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3352680"/>
            <a:ext cx="3203280" cy="244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oken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ty has a broken chain at her feet.  Her left foot is thrust forward, to indicate progress from bondage to free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solfortwoodam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3274920" cy="216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932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609480"/>
          <a:ext cx="8305920" cy="50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09480"/>
                    <a:ext cx="830592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1911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dric Auguste Bartholdi visited America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1, and saw Bedloe’s Island in New Y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bor, which is now Ellis Island and knew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e right place for the stat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think he came to Ame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/>
          </p:cNvPr>
          <p:cNvSpPr/>
          <p:nvPr/>
        </p:nvSpPr>
        <p:spPr>
          <a:xfrm>
            <a:off x="4191120" y="59436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ulptor Fredric Auguste Barthol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 from France to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ficial Name “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iberty Enlightening the Worl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066680" y="4952880"/>
            <a:ext cx="2210040" cy="457200"/>
          </a:xfrm>
          <a:custGeom>
            <a:avLst/>
            <a:gdLst>
              <a:gd name="textAreaLeft" fmla="*/ 29520 w 2210040"/>
              <a:gd name="textAreaRight" fmla="*/ 2180520 w 2210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2946" y="1400"/>
                </a:lnTo>
                <a:lnTo>
                  <a:pt x="1400" y="140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2946" y="20200"/>
                </a:lnTo>
                <a:lnTo>
                  <a:pt x="102946" y="140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46" y="202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itional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270C_a" descr="Unknown - Proud to Be an American 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38960" y="3124080"/>
            <a:ext cx="2172960" cy="28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Steel, Copper and Othe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by Artists, Engineers, and Craft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and Crown Finished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5029200"/>
            <a:ext cx="8229600" cy="685800"/>
          </a:xfrm>
          <a:custGeom>
            <a:avLst/>
            <a:gdLst>
              <a:gd name="textAreaLeft" fmla="*/ 44280 w 8229600"/>
              <a:gd name="textAreaRight" fmla="*/ 8185320 w 8229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9075" h="21600">
                <a:moveTo>
                  <a:pt x="0" y="0"/>
                </a:moveTo>
                <a:lnTo>
                  <a:pt x="259075" y="0"/>
                </a:lnTo>
                <a:lnTo>
                  <a:pt x="259075" y="21600"/>
                </a:lnTo>
                <a:lnTo>
                  <a:pt x="0" y="21600"/>
                </a:lnTo>
                <a:close/>
              </a:path>
              <a:path fill="lightenLess" w="259075" h="21600">
                <a:moveTo>
                  <a:pt x="0" y="0"/>
                </a:moveTo>
                <a:lnTo>
                  <a:pt x="259075" y="0"/>
                </a:lnTo>
                <a:lnTo>
                  <a:pt x="257675" y="1400"/>
                </a:lnTo>
                <a:lnTo>
                  <a:pt x="1400" y="1400"/>
                </a:lnTo>
                <a:close/>
              </a:path>
              <a:path fill="darken" w="259075" h="21600">
                <a:moveTo>
                  <a:pt x="259075" y="0"/>
                </a:moveTo>
                <a:lnTo>
                  <a:pt x="259075" y="21600"/>
                </a:lnTo>
                <a:lnTo>
                  <a:pt x="257675" y="20200"/>
                </a:lnTo>
                <a:lnTo>
                  <a:pt x="257675" y="1400"/>
                </a:lnTo>
                <a:close/>
              </a:path>
              <a:path fill="darkenLess" w="259075" h="21600">
                <a:moveTo>
                  <a:pt x="259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675" y="20200"/>
                </a:lnTo>
                <a:close/>
              </a:path>
              <a:path fill="lighten" w="259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Materials Were Used When Making the Statue of Liber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892600"/>
            <a:ext cx="9144000" cy="1066680"/>
            <a:chOff x="0" y="2892600"/>
            <a:chExt cx="9144000" cy="1066680"/>
          </a:xfrm>
        </p:grpSpPr>
        <p:sp>
          <p:nvSpPr>
            <p:cNvPr id="50" name=""/>
            <p:cNvSpPr/>
            <p:nvPr/>
          </p:nvSpPr>
          <p:spPr>
            <a:xfrm>
              <a:off x="0" y="2892600"/>
              <a:ext cx="91440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2892600"/>
              <a:ext cx="9144000" cy="1066680"/>
              <a:chOff x="0" y="2892600"/>
              <a:chExt cx="9144000" cy="1066680"/>
            </a:xfrm>
          </p:grpSpPr>
          <p:sp>
            <p:nvSpPr>
              <p:cNvPr id="52" name=""/>
              <p:cNvSpPr/>
              <p:nvPr/>
            </p:nvSpPr>
            <p:spPr>
              <a:xfrm>
                <a:off x="0" y="2892600"/>
                <a:ext cx="5537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2892600"/>
                <a:ext cx="914400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hlinkClick r:id="rId3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4" name="Z1617D_a" descr="United We Stan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2666880"/>
            <a:ext cx="2438640" cy="19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rch first sent to America in 1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 was raised at the World’s Fair to finish the stat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ors can climb all the way to the top of the to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olstamp22ax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1613160" cy="2502000"/>
          </a:xfrm>
          <a:prstGeom prst="rect">
            <a:avLst/>
          </a:prstGeom>
          <a:ln w="0">
            <a:noFill/>
          </a:ln>
        </p:spPr>
      </p:pic>
      <p:pic>
        <p:nvPicPr>
          <p:cNvPr id="57" name="solfortwoodpm" descr=""/>
          <p:cNvPicPr/>
          <p:nvPr/>
        </p:nvPicPr>
        <p:blipFill>
          <a:blip r:embed="rId3"/>
          <a:stretch/>
        </p:blipFill>
        <p:spPr>
          <a:xfrm>
            <a:off x="2819520" y="4419720"/>
            <a:ext cx="3378240" cy="212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dy Liberty completed 188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dy Liberty taken apart for arrival 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4 crates to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ol%201900%20e3w.x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2154240" cy="338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387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olubs3" descr=""/>
          <p:cNvPicPr/>
          <p:nvPr/>
        </p:nvPicPr>
        <p:blipFill>
          <a:blip r:embed="rId3"/>
          <a:stretch/>
        </p:blipFill>
        <p:spPr>
          <a:xfrm>
            <a:off x="4800600" y="4572000"/>
            <a:ext cx="99360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886 Lady Liberty is standi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York Har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ib%20island2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400640" cy="3360960"/>
          </a:xfrm>
          <a:prstGeom prst="rect">
            <a:avLst/>
          </a:prstGeom>
          <a:ln w="0">
            <a:noFill/>
          </a:ln>
        </p:spPr>
      </p:pic>
      <p:pic>
        <p:nvPicPr>
          <p:cNvPr id="64" name="firewk-blue%5B1%5D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811440" cy="811080"/>
          </a:xfrm>
          <a:prstGeom prst="rect">
            <a:avLst/>
          </a:prstGeom>
          <a:ln w="0">
            <a:noFill/>
          </a:ln>
        </p:spPr>
      </p:pic>
      <p:pic>
        <p:nvPicPr>
          <p:cNvPr id="65" name="animfireworks" descr="animfireworks.gif (22983 bytes)"/>
          <p:cNvPicPr/>
          <p:nvPr/>
        </p:nvPicPr>
        <p:blipFill>
          <a:blip r:embed="rId4"/>
          <a:stretch/>
        </p:blipFill>
        <p:spPr>
          <a:xfrm>
            <a:off x="1066680" y="1600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firewk-grn%5B1%5D" descr=""/>
          <p:cNvPicPr/>
          <p:nvPr/>
        </p:nvPicPr>
        <p:blipFill>
          <a:blip r:embed="rId5"/>
          <a:stretch/>
        </p:blipFill>
        <p:spPr>
          <a:xfrm>
            <a:off x="762120" y="99072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67" name="firewk-yellow%5B1%5D" descr=""/>
          <p:cNvPicPr/>
          <p:nvPr/>
        </p:nvPicPr>
        <p:blipFill>
          <a:blip r:embed="rId6"/>
          <a:stretch/>
        </p:blipFill>
        <p:spPr>
          <a:xfrm>
            <a:off x="2362320" y="1523880"/>
            <a:ext cx="811080" cy="811440"/>
          </a:xfrm>
          <a:prstGeom prst="rect">
            <a:avLst/>
          </a:prstGeom>
          <a:ln w="0">
            <a:noFill/>
          </a:ln>
        </p:spPr>
      </p:pic>
      <p:pic>
        <p:nvPicPr>
          <p:cNvPr id="68" name="fireworks-big1" descr="animated fireworks"/>
          <p:cNvPicPr/>
          <p:nvPr/>
        </p:nvPicPr>
        <p:blipFill>
          <a:blip r:embed="rId7"/>
          <a:stretch/>
        </p:blipFill>
        <p:spPr>
          <a:xfrm>
            <a:off x="6962760" y="1295280"/>
            <a:ext cx="199404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fireworks-orange" descr="Fireworks animations and animated fireworks clipart"/>
          <p:cNvPicPr/>
          <p:nvPr/>
        </p:nvPicPr>
        <p:blipFill>
          <a:blip r:embed="rId8"/>
          <a:stretch/>
        </p:blipFill>
        <p:spPr>
          <a:xfrm>
            <a:off x="662940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mensions of the Stat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ue of 151 fee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e is 65 fee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destal is 89 fee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ty’s mouth is 3 feet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ye is 2 feet, 6 inches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forefinger is 8 feet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800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51814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410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57913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estro, B., &amp; Maestro, G. (1986)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ory of the Statue of Liberty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pard: New Y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endex.com/gf/buildings/liberty/libertyfact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nps.gov/stli/prod02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44:45Z</dcterms:created>
  <dc:creator>The Ridge Group</dc:creator>
  <dc:description/>
  <dc:language>en-US</dc:language>
  <cp:lastModifiedBy>The Ridge Group</cp:lastModifiedBy>
  <dcterms:modified xsi:type="dcterms:W3CDTF">2004-08-10T03:27:42Z</dcterms:modified>
  <cp:revision>6</cp:revision>
  <dc:subject/>
  <dc:title>Lady Liberty</dc:title>
</cp:coreProperties>
</file>