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jpeg" ContentType="image/jpeg"/>
  <Override PartName="/ppt/media/image9.jpeg" ContentType="image/jpeg"/>
  <Override PartName="/ppt/media/image7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3.wmf" ContentType="image/x-wmf"/>
  <Override PartName="/ppt/media/image13.jpeg" ContentType="image/jpeg"/>
  <Override PartName="/ppt/media/image10.jpeg" ContentType="image/jpeg"/>
  <Override PartName="/ppt/media/image8.jpeg" ContentType="image/jpeg"/>
  <Override PartName="/ppt/media/image6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731A-AA49-41F6-A8C2-3471EBD14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3F03-D452-4304-AABF-1DA52090D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8B08-9AAC-4206-9DFF-E03D44C9C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DC46-E8D6-4737-A8EE-340AB9EFF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4502-B5D9-4A4F-8265-792640F8F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08EB-AE74-4A52-9C3B-056AE0573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AD45-BE8E-4E31-8C1B-9AFF48597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DBAB-02E8-4929-B476-90E10BD2E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31D1-9D2F-429A-9D56-E1B980109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4C84-E84F-4F32-9314-1BC278A4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6E12-D86D-43BD-95B2-8DF369E5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6CBA-FDC0-4E66-B52A-116C9B7E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1DC9C-7A74-49B3-A75E-E68448FAF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favoritepoem.org/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favoritepoem.org/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rooknet.com/beatpage/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English &amp; Technolog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048120" y="271944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CD &amp; DLP Projectors are another tool for teachers that allow for the dynamic delivery of content. Many new schools have projectors mounted in every room in the buil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436920" y="533520"/>
            <a:ext cx="227016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nglish &amp; Technology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Jon Pos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4797360"/>
            <a:ext cx="784836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Research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04920" y="2438280"/>
            <a:ext cx="2257200" cy="14637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971800" y="2743200"/>
            <a:ext cx="38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3886200" y="2360520"/>
            <a:ext cx="2089080" cy="16718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7391520" y="1981080"/>
            <a:ext cx="922320" cy="24386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477120" y="266688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b94a"/>
            </a:gs>
            <a:gs pos="100000">
              <a:srgbClr val="66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glish &amp; Technolog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2588760"/>
            <a:ext cx="3505320" cy="16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what the first page of my research paper look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478400" y="1447920"/>
          <a:ext cx="4208400" cy="434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78400" y="1447920"/>
                    <a:ext cx="42084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a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rtbo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rtboards are a great new tool for teachers that I talked about in my paper… they offer teachers an interactive and fluid medium to present material to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vorite Poem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website I discussed in my paper featured videos of people reading their favorite po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ite is designed by our current poet laureate Robert Pinsk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an extremely useful site for English teachers trying to get their students interested in poe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366" presetSubtype="2165025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366" presetSubtype="2165025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366" presetSubtype="2165025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Robert Pinsk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84400" y="1646280"/>
            <a:ext cx="317520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avorite Poem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vorite Poem Project site address is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favoritepoem.or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ddition to the many videos the site features a plethora of lesson plans that incorporate the videos of people talking about and reading their favorite po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97176" presetSubtype="216655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97176" presetSubtype="216655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ow are some other cool English links mentioned in my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ttp://www.kerouac.c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ttp://www.bluesforpeace.com/beat.ht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ttp://www.rooknet.com/beatp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ww.frankohara.c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ww.poets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71440"/>
            <a:ext cx="83059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Beatp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495320" y="14479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nother page I used in my paper is called The Beatp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Beatpage features all sorts of information about famous poets of the Beat Generatio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9480" y="1523880"/>
            <a:ext cx="3382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18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 copy of my research paper is posted on my 504 Web Site along with all of my other completed assign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is is what my 504 site looks l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971800" y="4343400"/>
            <a:ext cx="2819520" cy="18064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85800" y="457200"/>
            <a:ext cx="746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45864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y 504 Webs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8T23:59:10Z</dcterms:created>
  <dc:creator>Holy Family University Client</dc:creator>
  <dc:description/>
  <dc:language>en-US</dc:language>
  <cp:lastModifiedBy>Holy Family University Client</cp:lastModifiedBy>
  <dcterms:modified xsi:type="dcterms:W3CDTF">2005-11-23T01:34:20Z</dcterms:modified>
  <cp:revision>12</cp:revision>
  <dc:subject/>
  <dc:title>Slide 1</dc:title>
</cp:coreProperties>
</file>