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782-9EA6-452E-B470-04255D64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744-9718-4A03-8D0C-2ADDA46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61E-5A3F-439E-B1E8-7C2AD55D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4CA-38E6-4E1B-9BED-9300F963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275-3476-4610-B392-7DE5CA9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C84-E9EF-4FEF-AF4C-D3BE0CD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8AC-BE75-43D9-8306-A3B9AD5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719-DD20-406E-B7DB-DEB9284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107-EBA1-4655-915B-2A60F19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5FA-0169-4B9D-96DB-8C96EF5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C2C-F5BF-46A4-B460-CE2D12D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4F8-FDF5-4A39-9636-EB1FB9D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2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4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8285-CB72-459A-81B8-5F2CB11A42A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73720"/>
            <a:ext cx="619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476280"/>
            <a:ext cx="61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אז מה אתם אומרים שנעשה שכטה ??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68360" y="4761000"/>
            <a:ext cx="61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014640" y="3143160"/>
            <a:ext cx="31147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פתח את הריזלה אחי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16000" y="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3280" y="0"/>
            <a:ext cx="3887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תכין את הפילטר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5485320" y="3199320"/>
            <a:ext cx="659772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אחח איזה ריח חריף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543640" y="0"/>
            <a:ext cx="334944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אחח איזה ריח חריף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187280" y="5265720"/>
            <a:ext cx="769644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זהר זהר אחי שלא תשפוך אני מפוצץ לך את הפני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0" y="5913360"/>
            <a:ext cx="433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יפה אחי ככה אני אוהב אות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3720" y="3105000"/>
            <a:ext cx="4876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בוא תחזיק שניה , נחתוך את זה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24360" y="3933720"/>
            <a:ext cx="25527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הטקסט שלך כא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708360" y="613728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תחזיק שניה נחתוך את זה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508720" y="368280"/>
            <a:ext cx="2693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שים קצת רוק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4689360"/>
            <a:ext cx="360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איפה המצית 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851280" y="5373720"/>
            <a:ext cx="496872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באהבה לאיילת היפיופה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en</cp:lastModifiedBy>
  <dcterms:modified xsi:type="dcterms:W3CDTF">2004-05-18T08:07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