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E7B-574A-478B-BBA5-F7F63A8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B22-92B9-4DC6-9743-B88DF8C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999-88AF-4E59-B40F-66650B62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B90-3234-4793-9185-D6FF8FCB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75A-F6CE-4667-A85D-8B16561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C4F-0356-4C74-8069-FD202BDA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FEA-1C1E-484E-AD88-A643FC3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49F-1C85-4AFE-8B8B-CBF24AEB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B3E-FF6A-49BB-BECA-950F3C3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6EC-B756-47F0-AE82-6E205BB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BFF-AD1E-4870-AA8B-7683FD3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811-8D0E-40E9-A123-F9B7ECCE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6B09-7DC6-4CEA-AADD-29F7D96B0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G:\tims internet tech\slide show\commercial.wv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/>
          </p:cNvPr>
          <p:cNvSpPr/>
          <p:nvPr/>
        </p:nvSpPr>
        <p:spPr>
          <a:xfrm>
            <a:off x="1752480" y="3429000"/>
            <a:ext cx="5639040" cy="2895480"/>
          </a:xfrm>
          <a:custGeom>
            <a:avLst/>
            <a:gdLst>
              <a:gd name="textAreaLeft" fmla="*/ 187560 w 5639040"/>
              <a:gd name="textAreaRight" fmla="*/ 5451480 w 5639040"/>
              <a:gd name="textAreaTop" fmla="*/ 187560 h 2895480"/>
              <a:gd name="textAreaBottom" fmla="*/ 2707920 h 2895480"/>
            </a:gdLst>
            <a:ahLst/>
            <a:rect l="textAreaLeft" t="textAreaTop" r="textAreaRight" b="textAreaBottom"/>
            <a:pathLst>
              <a:path w="42064" h="21600">
                <a:moveTo>
                  <a:pt x="0" y="0"/>
                </a:moveTo>
                <a:lnTo>
                  <a:pt x="42064" y="0"/>
                </a:lnTo>
                <a:lnTo>
                  <a:pt x="42064" y="21600"/>
                </a:lnTo>
                <a:lnTo>
                  <a:pt x="0" y="21600"/>
                </a:lnTo>
                <a:close/>
              </a:path>
              <a:path fill="lightenLess" w="42064" h="21600">
                <a:moveTo>
                  <a:pt x="0" y="0"/>
                </a:moveTo>
                <a:lnTo>
                  <a:pt x="42064" y="0"/>
                </a:lnTo>
                <a:lnTo>
                  <a:pt x="40664" y="1400"/>
                </a:lnTo>
                <a:lnTo>
                  <a:pt x="1400" y="1400"/>
                </a:lnTo>
                <a:close/>
              </a:path>
              <a:path fill="darken" w="42064" h="21600">
                <a:moveTo>
                  <a:pt x="42064" y="0"/>
                </a:moveTo>
                <a:lnTo>
                  <a:pt x="42064" y="21600"/>
                </a:lnTo>
                <a:lnTo>
                  <a:pt x="40664" y="20200"/>
                </a:lnTo>
                <a:lnTo>
                  <a:pt x="40664" y="1400"/>
                </a:lnTo>
                <a:close/>
              </a:path>
              <a:path fill="darkenLess" w="42064" h="21600">
                <a:moveTo>
                  <a:pt x="42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4" y="20200"/>
                </a:lnTo>
                <a:close/>
              </a:path>
              <a:path fill="lighten" w="42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4" h="21600">
                <a:moveTo>
                  <a:pt x="14026" y="3794"/>
                </a:moveTo>
                <a:lnTo>
                  <a:pt x="28039" y="10800"/>
                </a:lnTo>
                <a:lnTo>
                  <a:pt x="14026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eneral Electric Commer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7:34:37Z</dcterms:created>
  <dc:creator>Plymouth High School</dc:creator>
  <dc:description/>
  <dc:language>en-US</dc:language>
  <cp:lastModifiedBy>Plymouth High School</cp:lastModifiedBy>
  <dcterms:modified xsi:type="dcterms:W3CDTF">2002-04-22T17:34:55Z</dcterms:modified>
  <cp:revision>1</cp:revision>
  <dc:subject/>
  <dc:title>PowerPoint Presentation</dc:title>
</cp:coreProperties>
</file>