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AFE-8F38-4EAD-B498-849D6C0E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55D-2BBA-435B-A022-BC95C62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8F1-76D6-4E12-96BB-24E5668F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4FF-7217-4223-B38B-5DB4798B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181-434C-44D1-A7E7-BC89C269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EB8-5E45-4EB3-A72E-784B427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137-8D14-43D8-B48E-5A3DF69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675-046F-435D-94A6-BA42B1A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D89-A7D3-48F7-B9F9-32ABC6E1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4DE-781D-4C1E-A5CE-FF16E68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4DE-4F5D-4FAE-9FD9-6B252D2E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13C-AD76-4924-8BF4-7145023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FFB2-186B-4075-9D50-6A774E33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t Disney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 Manager-Disney'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tog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 Elias Dis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 Disney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,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0" y="45684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lando,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952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181480" y="1676520"/>
            <a:ext cx="2971800" cy="3427200"/>
            <a:chOff x="5181480" y="1676520"/>
            <a:chExt cx="2971800" cy="3427200"/>
          </a:xfrm>
        </p:grpSpPr>
        <p:sp>
          <p:nvSpPr>
            <p:cNvPr id="48" name=""/>
            <p:cNvSpPr/>
            <p:nvPr/>
          </p:nvSpPr>
          <p:spPr>
            <a:xfrm>
              <a:off x="5181480" y="1676520"/>
              <a:ext cx="2971800" cy="34272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57800" y="2181240"/>
              <a:ext cx="2819520" cy="254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3656160" cy="3675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86728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9880" y="2971800"/>
            <a:ext cx="4114800" cy="3276720"/>
          </a:xfrm>
          <a:prstGeom prst="cloudCallout">
            <a:avLst>
              <a:gd name="adj1" fmla="val -64930"/>
              <a:gd name="adj2" fmla="val -3837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62360" y="380520"/>
            <a:ext cx="28954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370808" dir="3116377" blurRad="0" rotWithShape="0">
              <a:srgbClr val="3d63a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5320" y="484560"/>
            <a:ext cx="3452760" cy="3374280"/>
            <a:chOff x="445320" y="484560"/>
            <a:chExt cx="3452760" cy="3374280"/>
          </a:xfrm>
        </p:grpSpPr>
        <p:sp>
          <p:nvSpPr>
            <p:cNvPr id="56" name=""/>
            <p:cNvSpPr/>
            <p:nvPr/>
          </p:nvSpPr>
          <p:spPr>
            <a:xfrm rot="20179200">
              <a:off x="837720" y="914400"/>
              <a:ext cx="2667240" cy="251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 rot="20206800">
              <a:off x="1219320" y="1066680"/>
              <a:ext cx="198108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69640" y="106920"/>
            <a:ext cx="3974400" cy="3957480"/>
            <a:chOff x="269640" y="106920"/>
            <a:chExt cx="3974400" cy="3957480"/>
          </a:xfrm>
        </p:grpSpPr>
        <p:sp>
          <p:nvSpPr>
            <p:cNvPr id="59" name=""/>
            <p:cNvSpPr/>
            <p:nvPr/>
          </p:nvSpPr>
          <p:spPr>
            <a:xfrm rot="20056200">
              <a:off x="762120" y="609480"/>
              <a:ext cx="2989080" cy="2952360"/>
            </a:xfrm>
            <a:prstGeom prst="rect">
              <a:avLst/>
            </a:prstGeom>
            <a:solidFill>
              <a:srgbClr val="846d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 rot="20023800">
              <a:off x="987120" y="925560"/>
              <a:ext cx="2472120" cy="242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71800" y="109440"/>
            <a:ext cx="3969720" cy="3952440"/>
            <a:chOff x="271800" y="109440"/>
            <a:chExt cx="3969720" cy="3952440"/>
          </a:xfrm>
        </p:grpSpPr>
        <p:sp>
          <p:nvSpPr>
            <p:cNvPr id="62" name=""/>
            <p:cNvSpPr/>
            <p:nvPr/>
          </p:nvSpPr>
          <p:spPr>
            <a:xfrm rot="20068800">
              <a:off x="761760" y="609120"/>
              <a:ext cx="2989080" cy="295272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 rot="20073000">
              <a:off x="999000" y="807840"/>
              <a:ext cx="2507040" cy="246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176760" y="2880"/>
            <a:ext cx="4144320" cy="4107600"/>
            <a:chOff x="176760" y="2880"/>
            <a:chExt cx="4144320" cy="4107600"/>
          </a:xfrm>
        </p:grpSpPr>
        <p:sp>
          <p:nvSpPr>
            <p:cNvPr id="65" name=""/>
            <p:cNvSpPr/>
            <p:nvPr/>
          </p:nvSpPr>
          <p:spPr>
            <a:xfrm rot="20041800">
              <a:off x="685800" y="533160"/>
              <a:ext cx="3125880" cy="30463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 rot="20068200">
              <a:off x="990720" y="837720"/>
              <a:ext cx="2466720" cy="243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82520" y="-4320"/>
            <a:ext cx="4178160" cy="4118400"/>
            <a:chOff x="182520" y="-4320"/>
            <a:chExt cx="4178160" cy="4118400"/>
          </a:xfrm>
        </p:grpSpPr>
        <p:sp>
          <p:nvSpPr>
            <p:cNvPr id="68" name=""/>
            <p:cNvSpPr/>
            <p:nvPr/>
          </p:nvSpPr>
          <p:spPr>
            <a:xfrm rot="20056800">
              <a:off x="685440" y="533160"/>
              <a:ext cx="3171960" cy="3043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 rot="20012400">
              <a:off x="918720" y="825120"/>
              <a:ext cx="2729160" cy="247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3809880" y="2971800"/>
            <a:ext cx="4113360" cy="3271680"/>
          </a:xfrm>
          <a:prstGeom prst="cloudCallout">
            <a:avLst>
              <a:gd name="adj1" fmla="val -65013"/>
              <a:gd name="adj2" fmla="val -38694"/>
            </a:avLst>
          </a:prstGeom>
          <a:solidFill>
            <a:srgbClr val="846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ke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971800"/>
            <a:ext cx="4113360" cy="3271680"/>
          </a:xfrm>
          <a:prstGeom prst="cloudCallout">
            <a:avLst>
              <a:gd name="adj1" fmla="val -65013"/>
              <a:gd name="adj2" fmla="val -38550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971800"/>
            <a:ext cx="4113360" cy="3271680"/>
          </a:xfrm>
          <a:prstGeom prst="cloudCallout">
            <a:avLst>
              <a:gd name="adj1" fmla="val -65976"/>
              <a:gd name="adj2" fmla="val -3995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2971800"/>
            <a:ext cx="4113360" cy="3271680"/>
          </a:xfrm>
          <a:prstGeom prst="cloudCallout">
            <a:avLst>
              <a:gd name="adj1" fmla="val -66518"/>
              <a:gd name="adj2" fmla="val -3947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Fo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People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Love to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19:38:51Z</dcterms:created>
  <dc:creator>PHS</dc:creator>
  <dc:description/>
  <dc:language>en-US</dc:language>
  <cp:lastModifiedBy>PHS</cp:lastModifiedBy>
  <dcterms:modified xsi:type="dcterms:W3CDTF">2004-01-13T19:52:25Z</dcterms:modified>
  <cp:revision>2</cp:revision>
  <dc:subject/>
  <dc:title>Walt Disney World</dc:title>
</cp:coreProperties>
</file>