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086-D0A8-4E20-A2F1-B59876FF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313-F058-4E4A-BE20-5526250A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41C-529C-424D-B350-8F19AFBD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96E-DED0-4ADB-A3B8-C58C8532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FFCC-7B5E-45A9-BE45-77288AC0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753-74ED-450F-98D0-053AC154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F35C-6436-4419-8DB9-C7015191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7DF4-9E3E-4FE9-8788-64D5579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66A-6102-4753-8366-C97061CA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8D30-8D08-4456-81F6-8A5D9A72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2F33-D932-4043-8AE2-C69144F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B46-0B86-400C-8AED-64481E6B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D215-8683-414B-AC9C-356B766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1C12-88B3-4BD7-A1F1-377D765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CFAD-9491-4BAC-8FE0-3206545D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1479-7C25-4D68-8352-18A416DA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304A-056B-4806-A17D-BBC0396C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AFF-B539-4645-874C-DE5D14D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7A8-431F-4C87-A75F-9EE2E933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C1E-F8AD-4F8D-944F-31846CD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B9C-4EF5-460C-AAEA-75D8A154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19A-067C-4FEE-8A52-32CDB3B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6BE-E71A-419B-91D5-CD855FE0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3C0-F168-435E-B0CB-5BF44FF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5FA-CB2D-46E1-AEF6-867718AC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D7C-AB22-49A1-AB3B-B2A4BBEF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tani.org/sa" TargetMode="External"/><Relationship Id="rId2" Type="http://schemas.openxmlformats.org/officeDocument/2006/relationships/hyperlink" Target="http://www.watani.org/sa" TargetMode="External"/><Relationship Id="rId3" Type="http://schemas.openxmlformats.org/officeDocument/2006/relationships/hyperlink" Target="http://www.watani.org/sa" TargetMode="External"/><Relationship Id="rId4" Type="http://schemas.openxmlformats.org/officeDocument/2006/relationships/hyperlink" Target="http://www.watani.org/sa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447920"/>
            <a:ext cx="8076960" cy="4114800"/>
          </a:xfrm>
          <a:custGeom>
            <a:avLst/>
            <a:gdLst>
              <a:gd name="textAreaLeft" fmla="*/ 0 w 8076960"/>
              <a:gd name="textAreaRight" fmla="*/ 8077320 w 8076960"/>
              <a:gd name="textAreaTop" fmla="*/ 533160 h 4114800"/>
              <a:gd name="textAreaBottom" fmla="*/ 35816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6658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لمحة عن المكونات الفنية لمشروع عبدالله </a:t>
            </a:r>
            <a:br>
              <a:rPr sz="4400"/>
            </a:b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ابن عبدالعزيز وأبنائه الطلبة للحاسب الآلي </a:t>
            </a:r>
            <a:br>
              <a:rPr sz="4400"/>
            </a:b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وما تم إنجازه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7400" y="685800"/>
            <a:ext cx="5943600" cy="2133720"/>
          </a:xfrm>
          <a:prstGeom prst="flowChartDocument">
            <a:avLst/>
          </a:pr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971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بنية التحت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4343400"/>
            <a:ext cx="1371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مع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434340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شبكات المح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4343400"/>
            <a:ext cx="1463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إتصا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9144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66"/>
                </a:solidFill>
                <a:latin typeface="Times New Roman"/>
              </a:rPr>
              <a:t>مشروع عبدالله ابن عبدالعزيز وأبنائه الطلبة للحاسب الآ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809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362320" y="3809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362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معدات داخل المدر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3505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505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038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خادم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6000" y="4038480"/>
            <a:ext cx="34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أجهزة كمبيوتر شخص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191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طابعات عارض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3809880"/>
            <a:ext cx="3124080" cy="144792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886200"/>
            <a:ext cx="2819520" cy="60948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14479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1676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تدري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352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3352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3962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توعية بتقن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8862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تكامل بين التقنية المعلوماتية والمناهج المدر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00200" y="3276720"/>
            <a:ext cx="2895480" cy="167616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276720"/>
            <a:ext cx="2743200" cy="160020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523880"/>
            <a:ext cx="3276720" cy="76212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676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تطبيق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27432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8120" y="2743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276720"/>
            <a:ext cx="19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ظام الإدارة المدرس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S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نظام النواحي الإدارية و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43200" y="76212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محتوى والخدمات المجتم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 &amp; Community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8072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429000"/>
            <a:ext cx="2514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محتوى التعل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al Cont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429000"/>
            <a:ext cx="198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دمات مجتمع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Commun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75120" y="4940280"/>
            <a:ext cx="236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وسائط المتعد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تفاع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كتب الإلكترو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تعليم الإلكتر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علاقة المعلمين والمدرسة  بأولياء أمور الطل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52480" y="990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imes New Roman"/>
              </a:rPr>
              <a:t>ما تم إنجازه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1981080"/>
            <a:ext cx="64771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وضع رؤية للمشروع وأهدافه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تعيين المستشارين للمشروع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دعوة شركات التقنية المعلوماتية للمشارك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تعيين اللجنة الفن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البحث عن مزودي المحتو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وضع قوانين وشروط الربط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كتابة المواثيق وأدلة العمل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5791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watani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.org.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2:43:54Z</dcterms:created>
  <dc:creator>ابراهيم عنبر العلي </dc:creator>
  <dc:description/>
  <dc:language>en-US</dc:language>
  <cp:lastModifiedBy>IBRAHIM</cp:lastModifiedBy>
  <dcterms:modified xsi:type="dcterms:W3CDTF">2001-04-13T05:21:38Z</dcterms:modified>
  <cp:revision>12</cp:revision>
  <dc:subject/>
  <dc:title>لمحة عن المكونات الفنية لمشروع عبدالله بن عبدالعزيز وأبنائه الطلبة للحاسب الآلي </dc:title>
</cp:coreProperties>
</file>