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84D-AFCB-42C9-B2F2-75FBCE62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B4A-2C4A-44F2-A68B-9AC11AF8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867-D9CC-4FF2-99E1-7EF0052A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3BC-980F-42A8-8A5E-0AEF4CB1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E3E-FF63-49AD-943B-E15C8E1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C31-6585-4CE4-BC9B-B57ED95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A9F-A817-436D-9029-7CABBD23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8FC-5938-453A-8850-DB821DC3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E9B-42DA-42B6-8ECC-179AAF3E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1AA-06D5-4CF6-8CF8-C9FA331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394-5417-4B83-9290-F4A60A5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5E0-F422-412B-9813-F2B821E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A97B-93A5-49E1-AEE1-5BCE77D1F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5627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6781680" y="18288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6477120" y="28195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4952880" y="38862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5486400" y="4952880"/>
            <a:ext cx="342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457200" y="16002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438280" y="2666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990720" y="365760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990720" y="47242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792468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572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09480" y="57913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731520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172200" y="5486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 flipV="1">
            <a:off x="2286000" y="56386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594360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kna2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8006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69608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33520" y="31240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571500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1972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769608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990720" y="5486400"/>
            <a:ext cx="16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579132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943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77240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457200" y="5562720"/>
            <a:ext cx="16765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86728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248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7924680" y="3200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6324480"/>
            <a:ext cx="685800" cy="53352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562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381880" y="637236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380880" y="59436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92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01992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2514600" y="55627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5867280"/>
            <a:ext cx="685800" cy="68580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3:23:37Z</dcterms:created>
  <dc:creator>user</dc:creator>
  <dc:description/>
  <dc:language>en-US</dc:language>
  <cp:lastModifiedBy>abc</cp:lastModifiedBy>
  <dcterms:modified xsi:type="dcterms:W3CDTF">2002-09-19T14:05:24Z</dcterms:modified>
  <cp:revision>25</cp:revision>
  <dc:subject/>
  <dc:title>PowerPoint Presentation</dc:title>
</cp:coreProperties>
</file>