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361-2590-4615-9EDE-6DE27CEF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09D-108D-4757-AEEB-2E3EF3AE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1C4-A0AD-48AF-96A8-15372C5F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C48-4E2D-4F47-A661-1A59FADA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BD0-2F2A-4416-8179-E4D35C5F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F22-6E5D-45AB-A770-F8186C24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F5B-D238-4954-B7A6-5D0AFECE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010-F79E-4094-BB8C-E9114E96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76F-73CF-493A-9DBE-7019C844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0BD-C4B4-4A96-8669-FD5EE38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C64-992B-49D8-AEB3-89B7C2CB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EF4-EA48-475B-A452-CA49CE5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D710-F634-480E-BC93-8803562C0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228600" y="1447920"/>
            <a:ext cx="5486400" cy="7596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752480" y="685800"/>
            <a:ext cx="5486400" cy="763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80880" y="3352680"/>
            <a:ext cx="5486400" cy="763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2057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0968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6400800" cy="165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7620120" cy="138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380988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914400" y="2057400"/>
            <a:ext cx="5791320" cy="763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914400" y="2057400"/>
            <a:ext cx="5791320" cy="763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20968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7239240" cy="103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335268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7315200" cy="94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858000" cy="1468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457200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71629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220968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6705720" cy="153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380988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914400" y="2057400"/>
            <a:ext cx="5791320" cy="763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685800" y="1905120"/>
            <a:ext cx="5791320" cy="7596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619760" cy="3394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1981080"/>
            <a:ext cx="4800600" cy="36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685800" y="1905120"/>
            <a:ext cx="5791320" cy="7596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438280"/>
            <a:ext cx="4800600" cy="36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315200" cy="33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990720" y="1828800"/>
            <a:ext cx="5791320" cy="763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457200" y="2362320"/>
            <a:ext cx="8991720" cy="1795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7696080" cy="188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23:23:12Z</dcterms:created>
  <dc:creator> </dc:creator>
  <dc:description/>
  <dc:language>en-US</dc:language>
  <cp:lastModifiedBy> </cp:lastModifiedBy>
  <dcterms:modified xsi:type="dcterms:W3CDTF">2004-06-28T07:03:21Z</dcterms:modified>
  <cp:revision>14</cp:revision>
  <dc:subject/>
  <dc:title>Slide 1</dc:title>
</cp:coreProperties>
</file>