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112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112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8566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842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8566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842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112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112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112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112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112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ebquest.sdsu.edu/about_webquests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4500" spc="-1" strike="noStrike">
                <a:solidFill>
                  <a:srgbClr val="ffffff"/>
                </a:solidFill>
                <a:latin typeface="Arial"/>
              </a:rPr>
              <a:t>Web Quest Presentatio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m 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isa Cowa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andra Jorda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onald Lelko, Cecilia More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tephanie Park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WebQu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WebQuest is an inquiry-oriented activity in which some or all of the information that learners interact with comes from resources on the internet, optionally supplemented with videoconferenc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2 types of WeQues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 Term WebQue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er Term WebQu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ORT TERM WEBQUE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designed to be completed in 1 to 3 class peri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structional goal is knowledge acquisition and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arner grapples with a significant amount of information and makes sense of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NGER TERM WEBQUE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 takes between 1 week to a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structional goal is extending and refining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arner deeply analyzes a body of knowledge, transforms it, and demonstrates understanding by creating something that others can respond t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Quests are designed to use learners’ time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Quests focus on using information rather than looking for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Quests support learners’ thinking at the levels of analysis, synthesis, and evalu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dge, B. (n. d.).  Some thoughts about webquests. Retrieved December 12, 2004 from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ebquest.sdsu.edu/about_webquest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nson, A.D. (2003, March). Encouraging the use of technology in the classroom: The WebQuest connection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ading Online, 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7). Retrieved December 12, 2004 from http://www.readingonline.org/articles/art_index.asp?HREF=stinson/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5:26:31Z</dcterms:created>
  <dc:creator>DB</dc:creator>
  <dc:description/>
  <dc:language>en-US</dc:language>
  <cp:lastModifiedBy>Sandra jordan</cp:lastModifiedBy>
  <dcterms:modified xsi:type="dcterms:W3CDTF">2004-12-12T16:43:25Z</dcterms:modified>
  <cp:revision>19</cp:revision>
  <dc:subject/>
  <dc:title>PowerPoint Presentation</dc:title>
</cp:coreProperties>
</file>