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7CFEC-768A-4374-AD36-C866A5B4D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l shad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C975-FD7F-4D1B-A2F3-7B7218313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5403-C9D3-4B44-9B61-C9E5778E0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6A03-D86D-403B-BB9B-984B3BEEB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A99D-BEA2-4CAA-B579-40A8B183C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69ED1-177A-40FD-995B-2E425C859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1DDBC-B25B-415F-8CB3-4813B7241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5096D-0D60-47BE-A1F5-E8816956F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D8C5B-C4CD-4EA0-927B-F7F73E4A5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AAA0F-6971-4093-9DD5-08B9DE5B2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B702D-2354-48FB-AC16-6188DD283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53E55-0F5E-4FE4-9DBB-A164224B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1B43-18DA-4267-9ADC-CE17D49AA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FBE55-34FD-4B33-812B-93DDBADD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F8765-0F4B-418D-8DB8-FE318F22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A2D92-6E10-4E23-A74B-D7B23A016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1F80C-56A5-4090-A877-5FE63DE93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8A001-B42C-474A-AC6E-7A284D07B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D151-8D9E-43AC-B13F-BF2F39E62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2C8D-2A93-49E6-887A-E05A8CB34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C6F0-A44D-4C6F-AC14-7D4296687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EC9E-FEEB-4FD1-8DF7-53DD2F1A4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92AB-CAD4-482D-9906-EE20BCEE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4046-6289-4FE2-B27B-2890A800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3686-2CB3-49CA-94C8-EA45BB60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AE731-E66E-4E18-97AE-90E1B416F3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23DDB-1C77-4C22-B399-5A9B6D4B5D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lycos.angelfire.com/goth/kornrulz.html" TargetMode="External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1981080"/>
            <a:ext cx="6477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0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Brad</a:t>
            </a:r>
            <a:endParaRPr b="0" lang="en-US" sz="24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66680" y="1066680"/>
            <a:ext cx="74376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0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Episode 1,000,000</a:t>
            </a:r>
            <a:endParaRPr b="0" lang="en-US" sz="24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66680" y="5105520"/>
            <a:ext cx="7437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0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A long time ago in a galaxy far, far away...</a:t>
            </a:r>
            <a:endParaRPr b="0" lang="en-US" sz="24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omic Sans MS"/>
              </a:rPr>
              <a:t>Brad</a:t>
            </a:r>
            <a:endParaRPr b="0" lang="en-US" sz="11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2" name="STARTR~2" descr=""/>
          <p:cNvPicPr/>
          <p:nvPr/>
        </p:nvPicPr>
        <p:blipFill>
          <a:blip r:embed="rId1"/>
          <a:stretch/>
        </p:blipFill>
        <p:spPr>
          <a:xfrm>
            <a:off x="1752480" y="2743200"/>
            <a:ext cx="5562720" cy="34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575"/>
            </a:gs>
            <a:gs pos="50000">
              <a:srgbClr val="00ffff"/>
            </a:gs>
            <a:gs pos="100000">
              <a:srgbClr val="00757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omic Sans MS"/>
              </a:rPr>
              <a:t>Brad</a:t>
            </a:r>
            <a:endParaRPr b="0" lang="en-US" sz="11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6" name="bazooka" descr=""/>
          <p:cNvPicPr/>
          <p:nvPr/>
        </p:nvPicPr>
        <p:blipFill>
          <a:blip r:embed="rId1"/>
          <a:stretch/>
        </p:blipFill>
        <p:spPr>
          <a:xfrm>
            <a:off x="1295280" y="3048120"/>
            <a:ext cx="7132680" cy="193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17"/>
            </a:gs>
            <a:gs pos="100000">
              <a:srgbClr val="ff00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ff00"/>
                </a:solidFill>
                <a:latin typeface="Comic Sans MS"/>
              </a:rPr>
              <a:t>Brad</a:t>
            </a:r>
            <a:endParaRPr b="0" lang="en-US" sz="11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1879560" cy="38862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648880" y="3106800"/>
            <a:ext cx="528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aliens </a:t>
            </a: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r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coming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57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 Balro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43" name="balrog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467480" cy="42069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99072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d80029"/>
                </a:solidFill>
                <a:latin typeface="Comic Sans MS"/>
              </a:rPr>
              <a:t>Brad</a:t>
            </a:r>
            <a:endParaRPr b="0" lang="en-US" sz="1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8116200" y="2819520"/>
            <a:ext cx="128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ep th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Untitled%20Me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748560" cy="79246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953080" y="0"/>
            <a:ext cx="33094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d80029"/>
                </a:solidFill>
                <a:latin typeface="Comic Sans MS"/>
              </a:rPr>
              <a:t>Brad</a:t>
            </a:r>
            <a:endParaRPr b="0" lang="en-US" sz="1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00ff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omic Sans MS"/>
              </a:rPr>
              <a:t>Brad</a:t>
            </a:r>
            <a:endParaRPr b="0" lang="en-US" sz="11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44792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it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rad Produc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ssociation with Brad Fil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The Brad Compa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ff0033"/>
                </a:solidFill>
                <a:latin typeface="Comic Sans MS"/>
              </a:rPr>
              <a:t>Brad</a:t>
            </a:r>
            <a:endParaRPr b="0" lang="en-US" sz="11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00"/>
                </a:solidFill>
                <a:latin typeface="Monotype Corsiva"/>
              </a:rPr>
              <a:t>AAAAAAAHHHHHH!!!!!!!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ff"/>
                </a:solidFill>
                <a:latin typeface="Comic Sans MS"/>
              </a:rPr>
              <a:t>Brad</a:t>
            </a:r>
            <a:endParaRPr b="0" lang="en-US" sz="11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om Clanc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oing onl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J.R.R. Tolki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Simps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cience Fi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ilitary Technolo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irpla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d I mention The Simpons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untry and Alternative/Heavy Metal musi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X-m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hite-water raft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nspiracy theor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hocolate donuts (I am eating one as I typ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hitley Strib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13320" y="3105000"/>
            <a:ext cx="253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I like…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4343400"/>
            <a:ext cx="2286000" cy="1523880"/>
          </a:xfrm>
          <a:custGeom>
            <a:avLst/>
            <a:gdLst>
              <a:gd name="textAreaLeft" fmla="*/ 357120 w 2286000"/>
              <a:gd name="textAreaRight" fmla="*/ 2212920 w 2286000"/>
              <a:gd name="textAreaTop" fmla="*/ 623880 h 1523880"/>
              <a:gd name="textAreaBottom" fmla="*/ 900000 h 1523880"/>
            </a:gdLst>
            <a:ahLst/>
            <a:rect l="textAreaLeft" t="textAreaTop" r="textAreaRight" b="textAreaBottom"/>
            <a:pathLst>
              <a:path w="21600" h="21600">
                <a:moveTo>
                  <a:pt x="3375" y="8843"/>
                </a:moveTo>
                <a:lnTo>
                  <a:pt x="17786" y="8843"/>
                </a:lnTo>
                <a:lnTo>
                  <a:pt x="17786" y="0"/>
                </a:lnTo>
                <a:lnTo>
                  <a:pt x="21600" y="10800"/>
                </a:lnTo>
                <a:lnTo>
                  <a:pt x="17786" y="21600"/>
                </a:lnTo>
                <a:lnTo>
                  <a:pt x="17786" y="12757"/>
                </a:lnTo>
                <a:lnTo>
                  <a:pt x="3375" y="12757"/>
                </a:lnTo>
                <a:close/>
              </a:path>
              <a:path w="21600" h="21600">
                <a:moveTo>
                  <a:pt x="0" y="8843"/>
                </a:moveTo>
                <a:lnTo>
                  <a:pt x="675" y="8843"/>
                </a:lnTo>
                <a:lnTo>
                  <a:pt x="675" y="12757"/>
                </a:lnTo>
                <a:lnTo>
                  <a:pt x="0" y="12757"/>
                </a:lnTo>
                <a:close/>
              </a:path>
              <a:path w="21600" h="21600">
                <a:moveTo>
                  <a:pt x="1350" y="8843"/>
                </a:moveTo>
                <a:lnTo>
                  <a:pt x="2700" y="8843"/>
                </a:lnTo>
                <a:lnTo>
                  <a:pt x="2700" y="12757"/>
                </a:lnTo>
                <a:lnTo>
                  <a:pt x="1350" y="1275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omic Sans MS"/>
              </a:rPr>
              <a:t>Brad</a:t>
            </a:r>
            <a:endParaRPr b="0" lang="en-US" sz="11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80280" y="2513160"/>
            <a:ext cx="7954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f5f5f"/>
                </a:solidFill>
                <a:latin typeface="Trebuchet MS"/>
              </a:rPr>
              <a:t>Three rings for the elven-kings under the sk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f5f5f"/>
                </a:solidFill>
                <a:latin typeface="Trebuchet MS"/>
              </a:rPr>
              <a:t>Seven for the dwarf lords in their halls of st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f5f5f"/>
                </a:solidFill>
                <a:latin typeface="Trebuchet MS"/>
              </a:rPr>
              <a:t>Nine for mortal men doomed to d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f5f5f"/>
                </a:solidFill>
                <a:latin typeface="Trebuchet MS"/>
              </a:rPr>
              <a:t>One for Brad on his dark thr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f5f5f"/>
                </a:solidFill>
                <a:latin typeface="Trebuchet MS"/>
              </a:rPr>
              <a:t>In the land of Mohrdor where the shadows l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f5f5f"/>
                </a:solidFill>
                <a:latin typeface="Trebuchet MS"/>
              </a:rPr>
              <a:t>One ring to rule them all, one ring to find th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f5f5f"/>
                </a:solidFill>
                <a:latin typeface="Trebuchet MS"/>
              </a:rPr>
              <a:t>One ring to bring them all and in the Bradness bind th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f5f5f"/>
                </a:solidFill>
                <a:latin typeface="Trebuchet MS"/>
              </a:rPr>
              <a:t>In the land of Mohrdor where the shadows l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ffff00"/>
                </a:solidFill>
                <a:latin typeface="Comic Sans MS"/>
              </a:rPr>
              <a:t>Brad</a:t>
            </a:r>
            <a:endParaRPr b="0" lang="en-US" sz="11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92200" y="1523880"/>
            <a:ext cx="2725920" cy="4597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reative Ven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2286000"/>
            <a:ext cx="914400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00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Comic Sans MS"/>
              </a:rPr>
              <a:t>A SimCity 2000 city named Brad ***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Comic Sans MS"/>
              </a:rPr>
              <a:t>My own medieval world that I have created and am writing a story to go along with 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33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Comic Sans MS"/>
              </a:rPr>
              <a:t>An abandoned Star Trek novel, </a:t>
            </a:r>
            <a:r>
              <a:rPr b="0" i="1" lang="en-US" sz="2400" spc="-1" strike="noStrike">
                <a:solidFill>
                  <a:srgbClr val="ff0033"/>
                </a:solidFill>
                <a:latin typeface="Comic Sans MS"/>
              </a:rPr>
              <a:t>Old Frie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33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Comic Sans MS"/>
              </a:rPr>
              <a:t>My own website at </a:t>
            </a:r>
            <a:r>
              <a:rPr b="0" lang="en-US" sz="2400" spc="-1" strike="noStrike" u="sng">
                <a:solidFill>
                  <a:srgbClr val="ff0033"/>
                </a:solidFill>
                <a:uFillTx/>
                <a:latin typeface="Comic Sans MS"/>
                <a:hlinkClick r:id="rId1"/>
              </a:rPr>
              <a:t>www.lycos.angelfire.com/goth/kornrulz.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33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Comic Sans MS"/>
              </a:rPr>
              <a:t>This slidesh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33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Comic Sans MS"/>
              </a:rPr>
              <a:t>My own created starship with crew on the Star Trek Starship Crea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Comic Sans MS"/>
              </a:rPr>
              <a:t>7.</a:t>
            </a:r>
            <a:r>
              <a:rPr b="0" lang="en-US" sz="2400" spc="-1" strike="noStrike">
                <a:solidFill>
                  <a:srgbClr val="ff0033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0033"/>
                </a:solidFill>
                <a:latin typeface="Comic Sans MS"/>
              </a:rPr>
              <a:t>Several song/po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0" y="3505320"/>
            <a:ext cx="9144000" cy="17524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d80029"/>
                </a:solidFill>
                <a:uFillTx/>
                <a:latin typeface="Times New Roman"/>
              </a:rPr>
              <a:t>AAAAAAHHHHHH!!!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ffffff"/>
                </a:solidFill>
                <a:latin typeface="Comic Sans MS"/>
              </a:rPr>
              <a:t>Brad</a:t>
            </a:r>
            <a:endParaRPr b="0" lang="en-US" sz="11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7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ff9900"/>
                </a:solidFill>
                <a:latin typeface="Comic Sans MS"/>
              </a:rPr>
              <a:t>Brad</a:t>
            </a:r>
            <a:endParaRPr b="0" lang="en-US" sz="11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9900"/>
                </a:solidFill>
                <a:latin typeface="Times New Roman"/>
              </a:rPr>
              <a:t>“</a:t>
            </a:r>
            <a:r>
              <a:rPr b="0" i="1" lang="en-US" sz="3200" spc="-1" strike="noStrike">
                <a:solidFill>
                  <a:srgbClr val="ff9900"/>
                </a:solidFill>
                <a:latin typeface="Times New Roman"/>
              </a:rPr>
              <a:t>Over thinking, over analyzing seperates the body from the mind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34960" y="1600200"/>
            <a:ext cx="302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Favorite Quo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089680" y="537516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Tool, </a:t>
            </a:r>
            <a:r>
              <a:rPr b="0" i="1" lang="en-US" sz="2400" spc="-1" strike="noStrike">
                <a:solidFill>
                  <a:srgbClr val="ff9900"/>
                </a:solidFill>
                <a:latin typeface="Times New Roman"/>
              </a:rPr>
              <a:t>Lateral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500"/>
            </a:gs>
            <a:gs pos="50000">
              <a:srgbClr val="00ff00"/>
            </a:gs>
            <a:gs pos="100000">
              <a:srgbClr val="0075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omic Sans MS"/>
              </a:rPr>
              <a:t>Brad</a:t>
            </a:r>
            <a:endParaRPr b="0" lang="en-US" sz="11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27432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oner or later the destiny of my controlling the world will be realized by al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my ally is the laziness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a flabby ally it 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omic Sans MS"/>
              </a:rPr>
              <a:t>Brad</a:t>
            </a:r>
            <a:endParaRPr b="0" lang="en-US" sz="11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19:40:14Z</dcterms:created>
  <dc:creator>Brad Mohr</dc:creator>
  <dc:description/>
  <dc:language>en-US</dc:language>
  <cp:lastModifiedBy>Brad Mohr</cp:lastModifiedBy>
  <dcterms:modified xsi:type="dcterms:W3CDTF">2003-03-07T21:25:25Z</dcterms:modified>
  <cp:revision>16</cp:revision>
  <dc:subject/>
  <dc:title>PowerPoint Presentation</dc:title>
</cp:coreProperties>
</file>