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8290-832B-4C99-A424-CC5CCAB4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A83-9A64-45C4-BE07-2F2C8771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EB6-EA17-4733-B195-C0CB7D62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D88-7CC8-4E17-91A2-3CF70C19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EBA-F090-420D-9BDE-AC15C7AB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B39-9E48-42DC-8603-4655A8D7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D6B-542E-4688-A750-019C53BF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2FE-E0EA-4FF9-8FD2-2E3F4255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230-3797-406C-BC7D-5A6298FF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002-D6D2-4CD2-A11D-8CBE48CD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B69-7ECB-4FDB-BA17-EBA8016F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881-02C1-410D-90EA-F9069535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B310-C460-479B-B8F9-8BCF06BE8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 pour aller a mon cha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arte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4797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09720" y="1676520"/>
            <a:ext cx="2590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Vous allez par la 1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Vous prenez le chemin vert (a peu près 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Mon lac est entouré en ro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lac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205760" cy="4933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8800" y="2286000"/>
            <a:ext cx="45720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Times New Roman"/>
              </a:rPr>
              <a:t>Vous continuez sur le chemin Taché (la route en verte sur l ’autre carte) et vous allez voir un lac lorsque que vous monterez une</a:t>
            </a:r>
            <a:r>
              <a:rPr b="0" lang="fr-C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H" sz="1800" spc="-1" strike="noStrike">
                <a:solidFill>
                  <a:srgbClr val="ffffff"/>
                </a:solidFill>
                <a:latin typeface="Times New Roman"/>
              </a:rPr>
              <a:t>certaine co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ans%20titre" descr=""/>
          <p:cNvPicPr/>
          <p:nvPr/>
        </p:nvPicPr>
        <p:blipFill>
          <a:blip r:embed="rId1"/>
          <a:stretch/>
        </p:blipFill>
        <p:spPr>
          <a:xfrm>
            <a:off x="247680" y="228600"/>
            <a:ext cx="8686800" cy="594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76212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A un moment donné vous verrez une entrée avec 2 petits lampadaires avec la lumière en boule. Tournez-là, continuez jusqu ’au bout du chemin et tournez au chemin a droite , celui le plus en bas. C ’est le premier terrain (il y ’a un garage et une roulot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6T07:44:47Z</dcterms:created>
  <dc:creator>francois</dc:creator>
  <dc:description/>
  <dc:language>en-US</dc:language>
  <cp:lastModifiedBy>Famille Ouellet</cp:lastModifiedBy>
  <dcterms:modified xsi:type="dcterms:W3CDTF">2002-07-26T13:56:07Z</dcterms:modified>
  <cp:revision>3</cp:revision>
  <dc:subject/>
  <dc:title>Carte pour aller a mon chalet</dc:title>
</cp:coreProperties>
</file>