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672-5A13-4AFA-9C80-13C616B4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4AC-7C59-43E1-8430-0A0850C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7AB-6371-4836-89CD-A5BA5DAE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E22-6C92-4830-9925-35DE1932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10D8-A2C6-43C7-8707-ADA8E1AA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EB94-2D38-4E62-83C0-C014DE9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9821-CA18-4DCF-BC27-100B8F1E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7241-2FEC-4D19-BFC9-C75BD80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C6EB-631C-4418-82A4-D2A86E6D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0319-8AD4-4D96-A236-ABB2FE9C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6488-D28A-4080-81BD-0FE23AF3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86C-45C4-4124-86C4-71457EA5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5ACE-0891-48F8-A7AE-EABF1C4B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A033-56F6-4F24-B50C-A399E527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1287-54CE-4DAC-ABA9-B2E4EE27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D3F6-7801-442E-BB7A-79417C61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C3A0-BFCF-439C-8F7A-4D6F851F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B38-A3B6-4867-9BB6-83D93ED9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CCF-9610-4038-9C40-4DB21A87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2D3-96F4-400E-9768-8EDDCE99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161-1CC7-43CA-8B74-04051DD1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C72-77A2-480F-A30E-04823076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211-171A-4B72-9E4A-EE2C9CA8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525-E0C7-4314-A8AA-2FAD9E9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8DE2-6F54-40E0-986B-6B251349A4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04B9-7965-4A4D-B04E-FC22495C4B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aking Care of Your Teeth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ter Eating Swe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re of these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sh fru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pco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e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garless g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w Vegeta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ckles and Ol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rushing your teeth after eating sweets is important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ON’T FORGET!!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You have heard it your whole life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ting sweets leads to tooth dec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ere’s Wh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gar feed the bacteria in your mouth and starts decay by producing enamel-destroying aci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QU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lds the acid on your teeth to destroy th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full of harmful bacteria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ack your teeth for at least 20 minutes after eat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re you eat sugary foods, the more often your teeth are attacked by aci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ritical Fac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not how much sweet food you e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how often you eat it and how sticky the food i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VIEW from food pyrami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sugar you eat is in the food because of the manufactur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y to avoid processed food that contains suga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read labels careful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… Even a small amount of sugar will allow bacteria to produce decay causing aci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 are going to eat sugary foods, eat them only with me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 to brush your teeth when you are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ryday snacking should be done with a wide variety of non-sugary foo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ss of these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gar (aka: dextrose, sucrose,corn syrup, heavy syrup, and other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kies &amp; Cak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 drin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gar sweetened cere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bble gum and sugared chewing g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04:36:33Z</dcterms:created>
  <dc:creator>Shannon &amp; Criss</dc:creator>
  <dc:description/>
  <dc:language>en-US</dc:language>
  <cp:lastModifiedBy>Shannon &amp; Criss</cp:lastModifiedBy>
  <dcterms:modified xsi:type="dcterms:W3CDTF">2000-11-21T05:00:08Z</dcterms:modified>
  <cp:revision>1</cp:revision>
  <dc:subject/>
  <dc:title>Taking Care of Your Teeth </dc:title>
</cp:coreProperties>
</file>