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7B78-FFB1-4F68-9FD0-41A4D45F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89E1-B6DE-4B66-B78A-7FAF1707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2E14-3C84-42EB-9E89-28F5D861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09E-FFA0-4B7F-BD5E-04970336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87E8-0204-431A-BA19-F9B7E666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5CE0-2159-4455-BAB1-61B2E067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4A2E-8532-4902-B9FA-69C01385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5ACF-6FC3-4612-B1D8-64B7EE07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A738-7385-4588-89B3-FFFE5FD4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7A68-8D82-4CB2-88E1-9F993FAA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20DF-2E9A-4B00-95F6-C9B810D3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46FE-A4AA-44FE-91A6-B0D862DE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0D63-2D57-4A3E-93CA-C8674C31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4094-7869-4443-A388-510DAB28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E3DE-EB3B-49DC-8E51-16E6C2CC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C2FD-5DD5-4524-B66A-91B6BEE3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ECED-0913-4D9C-8BA3-FD7B35A7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888-5701-4407-97B7-31370ABD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9D52-3A1B-452B-B3BC-9729718D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F2C3-B6AE-4B6F-B89E-345E26FE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423A-813E-4789-BCFE-8CCB0F6E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C44-6E71-4D20-8667-565C6CC6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5AB-A9D7-48F9-B09B-F34EFA48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FDB-8317-4917-A4C2-AEAF681C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1060-F32E-4159-9AFA-A674B1449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C510-04CC-422B-A135-795E8B9BE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ross Walk Safety Ru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oss at the cor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left, right, and left again before cro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tch for turning c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y inside the cross wal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CROSSING%20street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3200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rossing Sign Ru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ways follow the crossing sig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y cross the street when the walk sign is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not cross when the red hand is flas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llow crossing guards dir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943600" y="1676520"/>
          <a:ext cx="244476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676520"/>
                    <a:ext cx="24447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943600" y="3886200"/>
          <a:ext cx="245412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3886200"/>
                    <a:ext cx="2454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4T21:22:56Z</dcterms:created>
  <dc:creator>ldss</dc:creator>
  <dc:description/>
  <dc:language>en-US</dc:language>
  <cp:lastModifiedBy>ldss</cp:lastModifiedBy>
  <dcterms:modified xsi:type="dcterms:W3CDTF">2001-03-04T21:53:20Z</dcterms:modified>
  <cp:revision>1</cp:revision>
  <dc:subject/>
  <dc:title>Cross Walk Safety Rules</dc:title>
</cp:coreProperties>
</file>