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2608-6CA8-466C-B1DB-3CA632A4C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5C4F-99C2-4F60-832F-4A78FA1A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6DA0-317F-4A49-A35D-B4F03B50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DD15-B12D-49D4-931A-42D253D1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20FE-F83C-47FF-935B-7949DDAF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C27C-7343-4785-A5A5-5C91DB23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7250-5D45-4A7B-830F-AE174322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61AD-6374-42F3-B7A4-01EB201F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3839-D9E4-427B-81E2-74FD3555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F2EF-2D71-47AE-AE70-5A4ADCF2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3677-3384-40C8-A1FE-45FC1E59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6203-F7F5-44BD-B868-37CA6B63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A962-B3C5-43BD-B400-FA8617CC9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50320" y="7452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 Unicode MS"/>
              </a:rPr>
              <a:t>IS5706 .TI aplicada a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4520" y="122400"/>
            <a:ext cx="3205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500" spc="-1" strike="noStrike">
                <a:solidFill>
                  <a:srgbClr val="ffffff"/>
                </a:solidFill>
                <a:latin typeface="Arial"/>
              </a:rPr>
              <a:t>Universidad Tecnológica de Méxi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rot="17994000">
            <a:off x="-458640" y="3022200"/>
            <a:ext cx="4065480" cy="573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474" y="1677"/>
                  <a:pt x="9348" y="5080"/>
                  <a:pt x="9348" y="10800"/>
                </a:cubicBezTo>
                <a:cubicBezTo>
                  <a:pt x="9348" y="16520"/>
                  <a:pt x="15474" y="1992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cccc00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rot="2227800">
            <a:off x="7669080" y="729720"/>
            <a:ext cx="1298880" cy="84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92" y="1074"/>
                  <a:pt x="5984" y="5080"/>
                  <a:pt x="5984" y="10800"/>
                </a:cubicBezTo>
                <a:cubicBezTo>
                  <a:pt x="5984" y="16520"/>
                  <a:pt x="13792" y="2052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100000">
                <a:srgbClr val="462f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V="1" rot="13210200">
            <a:off x="7921440" y="658080"/>
            <a:ext cx="1298520" cy="84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92" y="1074"/>
                  <a:pt x="5984" y="5080"/>
                  <a:pt x="5984" y="10800"/>
                </a:cubicBezTo>
                <a:cubicBezTo>
                  <a:pt x="5984" y="16520"/>
                  <a:pt x="13792" y="2052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383040" y="6539040"/>
            <a:ext cx="275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ffffff"/>
                </a:solidFill>
                <a:latin typeface="Arial"/>
              </a:rPr>
              <a:t>MTI Fernando Carlos Rivero Esque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7270920" y="4653000"/>
            <a:ext cx="1873080" cy="187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124000" y="2205000"/>
            <a:ext cx="4608720" cy="24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SC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43280" y="1844640"/>
            <a:ext cx="280836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4360" y="83664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roveedores, socios, distribu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32000" y="5373720"/>
            <a:ext cx="280836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16360" y="58770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2565360"/>
            <a:ext cx="8280360" cy="2448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3573360"/>
            <a:ext cx="1008000" cy="863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Times New Roman"/>
              </a:rPr>
              <a:t>Finanz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3645000"/>
            <a:ext cx="1008000" cy="863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Times New Roman"/>
              </a:rPr>
              <a:t>R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84360" y="2924280"/>
            <a:ext cx="1008000" cy="863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Times New Roman"/>
              </a:rPr>
              <a:t>Mk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76720" y="2708280"/>
            <a:ext cx="1008000" cy="863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Times New Roman"/>
              </a:rPr>
              <a:t>Logíst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51280" y="2349360"/>
            <a:ext cx="1008000" cy="863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51280" y="4508640"/>
            <a:ext cx="1008000" cy="863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24000" y="1413000"/>
            <a:ext cx="8208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Red de relaciones c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proveedores para 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adquisición de materias (o servicios, por ejemplo, manufactura) y entrega 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productos o servicios a trav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de distribuid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16000" y="2637000"/>
            <a:ext cx="154764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28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6920" y="2325600"/>
            <a:ext cx="106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ate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16360" y="2637000"/>
            <a:ext cx="1726920" cy="703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ábrica (Manufactu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61080" y="299736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7440" y="247032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Bi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96000" y="2637000"/>
            <a:ext cx="1512720" cy="703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istribuidor (Vended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96360" y="301932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51640" y="249228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tre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8078400" y="2871720"/>
            <a:ext cx="1081080" cy="3222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¿Por qué caden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a cadena de suministros consta de varias empresas que buscan operar eficientemente, como una sol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 necesario una comunicación efectiva de la información, coordinación de materiales y flujos financie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651640" y="1341360"/>
            <a:ext cx="181584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Objetivos SC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oordinación entre las empre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Distribución efectiva y efic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Manejo de alianzas con ca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Mejora de la respuesta al cl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0" y="549360"/>
            <a:ext cx="23414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rocesos SC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stema de captura de órdenes y fechas de entre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rogramación de entregas y distribu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stimación del proceso de manufa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ronósticos de la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dministración de invent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dministración de proveedo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dministración de distribui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716360" y="692280"/>
            <a:ext cx="179712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21:35:47Z</dcterms:created>
  <dc:creator>Administrador</dc:creator>
  <dc:description/>
  <dc:language>en-US</dc:language>
  <cp:lastModifiedBy>Administrador</cp:lastModifiedBy>
  <dcterms:modified xsi:type="dcterms:W3CDTF">2007-02-20T11:03:39Z</dcterms:modified>
  <cp:revision>95</cp:revision>
  <dc:subject/>
  <dc:title>Diapositiva 1</dc:title>
</cp:coreProperties>
</file>