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B16-505C-4BD1-892A-A3E22FC0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191-7804-4748-816C-B7B7B20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E53-776D-405A-90CF-533B74D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C1A-AC20-47CA-A3B6-97F941AB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D32-FABF-4FF0-8891-5C71542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DE3-B073-4B1D-A0BC-5B2DF50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DDA-7B98-4184-B22B-C7F6A52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A6C-57F6-4EFD-BBE6-D4AA882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429-C682-4B75-BC22-5B8A7339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ADC-77A4-4A6D-9398-84BF9DC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467-CD56-432B-A0BC-EA0B32D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2B8-85A5-4F95-AFBD-A450E43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835-A1B6-4579-BC06-2108F897E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24000" y="220500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R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184464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836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veedores, socios, distribu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537372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87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565360"/>
            <a:ext cx="8280360" cy="24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3573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64500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924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Mk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708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2349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450864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413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lumna verteb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organiz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41300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Ambiente transaccional unifi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y comunitario en donde la información fluye ent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odas las á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incipales módulos 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abilidad y Finanz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l ef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centros de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álisis de u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tas por pagar y cob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20000" y="2349360"/>
            <a:ext cx="18730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incipales módulos 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29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rcadotec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ministración de campaña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j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troalimentación del producto /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arrollo de producto /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ministración de pro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ministración de las plazas (canal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20000" y="2565360"/>
            <a:ext cx="1690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incipales módulos 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astos de re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go nó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clutamiento y sel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lan de carrera (capacit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989000"/>
            <a:ext cx="17431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incipales módulos 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laneación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trega de 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trega de pedidos /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59640" y="2349360"/>
            <a:ext cx="14986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incipales módulos 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inv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querimientos de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laneación de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1463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2-20T10:37:46Z</dcterms:modified>
  <cp:revision>83</cp:revision>
  <dc:subject/>
  <dc:title>Diapositiva 1</dc:title>
</cp:coreProperties>
</file>