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E7C-906B-4030-A283-4594E3D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2D1-FE31-4FEF-A252-B551936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EC3-54FC-40EE-A525-38DB9A21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1BC-1572-4A32-8CD7-ACDA7E2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13D-F8E9-48F0-ADB2-A95B172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E57-B0B5-4E16-81F0-746EFDA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9C8-FC96-4EC5-866A-06D2E426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38A-78B9-4CC1-83B5-CB82681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E1D-D038-493D-A604-0B5F754A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667-0267-450F-BE98-F7F68E5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6C6-9C2A-449E-9E8B-E87A1B5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D44-6F1B-45A6-9FCF-158EE0C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AB4-D8AD-4AE1-9F58-3584BBBF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24000" y="220500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R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Fases CRM (Ciclo de vida del client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2349360"/>
            <a:ext cx="1728720" cy="18003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635280" y="3357720"/>
            <a:ext cx="1728720" cy="1800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360 h 1800000"/>
              <a:gd name="textAreaBottom" fmla="*/ 1800720 h 180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0360" y="17002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31960" cy="100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378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ercadotec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lifica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puesta pronta a los requer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dministración de los contactos (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2133720"/>
            <a:ext cx="31305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keting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utomatización de la fuerza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lendarios para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rec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uimiento con fases de la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nó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Fases CRM (Ciclo de vida del client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1700280"/>
            <a:ext cx="2881080" cy="302400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842200" y="2707560"/>
            <a:ext cx="2881080" cy="3024360"/>
          </a:xfrm>
          <a:custGeom>
            <a:avLst/>
            <a:gdLst>
              <a:gd name="textAreaLeft" fmla="*/ -360 w 2881080"/>
              <a:gd name="textAreaRight" fmla="*/ 2881080 w 2881080"/>
              <a:gd name="textAreaTop" fmla="*/ -360 h 3024360"/>
              <a:gd name="textAreaBottom" fmla="*/ 3024360 h 3024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3840" y="1700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j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262584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ntas mejoradas y cruzadas (Up sell y corss se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Administración de los contactos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637000"/>
            <a:ext cx="26258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SS (Sistemas de Soporte a la Toma de decis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654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Fases CRM (Ciclo de vida del client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1700280"/>
            <a:ext cx="2881080" cy="302400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42200" y="2707560"/>
            <a:ext cx="2881080" cy="3024360"/>
          </a:xfrm>
          <a:custGeom>
            <a:avLst/>
            <a:gdLst>
              <a:gd name="textAreaLeft" fmla="*/ -360 w 2881080"/>
              <a:gd name="textAreaRight" fmla="*/ 2881080 w 2881080"/>
              <a:gd name="textAreaTop" fmla="*/ -360 h 3024360"/>
              <a:gd name="textAreaBottom" fmla="*/ 3024360 h 3024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63480" y="1700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26258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Servicio al cliente y so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 de recompensas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Administración de los contactos (C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2637000"/>
            <a:ext cx="26258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s de lealtad (pu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184464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836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veedores, socios, distribu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537372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87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565360"/>
            <a:ext cx="8280360" cy="24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3573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64500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924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Mk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708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2349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450864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413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Qué cuesta má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¿Atraer a un nuevo clie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Retener a uno existe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413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Un cliente insatisfecho o mole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municará a 8 ó 10 personas su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dministración de la Relación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Es un soft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Es un departame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Es un proce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alí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dministración de los momentos de ver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ctividades relacionadas principalmente 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del 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crementar el ingreso a través de las re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jora en 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jora en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jora en la experienci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eación de 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Times New Roman"/>
              </a:rPr>
              <a:t>Fases CRM (Ciclo de vida del client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1700280"/>
            <a:ext cx="2881080" cy="302400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42200" y="2707560"/>
            <a:ext cx="2881080" cy="3024360"/>
          </a:xfrm>
          <a:custGeom>
            <a:avLst/>
            <a:gdLst>
              <a:gd name="textAreaLeft" fmla="*/ -360 w 2881080"/>
              <a:gd name="textAreaRight" fmla="*/ 2881080 w 2881080"/>
              <a:gd name="textAreaTop" fmla="*/ -360 h 3024360"/>
              <a:gd name="textAreaBottom" fmla="*/ 3024360 h 3024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71640" y="2492280"/>
            <a:ext cx="1672920" cy="2232000"/>
            <a:chOff x="971640" y="2492280"/>
            <a:chExt cx="1672920" cy="2232000"/>
          </a:xfrm>
        </p:grpSpPr>
        <p:sp>
          <p:nvSpPr>
            <p:cNvPr id="75" name=""/>
            <p:cNvSpPr/>
            <p:nvPr/>
          </p:nvSpPr>
          <p:spPr>
            <a:xfrm>
              <a:off x="972000" y="249228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Adqui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971640" y="2928960"/>
              <a:ext cx="1482480" cy="17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5867640" y="2349360"/>
            <a:ext cx="1800000" cy="1787760"/>
            <a:chOff x="5867640" y="2349360"/>
            <a:chExt cx="1800000" cy="1787760"/>
          </a:xfrm>
        </p:grpSpPr>
        <p:sp>
          <p:nvSpPr>
            <p:cNvPr id="78" name=""/>
            <p:cNvSpPr/>
            <p:nvPr/>
          </p:nvSpPr>
          <p:spPr>
            <a:xfrm>
              <a:off x="5867640" y="234936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Mej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227640" y="2997360"/>
              <a:ext cx="1440000" cy="11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4643280" y="5157720"/>
            <a:ext cx="2354760" cy="1341360"/>
            <a:chOff x="4643280" y="5157720"/>
            <a:chExt cx="2354760" cy="1341360"/>
          </a:xfrm>
        </p:grpSpPr>
        <p:sp>
          <p:nvSpPr>
            <p:cNvPr id="81" name=""/>
            <p:cNvSpPr/>
            <p:nvPr/>
          </p:nvSpPr>
          <p:spPr>
            <a:xfrm>
              <a:off x="5580000" y="515772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eten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4643280" y="5445000"/>
              <a:ext cx="1405080" cy="10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2-20T23:16:08Z</dcterms:modified>
  <cp:revision>76</cp:revision>
  <dc:subject/>
  <dc:title>Diapositiva 1</dc:title>
</cp:coreProperties>
</file>