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7DD-F8BA-400F-937A-E5FCCC18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97E-2FCE-47CF-BA6B-AE9D50C3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158-417B-413C-B74F-64C077C0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1B8-6F8D-418E-B661-B47CAC63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89F-32F8-48E6-89C6-B0806C9F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9DC-12D1-4ED0-BCEF-7F504BF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410-854A-4E38-BE3D-EE97AE39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CBD-E228-4BA6-9E3B-70B77146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B89-EC40-4276-A309-37A72485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593-D861-4C51-9348-F48CE174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A20-AF68-4FAB-8A79-CF38565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CD9-992F-430E-8D6D-6A9BEB06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1FB-A162-45DA-BE84-2E68323D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pacientes son atendidos en una sola sala por doctores que les son asignados. Normalmente cada paciente tendrá asignado un solo doctor. En casos especiales tendrán a 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enfermeras también atienden a los pacientes y un número determinado de enfermeras se encuentra asociado a cada s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cialmente el Sistema de Información debe de encargarse solamente de la administración de medicinas a los pacientes. Cada paciente debe de tomar varias medicinas, un número determinado de veces al día y las dosis de las mismas se espacian de forma disti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18560" y="6237360"/>
            <a:ext cx="3301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Profesor Harman, U. San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Luis. Missou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413000"/>
            <a:ext cx="82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Sistema de Información necesitará mantener un registro de los detalles concernientes al tratamiento de cada paciente y el pago del personal que lo atiende. Existe personal que se le paga medio tiempo. Cuando el personal trabaja horas extras se le pagan éstas a tarifas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nalmente el sistema debe de llevar la administración de cuándo y qué tratamientos necesitan qué pacientes y debe de ser capaz de calcular el costo del tratamiento por semana para cada pacient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ómo comenz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77336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ndo las entidades (normalmente son sustan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ndo las relaciones (normalmente son verb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ñadiendo atributos a las 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685800"/>
            <a:ext cx="758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¿Qué se puede conocer con nuestro Sistema de Informació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77336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doctores trabajan en qué sa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nto puede gastarse en una semana en salarios para una sa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nto costará tratar a un pac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nto se le pagará a un doctor a la sem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enfermeras pueden esperar los pacientes que los atiend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medicinas se us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484280"/>
            <a:ext cx="2448000" cy="1225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3068640"/>
            <a:ext cx="2583000" cy="1222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724280"/>
            <a:ext cx="2990880" cy="13478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92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92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192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192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1-27T03:21:47Z</dcterms:modified>
  <cp:revision>46</cp:revision>
  <dc:subject/>
  <dc:title>Diapositiva 1</dc:title>
</cp:coreProperties>
</file>