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792-7B89-41AC-86CB-F51D1968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FA3-EE81-4455-B3AE-DA77E014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997-39F2-47ED-8B7E-C726948C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ABD-5E45-4553-84A2-295BC15E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BDD-AC59-4A47-888C-BCDEBAFF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618-B22E-4B91-A035-C9E1DFEA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CBB-9C21-4017-8128-A2EEEF4E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4CD-CE09-4A98-9D1C-0937426D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257-9A6A-41D8-87C1-A796B647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985-B0C1-4E5C-90F0-32E5A09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D79-7C4D-4D38-80A2-F0DB3B9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4D5-E824-461F-A494-87A32DF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3E60-F766-45E3-AD71-6A68C1AB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16000" y="2349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ases de Da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2640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ienen datos tipo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negocio (hech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92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92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192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192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97544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sociación lógica de los campos de una tab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nen la información en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yudan a evitar el tener una sola tabla masiva con todos los datos y camp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685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414520" y="777960"/>
          <a:ext cx="1038240" cy="79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777960"/>
                    <a:ext cx="103824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66680" y="2438280"/>
            <a:ext cx="70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laves primaria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abilitan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666880" y="3429000"/>
          <a:ext cx="36324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429000"/>
                    <a:ext cx="36324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304920" y="685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1219320" y="1708200"/>
            <a:ext cx="2438280" cy="2406600"/>
            <a:chOff x="1219320" y="1708200"/>
            <a:chExt cx="2438280" cy="2406600"/>
          </a:xfrm>
        </p:grpSpPr>
        <p:sp>
          <p:nvSpPr>
            <p:cNvPr id="512" name=""/>
            <p:cNvSpPr/>
            <p:nvPr/>
          </p:nvSpPr>
          <p:spPr>
            <a:xfrm>
              <a:off x="1219320" y="2286000"/>
              <a:ext cx="24382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01200" y="1708200"/>
              <a:ext cx="20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alumn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39640" y="2360520"/>
              <a:ext cx="2210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atricul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nomb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semest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19320" y="29718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35049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364000" y="1752480"/>
            <a:ext cx="2581560" cy="2406600"/>
            <a:chOff x="5364000" y="1752480"/>
            <a:chExt cx="2581560" cy="2406600"/>
          </a:xfrm>
        </p:grpSpPr>
        <p:sp>
          <p:nvSpPr>
            <p:cNvPr id="518" name=""/>
            <p:cNvSpPr/>
            <p:nvPr/>
          </p:nvSpPr>
          <p:spPr>
            <a:xfrm>
              <a:off x="5364000" y="2330280"/>
              <a:ext cx="24382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72520" y="1752480"/>
              <a:ext cx="153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carr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71720" y="2495160"/>
              <a:ext cx="2373840" cy="16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900" spc="-1" strike="noStrike">
                  <a:solidFill>
                    <a:srgbClr val="000000"/>
                  </a:solidFill>
                  <a:latin typeface="Tahoma"/>
                </a:rPr>
                <a:t>identificador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ar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64000" y="3016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64000" y="354924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914400" y="441972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queremos relacionar que alumno tiene que auto tenemos que poder unir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219320" y="1206360"/>
            <a:ext cx="2438280" cy="2406600"/>
            <a:chOff x="1219320" y="1206360"/>
            <a:chExt cx="2438280" cy="2406600"/>
          </a:xfrm>
        </p:grpSpPr>
        <p:sp>
          <p:nvSpPr>
            <p:cNvPr id="526" name=""/>
            <p:cNvSpPr/>
            <p:nvPr/>
          </p:nvSpPr>
          <p:spPr>
            <a:xfrm>
              <a:off x="1219320" y="1784160"/>
              <a:ext cx="24382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01200" y="1206360"/>
              <a:ext cx="20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alumn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39640" y="1858680"/>
              <a:ext cx="2210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atricul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nomb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semest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19320" y="24699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19320" y="3003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638680" y="1251000"/>
            <a:ext cx="3230280" cy="2406600"/>
            <a:chOff x="5638680" y="1251000"/>
            <a:chExt cx="3230280" cy="2406600"/>
          </a:xfrm>
        </p:grpSpPr>
        <p:sp>
          <p:nvSpPr>
            <p:cNvPr id="532" name=""/>
            <p:cNvSpPr/>
            <p:nvPr/>
          </p:nvSpPr>
          <p:spPr>
            <a:xfrm>
              <a:off x="5638680" y="1828800"/>
              <a:ext cx="24382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7200" y="1251000"/>
              <a:ext cx="153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carr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45040" y="1903320"/>
              <a:ext cx="2923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ahoma"/>
                </a:rPr>
                <a:t>identificador</a:t>
              </a: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ar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38680" y="25146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38680" y="30477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295280" y="1860480"/>
            <a:ext cx="298440" cy="568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715000" y="1860480"/>
            <a:ext cx="298440" cy="5684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990720" y="42670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 elegimos el campo llave por medio del cual llevaremos a cabo la un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5715000" y="1371600"/>
            <a:ext cx="2653920" cy="2406600"/>
            <a:chOff x="5715000" y="1371600"/>
            <a:chExt cx="2653920" cy="2406600"/>
          </a:xfrm>
        </p:grpSpPr>
        <p:sp>
          <p:nvSpPr>
            <p:cNvPr id="541" name=""/>
            <p:cNvSpPr/>
            <p:nvPr/>
          </p:nvSpPr>
          <p:spPr>
            <a:xfrm>
              <a:off x="5715000" y="1949400"/>
              <a:ext cx="24382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3520" y="1371600"/>
              <a:ext cx="153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carr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19120" y="2101680"/>
              <a:ext cx="244980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ahoma"/>
                </a:rPr>
                <a:t>identificado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ahoma"/>
                </a:rPr>
                <a:t>mar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5000" y="2635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15000" y="31683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98440" cy="5684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914400" y="441972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agregamos uno de los campo llaves a 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b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asara a ser una llave secundari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o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95280" y="1905120"/>
            <a:ext cx="243864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77520" y="13273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alum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6840" y="2023920"/>
            <a:ext cx="2449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matri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no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seme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95280" y="2590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952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298440" cy="5684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295280" y="3733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780000" y="2421000"/>
            <a:ext cx="1944360" cy="17287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1116000" y="2349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odelos de Da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0" t="0" r="0" b="67511"/>
          <a:stretch/>
        </p:blipFill>
        <p:spPr>
          <a:xfrm>
            <a:off x="324000" y="1508040"/>
            <a:ext cx="6769080" cy="17892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rcRect l="0" t="32702" r="0" b="28061"/>
          <a:stretch/>
        </p:blipFill>
        <p:spPr>
          <a:xfrm>
            <a:off x="826920" y="3224160"/>
            <a:ext cx="6769440" cy="2160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rcRect l="0" t="72759" r="0" b="0"/>
          <a:stretch/>
        </p:blipFill>
        <p:spPr>
          <a:xfrm>
            <a:off x="1763640" y="5313240"/>
            <a:ext cx="6769080" cy="15004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619280" y="690840"/>
            <a:ext cx="6275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modelo es una representación simplificada o abstracción de la realidad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s de D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9640" y="17715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lógico de da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 modelo de tip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analógic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que a través de arreglos de datos contextuales, medidas y relaciones representan a u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00000" y="32058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L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ltidimensional (Copo de Nieve y Estre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es un E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95280" y="1773360"/>
            <a:ext cx="7250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onentes de un Diagrama Entidad – Re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es un RDB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523880"/>
            <a:ext cx="2590560" cy="2895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55520" y="4724280"/>
            <a:ext cx="72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positorio de información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ructura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on dat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rden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lacion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00400" y="2362320"/>
            <a:ext cx="609480" cy="990360"/>
            <a:chOff x="3200400" y="2362320"/>
            <a:chExt cx="609480" cy="990360"/>
          </a:xfrm>
        </p:grpSpPr>
        <p:sp>
          <p:nvSpPr>
            <p:cNvPr id="54" name=""/>
            <p:cNvSpPr/>
            <p:nvPr/>
          </p:nvSpPr>
          <p:spPr>
            <a:xfrm>
              <a:off x="3352680" y="2362320"/>
              <a:ext cx="756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864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0496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81280" y="2362320"/>
              <a:ext cx="756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0400" y="236232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24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0040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0400" y="32763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0400" y="32004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0400" y="31240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0477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0400" y="29718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0400" y="28954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00400" y="28191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00400" y="27432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26668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25905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00400" y="25146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4382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76920" y="2514600"/>
            <a:ext cx="533160" cy="609480"/>
            <a:chOff x="4876920" y="2514600"/>
            <a:chExt cx="533160" cy="609480"/>
          </a:xfrm>
        </p:grpSpPr>
        <p:sp>
          <p:nvSpPr>
            <p:cNvPr id="76" name=""/>
            <p:cNvSpPr/>
            <p:nvPr/>
          </p:nvSpPr>
          <p:spPr>
            <a:xfrm>
              <a:off x="5010120" y="2514600"/>
              <a:ext cx="662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767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33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09920" y="2514600"/>
              <a:ext cx="662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251460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765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431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435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69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6920" y="307692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3048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298332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920" y="293652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8972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284256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6920" y="279576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6920" y="274896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920" y="270216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265500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260820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6920" y="256140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91120" y="2438280"/>
            <a:ext cx="457200" cy="990720"/>
            <a:chOff x="4191120" y="2438280"/>
            <a:chExt cx="457200" cy="990720"/>
          </a:xfrm>
        </p:grpSpPr>
        <p:sp>
          <p:nvSpPr>
            <p:cNvPr id="98" name=""/>
            <p:cNvSpPr/>
            <p:nvPr/>
          </p:nvSpPr>
          <p:spPr>
            <a:xfrm>
              <a:off x="430524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6248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972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7696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1120" y="24382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3384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108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4800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33526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32767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32004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31240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0481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29718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28954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28195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91120" y="27432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26668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25909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25146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00600" y="3581280"/>
            <a:ext cx="609480" cy="609840"/>
            <a:chOff x="4800600" y="3581280"/>
            <a:chExt cx="609480" cy="609840"/>
          </a:xfrm>
        </p:grpSpPr>
        <p:sp>
          <p:nvSpPr>
            <p:cNvPr id="120" name=""/>
            <p:cNvSpPr/>
            <p:nvPr/>
          </p:nvSpPr>
          <p:spPr>
            <a:xfrm>
              <a:off x="49528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88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051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35812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74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37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5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41439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409716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40503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600" y="40032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0600" y="39564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0600" y="39096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38624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38160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37688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37216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00600" y="367524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36280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429000" y="3581280"/>
            <a:ext cx="609480" cy="609840"/>
            <a:chOff x="3429000" y="3581280"/>
            <a:chExt cx="609480" cy="609840"/>
          </a:xfrm>
        </p:grpSpPr>
        <p:sp>
          <p:nvSpPr>
            <p:cNvPr id="142" name=""/>
            <p:cNvSpPr/>
            <p:nvPr/>
          </p:nvSpPr>
          <p:spPr>
            <a:xfrm>
              <a:off x="35812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2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5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35812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58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1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49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900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41439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409716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40503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40032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9000" y="39564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9000" y="39096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9000" y="38624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8160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7688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37216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367524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6280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74920" y="2781360"/>
            <a:ext cx="1296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56000" y="3355920"/>
            <a:ext cx="1297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04000" y="4076640"/>
            <a:ext cx="1297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82920" y="5229360"/>
            <a:ext cx="1297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89440" y="1413000"/>
            <a:ext cx="1150920" cy="71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4920" y="1268280"/>
            <a:ext cx="136836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1557360"/>
            <a:ext cx="136836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é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>
            <a:stCxn id="568" idx="0"/>
            <a:endCxn id="574" idx="5"/>
          </p:cNvCxnSpPr>
          <p:nvPr/>
        </p:nvCxnSpPr>
        <p:spPr>
          <a:xfrm flipH="1" flipV="1">
            <a:off x="1168200" y="2171160"/>
            <a:ext cx="956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8" idx="0"/>
            <a:endCxn id="572" idx="3"/>
          </p:cNvCxnSpPr>
          <p:nvPr/>
        </p:nvCxnSpPr>
        <p:spPr>
          <a:xfrm flipV="1">
            <a:off x="2123640" y="2026440"/>
            <a:ext cx="103392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8" idx="0"/>
            <a:endCxn id="573" idx="4"/>
          </p:cNvCxnSpPr>
          <p:nvPr/>
        </p:nvCxnSpPr>
        <p:spPr>
          <a:xfrm flipV="1">
            <a:off x="2123640" y="1986840"/>
            <a:ext cx="356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6084720" y="1844640"/>
            <a:ext cx="115128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0560" y="1700280"/>
            <a:ext cx="1368360" cy="71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"/>
          <p:cNvCxnSpPr>
            <a:endCxn id="578" idx="3"/>
          </p:cNvCxnSpPr>
          <p:nvPr/>
        </p:nvCxnSpPr>
        <p:spPr>
          <a:xfrm flipV="1">
            <a:off x="5219280" y="2458800"/>
            <a:ext cx="1033920" cy="75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1" name=""/>
          <p:cNvCxnSpPr>
            <a:endCxn id="579" idx="4"/>
          </p:cNvCxnSpPr>
          <p:nvPr/>
        </p:nvCxnSpPr>
        <p:spPr>
          <a:xfrm flipV="1">
            <a:off x="5219280" y="2418480"/>
            <a:ext cx="356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877080" y="2781360"/>
            <a:ext cx="1366920" cy="71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5445000"/>
            <a:ext cx="201600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. as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"/>
          <p:cNvCxnSpPr>
            <a:stCxn id="570" idx="0"/>
            <a:endCxn id="582" idx="4"/>
          </p:cNvCxnSpPr>
          <p:nvPr/>
        </p:nvCxnSpPr>
        <p:spPr>
          <a:xfrm flipV="1">
            <a:off x="7453440" y="3499560"/>
            <a:ext cx="108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70" idx="2"/>
            <a:endCxn id="583" idx="0"/>
          </p:cNvCxnSpPr>
          <p:nvPr/>
        </p:nvCxnSpPr>
        <p:spPr>
          <a:xfrm flipH="1">
            <a:off x="7450920" y="479700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2411280" y="3860640"/>
            <a:ext cx="136692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8360" y="4941720"/>
            <a:ext cx="136692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"/>
          <p:cNvCxnSpPr>
            <a:stCxn id="571" idx="0"/>
            <a:endCxn id="586" idx="4"/>
          </p:cNvCxnSpPr>
          <p:nvPr/>
        </p:nvCxnSpPr>
        <p:spPr>
          <a:xfrm flipH="1" flipV="1">
            <a:off x="3094920" y="4579560"/>
            <a:ext cx="370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71" idx="1"/>
            <a:endCxn id="587" idx="6"/>
          </p:cNvCxnSpPr>
          <p:nvPr/>
        </p:nvCxnSpPr>
        <p:spPr>
          <a:xfrm flipH="1" flipV="1">
            <a:off x="1834560" y="5301360"/>
            <a:ext cx="64836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90" name=""/>
          <p:cNvGrpSpPr/>
          <p:nvPr/>
        </p:nvGrpSpPr>
        <p:grpSpPr>
          <a:xfrm>
            <a:off x="2195640" y="3068640"/>
            <a:ext cx="4608360" cy="2089080"/>
            <a:chOff x="2195640" y="3068640"/>
            <a:chExt cx="4608360" cy="2089080"/>
          </a:xfrm>
        </p:grpSpPr>
        <p:sp>
          <p:nvSpPr>
            <p:cNvPr id="591" name=""/>
            <p:cNvSpPr/>
            <p:nvPr/>
          </p:nvSpPr>
          <p:spPr>
            <a:xfrm>
              <a:off x="2916360" y="3068640"/>
              <a:ext cx="143964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96000" y="3716280"/>
              <a:ext cx="1008000" cy="649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95640" y="3500280"/>
              <a:ext cx="360360" cy="165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92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92" fill="hold"/>
                                        <p:tgtEl>
                                          <p:spTgt spid="5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192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192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5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155736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pacientes son atendidos en una sola sala por doctores que les son asignados. Normalmente cada paciente tendrá asignado un solo doctor. En casos especiales tendrán a 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enfermeras también atienden a los pacientes y un número determinado de enfermeras se encuentra asociado a cada s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lmente el Sistema de Información debe de encargarse solamente de la administración de medicinas a los pacientes. Cada paciente debe de tomar varias medicinas, un número determinado de veces al día y las dosis de las mismas se espacian de forma disti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18560" y="6237360"/>
            <a:ext cx="3301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Profesor Harman, U. San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Luis. Missou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4000" y="1413000"/>
            <a:ext cx="82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Sistema de Información necesitará mantener un registro de los detalles concernientes al tratamiento de cada paciente y el pago del personal que lo atiende. Existe personal que se le paga medio tiempo. Cuando el personal trabaja horas extras se le pagan éstas a tarifas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nalmente el sistema debe de llevar la administración de cuándo y qué tratamientos necesitan qué pacientes y debe de ser capaz de calcular el costo del tratamiento por semana para cada pacient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ómo comenz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5280" y="177336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ndo las entidades (normalmente son sustan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ndo las relaciones (normalmente son verb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ñadiendo atributos a las 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04920" y="685800"/>
            <a:ext cx="758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¿Qué se puede conocer con nuestro Sistema de Informació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5280" y="177336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doctores trabajan en qué sa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nto puede gastarse en una semana en salarios para una sa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nto costará tratar a un pac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nto se le pagará a un doctor a la sem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enfermeras pueden esperar los pacientes que los atiend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medicinas se us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71640" y="1484280"/>
            <a:ext cx="2448000" cy="1225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32000" y="3068640"/>
            <a:ext cx="2583000" cy="1222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64000" y="4724280"/>
            <a:ext cx="2990880" cy="13478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92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92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92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92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04920" y="685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rte de un ERD (faltan los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71640" y="1484280"/>
            <a:ext cx="1512720" cy="757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92360" y="1268280"/>
            <a:ext cx="2303640" cy="1224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ten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 / ati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16000" y="4869000"/>
            <a:ext cx="1513080" cy="75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fer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3640" y="1557360"/>
            <a:ext cx="1513080" cy="75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o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20000" y="5373720"/>
            <a:ext cx="1512720" cy="75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2720" y="2709720"/>
            <a:ext cx="2303640" cy="1224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ten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 / ati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19640" y="3357720"/>
            <a:ext cx="2592360" cy="1223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n atend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/ albe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64000" y="5084640"/>
            <a:ext cx="2303280" cy="1224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án asoci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588000" y="2997360"/>
            <a:ext cx="2303640" cy="1223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án asoci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0"/>
            <a:endCxn id="608" idx="2"/>
          </p:cNvCxnSpPr>
          <p:nvPr/>
        </p:nvCxnSpPr>
        <p:spPr>
          <a:xfrm flipH="1" flipV="1">
            <a:off x="1728360" y="2241360"/>
            <a:ext cx="37440" cy="46872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18" name=""/>
          <p:cNvCxnSpPr>
            <a:stCxn id="610" idx="0"/>
            <a:endCxn id="613" idx="2"/>
          </p:cNvCxnSpPr>
          <p:nvPr/>
        </p:nvCxnSpPr>
        <p:spPr>
          <a:xfrm flipH="1" flipV="1">
            <a:off x="1764720" y="3933360"/>
            <a:ext cx="108360" cy="93600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19" name=""/>
          <p:cNvCxnSpPr>
            <a:stCxn id="614" idx="1"/>
            <a:endCxn id="608" idx="3"/>
          </p:cNvCxnSpPr>
          <p:nvPr/>
        </p:nvCxnSpPr>
        <p:spPr>
          <a:xfrm flipH="1" flipV="1">
            <a:off x="2484000" y="1863360"/>
            <a:ext cx="936000" cy="21074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0" name=""/>
          <p:cNvCxnSpPr>
            <a:stCxn id="615" idx="1"/>
            <a:endCxn id="610" idx="3"/>
          </p:cNvCxnSpPr>
          <p:nvPr/>
        </p:nvCxnSpPr>
        <p:spPr>
          <a:xfrm flipH="1" flipV="1">
            <a:off x="2628360" y="5247720"/>
            <a:ext cx="935640" cy="4496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1" name=""/>
          <p:cNvCxnSpPr>
            <a:stCxn id="614" idx="3"/>
            <a:endCxn id="612" idx="1"/>
          </p:cNvCxnSpPr>
          <p:nvPr/>
        </p:nvCxnSpPr>
        <p:spPr>
          <a:xfrm>
            <a:off x="6012000" y="3970440"/>
            <a:ext cx="1008720" cy="17834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2" name=""/>
          <p:cNvCxnSpPr>
            <a:stCxn id="616" idx="0"/>
            <a:endCxn id="611" idx="2"/>
          </p:cNvCxnSpPr>
          <p:nvPr/>
        </p:nvCxnSpPr>
        <p:spPr>
          <a:xfrm flipH="1" flipV="1">
            <a:off x="7200360" y="2313720"/>
            <a:ext cx="540360" cy="6836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3" name=""/>
          <p:cNvCxnSpPr>
            <a:stCxn id="612" idx="1"/>
            <a:endCxn id="615" idx="3"/>
          </p:cNvCxnSpPr>
          <p:nvPr/>
        </p:nvCxnSpPr>
        <p:spPr>
          <a:xfrm flipH="1" flipV="1">
            <a:off x="5866920" y="5696640"/>
            <a:ext cx="1153440" cy="5652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4" name=""/>
          <p:cNvCxnSpPr>
            <a:stCxn id="611" idx="1"/>
            <a:endCxn id="609" idx="3"/>
          </p:cNvCxnSpPr>
          <p:nvPr/>
        </p:nvCxnSpPr>
        <p:spPr>
          <a:xfrm flipH="1" flipV="1">
            <a:off x="5795280" y="1881000"/>
            <a:ext cx="648360" cy="5616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5" name=""/>
          <p:cNvCxnSpPr>
            <a:stCxn id="612" idx="0"/>
            <a:endCxn id="616" idx="2"/>
          </p:cNvCxnSpPr>
          <p:nvPr/>
        </p:nvCxnSpPr>
        <p:spPr>
          <a:xfrm flipH="1" flipV="1">
            <a:off x="7740000" y="4220640"/>
            <a:ext cx="37080" cy="11534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626" name=""/>
          <p:cNvCxnSpPr>
            <a:stCxn id="608" idx="3"/>
            <a:endCxn id="609" idx="1"/>
          </p:cNvCxnSpPr>
          <p:nvPr/>
        </p:nvCxnSpPr>
        <p:spPr>
          <a:xfrm>
            <a:off x="2484360" y="1863360"/>
            <a:ext cx="1008720" cy="1836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685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onente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1523880"/>
            <a:ext cx="2590560" cy="2895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00400" y="2362320"/>
            <a:ext cx="609480" cy="990360"/>
            <a:chOff x="3200400" y="2362320"/>
            <a:chExt cx="609480" cy="990360"/>
          </a:xfrm>
        </p:grpSpPr>
        <p:sp>
          <p:nvSpPr>
            <p:cNvPr id="167" name=""/>
            <p:cNvSpPr/>
            <p:nvPr/>
          </p:nvSpPr>
          <p:spPr>
            <a:xfrm>
              <a:off x="3352680" y="2362320"/>
              <a:ext cx="756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864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496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1280" y="2362320"/>
              <a:ext cx="756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236232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24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56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636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0400" y="2362320"/>
              <a:ext cx="75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00400" y="32763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32004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1240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400" y="30477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0400" y="29718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28954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0400" y="28191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0400" y="27432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26668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00400" y="259056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0400" y="2514600"/>
              <a:ext cx="6094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2438280"/>
              <a:ext cx="6094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876920" y="2514600"/>
            <a:ext cx="533160" cy="609480"/>
            <a:chOff x="4876920" y="2514600"/>
            <a:chExt cx="533160" cy="609480"/>
          </a:xfrm>
        </p:grpSpPr>
        <p:sp>
          <p:nvSpPr>
            <p:cNvPr id="189" name=""/>
            <p:cNvSpPr/>
            <p:nvPr/>
          </p:nvSpPr>
          <p:spPr>
            <a:xfrm>
              <a:off x="5010120" y="2514600"/>
              <a:ext cx="662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67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33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09920" y="2514600"/>
              <a:ext cx="662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251460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65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31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435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6920" y="2514600"/>
              <a:ext cx="66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307692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03048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298332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6920" y="293652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76920" y="288972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6920" y="284256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6920" y="279576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274896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6920" y="270216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76920" y="265500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608200"/>
              <a:ext cx="53316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2561400"/>
              <a:ext cx="53316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91120" y="2438280"/>
            <a:ext cx="457200" cy="990720"/>
            <a:chOff x="4191120" y="2438280"/>
            <a:chExt cx="457200" cy="990720"/>
          </a:xfrm>
        </p:grpSpPr>
        <p:sp>
          <p:nvSpPr>
            <p:cNvPr id="211" name=""/>
            <p:cNvSpPr/>
            <p:nvPr/>
          </p:nvSpPr>
          <p:spPr>
            <a:xfrm>
              <a:off x="430524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248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972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696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91120" y="24382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3384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9108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800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1120" y="2438280"/>
              <a:ext cx="56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91120" y="33526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91120" y="32767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32004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91120" y="31240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30481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1120" y="29718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1120" y="28954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1120" y="28195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1120" y="27432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266688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91120" y="2590920"/>
              <a:ext cx="4572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91120" y="2514600"/>
              <a:ext cx="4572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600" y="3581280"/>
            <a:ext cx="609480" cy="609840"/>
            <a:chOff x="4800600" y="3581280"/>
            <a:chExt cx="609480" cy="609840"/>
          </a:xfrm>
        </p:grpSpPr>
        <p:sp>
          <p:nvSpPr>
            <p:cNvPr id="233" name=""/>
            <p:cNvSpPr/>
            <p:nvPr/>
          </p:nvSpPr>
          <p:spPr>
            <a:xfrm>
              <a:off x="49528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88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00600" y="35812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574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37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65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060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00600" y="41439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409716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40503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00600" y="40032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00600" y="39564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39096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0600" y="38624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00600" y="38160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00600" y="37688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00600" y="37216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0600" y="367524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00600" y="36280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429000" y="3581280"/>
            <a:ext cx="609480" cy="609840"/>
            <a:chOff x="3429000" y="3581280"/>
            <a:chExt cx="609480" cy="609840"/>
          </a:xfrm>
        </p:grpSpPr>
        <p:sp>
          <p:nvSpPr>
            <p:cNvPr id="255" name=""/>
            <p:cNvSpPr/>
            <p:nvPr/>
          </p:nvSpPr>
          <p:spPr>
            <a:xfrm>
              <a:off x="35812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572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5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9880" y="3581280"/>
              <a:ext cx="75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9000" y="35812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584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621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496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9000" y="3581280"/>
              <a:ext cx="759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9000" y="41439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409716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405036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40032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39564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90960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38624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9000" y="381600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376884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37216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29000" y="3675240"/>
              <a:ext cx="609480" cy="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3628080"/>
              <a:ext cx="609480" cy="4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61960" y="2514240"/>
            <a:ext cx="3048480" cy="1395720"/>
            <a:chOff x="2361960" y="2514240"/>
            <a:chExt cx="3048480" cy="1395720"/>
          </a:xfrm>
        </p:grpSpPr>
        <p:cxnSp>
          <p:nvCxnSpPr>
            <p:cNvPr id="277" name=""/>
            <p:cNvCxnSpPr>
              <a:stCxn id="165" idx="3"/>
              <a:endCxn id="182" idx="2"/>
            </p:cNvCxnSpPr>
            <p:nvPr/>
          </p:nvCxnSpPr>
          <p:spPr>
            <a:xfrm>
              <a:off x="2361960" y="2514600"/>
              <a:ext cx="1143720" cy="3816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165" idx="3"/>
              <a:endCxn id="270" idx="2"/>
            </p:cNvCxnSpPr>
            <p:nvPr/>
          </p:nvCxnSpPr>
          <p:spPr>
            <a:xfrm>
              <a:off x="2362320" y="2514600"/>
              <a:ext cx="1372320" cy="139572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279" name=""/>
            <p:cNvCxnSpPr>
              <a:stCxn id="165" idx="3"/>
              <a:endCxn id="231" idx="0"/>
            </p:cNvCxnSpPr>
            <p:nvPr/>
          </p:nvCxnSpPr>
          <p:spPr>
            <a:xfrm>
              <a:off x="2361960" y="2514240"/>
              <a:ext cx="2057760" cy="10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165" idx="3"/>
              <a:endCxn id="250" idx="2"/>
            </p:cNvCxnSpPr>
            <p:nvPr/>
          </p:nvCxnSpPr>
          <p:spPr>
            <a:xfrm>
              <a:off x="2362320" y="2514600"/>
              <a:ext cx="2743920" cy="13024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endCxn id="203" idx="3"/>
            </p:cNvCxnSpPr>
            <p:nvPr/>
          </p:nvCxnSpPr>
          <p:spPr>
            <a:xfrm>
              <a:off x="2362320" y="2514240"/>
              <a:ext cx="3048480" cy="35316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282" name=""/>
          <p:cNvSpPr/>
          <p:nvPr/>
        </p:nvSpPr>
        <p:spPr>
          <a:xfrm>
            <a:off x="1828800" y="47242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n estructuras que contiene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08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25840" y="4927680"/>
            <a:ext cx="44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lmacenados dentro de l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33920" y="1295280"/>
            <a:ext cx="3350520" cy="3123000"/>
            <a:chOff x="3733920" y="1295280"/>
            <a:chExt cx="3350520" cy="3123000"/>
          </a:xfrm>
        </p:grpSpPr>
        <p:grpSp>
          <p:nvGrpSpPr>
            <p:cNvPr id="286" name=""/>
            <p:cNvGrpSpPr/>
            <p:nvPr/>
          </p:nvGrpSpPr>
          <p:grpSpPr>
            <a:xfrm>
              <a:off x="3733920" y="1295280"/>
              <a:ext cx="3350520" cy="3123000"/>
              <a:chOff x="3733920" y="1295280"/>
              <a:chExt cx="3350520" cy="3123000"/>
            </a:xfrm>
          </p:grpSpPr>
          <p:sp>
            <p:nvSpPr>
              <p:cNvPr id="287" name=""/>
              <p:cNvSpPr/>
              <p:nvPr/>
            </p:nvSpPr>
            <p:spPr>
              <a:xfrm>
                <a:off x="4572360" y="1295280"/>
                <a:ext cx="4172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600" y="1295280"/>
                <a:ext cx="4190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09000" y="1295280"/>
                <a:ext cx="4190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28400" y="1295280"/>
                <a:ext cx="4172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33920" y="129528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45640" y="1295280"/>
                <a:ext cx="4190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65040" y="1295280"/>
                <a:ext cx="4190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52960" y="1295280"/>
                <a:ext cx="4190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733920" y="1295280"/>
                <a:ext cx="419040" cy="312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33920" y="417780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33920" y="3938400"/>
                <a:ext cx="3350520" cy="239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733920" y="369756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33920" y="345708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33920" y="3217680"/>
                <a:ext cx="3350520" cy="239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33920" y="297720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273636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33920" y="2496960"/>
                <a:ext cx="3350520" cy="239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33920" y="225648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33920" y="201564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33920" y="1776240"/>
                <a:ext cx="3350520" cy="239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33920" y="1535760"/>
                <a:ext cx="3350520" cy="24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733920" y="1295280"/>
              <a:ext cx="3350520" cy="3123000"/>
              <a:chOff x="3733920" y="1295280"/>
              <a:chExt cx="3350520" cy="3123000"/>
            </a:xfrm>
          </p:grpSpPr>
          <p:sp>
            <p:nvSpPr>
              <p:cNvPr id="309" name=""/>
              <p:cNvSpPr/>
              <p:nvPr/>
            </p:nvSpPr>
            <p:spPr>
              <a:xfrm>
                <a:off x="4572360" y="1295280"/>
                <a:ext cx="4172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89600" y="1295280"/>
                <a:ext cx="4190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09000" y="1295280"/>
                <a:ext cx="4190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28400" y="1295280"/>
                <a:ext cx="4172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33920" y="129528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5640" y="1295280"/>
                <a:ext cx="4190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65040" y="1295280"/>
                <a:ext cx="4190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52960" y="1295280"/>
                <a:ext cx="4190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33920" y="1295280"/>
                <a:ext cx="419040" cy="31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33920" y="417780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33920" y="3938400"/>
                <a:ext cx="3350520" cy="23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33920" y="369756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33920" y="345708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920" y="3217680"/>
                <a:ext cx="3350520" cy="23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33920" y="297720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33920" y="273636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33920" y="2496960"/>
                <a:ext cx="3350520" cy="23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33920" y="225648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33920" y="201564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733920" y="1776240"/>
                <a:ext cx="3350520" cy="23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33920" y="1535760"/>
                <a:ext cx="3350520" cy="24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373392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1752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3392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3886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3657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11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2057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1828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1120" y="3505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3733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946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4191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1752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2940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29400" y="3886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29400" y="3657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1752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3886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657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11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1752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5288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3886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3657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411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1752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1008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3886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3657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11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1371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1828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057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2362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3048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1320" y="3505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91320" y="3962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91320" y="3733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91320" y="4191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4852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48520" y="1752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48520" y="1523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2286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4852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4852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4852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4852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3886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3657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48520" y="411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361960" y="1416960"/>
            <a:ext cx="4343400" cy="3018960"/>
            <a:chOff x="2361960" y="1416960"/>
            <a:chExt cx="4343400" cy="3018960"/>
          </a:xfrm>
        </p:grpSpPr>
        <p:cxnSp>
          <p:nvCxnSpPr>
            <p:cNvPr id="435" name=""/>
            <p:cNvCxnSpPr>
              <a:stCxn id="283" idx="3"/>
              <a:endCxn id="379" idx="2"/>
            </p:cNvCxnSpPr>
            <p:nvPr/>
          </p:nvCxnSpPr>
          <p:spPr>
            <a:xfrm>
              <a:off x="2361960" y="2514240"/>
              <a:ext cx="2439000" cy="161676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>
              <a:stCxn id="283" idx="3"/>
            </p:cNvCxnSpPr>
            <p:nvPr/>
          </p:nvCxnSpPr>
          <p:spPr>
            <a:xfrm>
              <a:off x="2362320" y="2514600"/>
              <a:ext cx="2667240" cy="91512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283" idx="3"/>
              <a:endCxn id="432" idx="3"/>
            </p:cNvCxnSpPr>
            <p:nvPr/>
          </p:nvCxnSpPr>
          <p:spPr>
            <a:xfrm>
              <a:off x="2361960" y="2514240"/>
              <a:ext cx="4343760" cy="126612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grpSp>
          <p:nvGrpSpPr>
            <p:cNvPr id="438" name=""/>
            <p:cNvGrpSpPr/>
            <p:nvPr/>
          </p:nvGrpSpPr>
          <p:grpSpPr>
            <a:xfrm>
              <a:off x="2361960" y="1416960"/>
              <a:ext cx="4343400" cy="2088720"/>
              <a:chOff x="2361960" y="1416960"/>
              <a:chExt cx="4343400" cy="2088720"/>
            </a:xfrm>
          </p:grpSpPr>
          <p:cxnSp>
            <p:nvCxnSpPr>
              <p:cNvPr id="439" name=""/>
              <p:cNvCxnSpPr>
                <a:stCxn id="283" idx="3"/>
                <a:endCxn id="330" idx="2"/>
              </p:cNvCxnSpPr>
              <p:nvPr/>
            </p:nvCxnSpPr>
            <p:spPr>
              <a:xfrm flipV="1">
                <a:off x="2361960" y="1539360"/>
                <a:ext cx="1600920" cy="97560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40" name=""/>
              <p:cNvCxnSpPr>
                <a:stCxn id="283" idx="3"/>
                <a:endCxn id="373" idx="2"/>
              </p:cNvCxnSpPr>
              <p:nvPr/>
            </p:nvCxnSpPr>
            <p:spPr>
              <a:xfrm>
                <a:off x="2361960" y="2514600"/>
                <a:ext cx="2439000" cy="1656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41" name=""/>
              <p:cNvCxnSpPr>
                <a:stCxn id="283" idx="3"/>
                <a:endCxn id="414" idx="1"/>
              </p:cNvCxnSpPr>
              <p:nvPr/>
            </p:nvCxnSpPr>
            <p:spPr>
              <a:xfrm>
                <a:off x="2361960" y="2514240"/>
                <a:ext cx="3429720" cy="35136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42" name=""/>
              <p:cNvCxnSpPr>
                <a:stCxn id="283" idx="3"/>
              </p:cNvCxnSpPr>
              <p:nvPr/>
            </p:nvCxnSpPr>
            <p:spPr>
              <a:xfrm flipV="1">
                <a:off x="2361960" y="2301120"/>
                <a:ext cx="1600920" cy="21348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43" name=""/>
              <p:cNvCxnSpPr>
                <a:stCxn id="283" idx="3"/>
                <a:endCxn id="417" idx="0"/>
              </p:cNvCxnSpPr>
              <p:nvPr/>
            </p:nvCxnSpPr>
            <p:spPr>
              <a:xfrm>
                <a:off x="2362320" y="2514600"/>
                <a:ext cx="3658320" cy="99144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44" name=""/>
              <p:cNvCxnSpPr>
                <a:stCxn id="283" idx="3"/>
                <a:endCxn id="421" idx="3"/>
              </p:cNvCxnSpPr>
              <p:nvPr/>
            </p:nvCxnSpPr>
            <p:spPr>
              <a:xfrm flipV="1">
                <a:off x="2361960" y="1416960"/>
                <a:ext cx="4343760" cy="109764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45" name=""/>
              <p:cNvCxnSpPr>
                <a:stCxn id="283" idx="3"/>
                <a:endCxn id="416" idx="3"/>
              </p:cNvCxnSpPr>
              <p:nvPr/>
            </p:nvCxnSpPr>
            <p:spPr>
              <a:xfrm>
                <a:off x="2361960" y="2514240"/>
                <a:ext cx="3886920" cy="656280"/>
              </a:xfrm>
              <a:prstGeom prst="straightConnector1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</p:cxnSp>
        </p:grpSp>
        <p:cxnSp>
          <p:nvCxnSpPr>
            <p:cNvPr id="446" name=""/>
            <p:cNvCxnSpPr>
              <a:stCxn id="283" idx="3"/>
            </p:cNvCxnSpPr>
            <p:nvPr/>
          </p:nvCxnSpPr>
          <p:spPr>
            <a:xfrm>
              <a:off x="2361960" y="2514600"/>
              <a:ext cx="3886920" cy="18900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47" name=""/>
            <p:cNvCxnSpPr>
              <a:stCxn id="283" idx="3"/>
              <a:endCxn id="355" idx="2"/>
            </p:cNvCxnSpPr>
            <p:nvPr/>
          </p:nvCxnSpPr>
          <p:spPr>
            <a:xfrm>
              <a:off x="2361960" y="2514600"/>
              <a:ext cx="1981800" cy="19216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48" name=""/>
          <p:cNvSpPr/>
          <p:nvPr/>
        </p:nvSpPr>
        <p:spPr>
          <a:xfrm>
            <a:off x="304920" y="685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onente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3276720" y="1447920"/>
            <a:ext cx="4798080" cy="3885120"/>
            <a:chOff x="3276720" y="1447920"/>
            <a:chExt cx="4798080" cy="3885120"/>
          </a:xfrm>
        </p:grpSpPr>
        <p:sp>
          <p:nvSpPr>
            <p:cNvPr id="450" name=""/>
            <p:cNvSpPr/>
            <p:nvPr/>
          </p:nvSpPr>
          <p:spPr>
            <a:xfrm>
              <a:off x="4477320" y="1447920"/>
              <a:ext cx="59760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75280" y="1447920"/>
              <a:ext cx="60012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75760" y="1447920"/>
              <a:ext cx="60012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76240" y="1447920"/>
              <a:ext cx="59760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6720" y="144792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73840" y="1447920"/>
              <a:ext cx="60012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74320" y="1447920"/>
              <a:ext cx="60012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76840" y="1447920"/>
              <a:ext cx="60012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76720" y="1447920"/>
              <a:ext cx="600120" cy="388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76720" y="503352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4735800"/>
              <a:ext cx="4798080" cy="29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76720" y="443628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720" y="413712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6720" y="3839400"/>
              <a:ext cx="4798080" cy="29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76720" y="353988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6720" y="324072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2942640"/>
              <a:ext cx="4798080" cy="29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76720" y="264348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76720" y="234432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76720" y="2046240"/>
              <a:ext cx="4798080" cy="29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76720" y="1747080"/>
              <a:ext cx="4798080" cy="29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0880" y="1523880"/>
            <a:ext cx="2590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pos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Colum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676160" y="1218240"/>
            <a:ext cx="6101280" cy="305280"/>
            <a:chOff x="1676160" y="1218240"/>
            <a:chExt cx="6101280" cy="305280"/>
          </a:xfrm>
        </p:grpSpPr>
        <p:cxnSp>
          <p:nvCxnSpPr>
            <p:cNvPr id="473" name=""/>
            <p:cNvCxnSpPr>
              <a:stCxn id="471" idx="0"/>
              <a:endCxn id="458" idx="0"/>
            </p:cNvCxnSpPr>
            <p:nvPr/>
          </p:nvCxnSpPr>
          <p:spPr>
            <a:xfrm flipH="1" flipV="1" rot="5400000">
              <a:off x="2588400" y="535320"/>
              <a:ext cx="76680" cy="1900800"/>
            </a:xfrm>
            <a:prstGeom prst="bentConnector3">
              <a:avLst>
                <a:gd name="adj1" fmla="val 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1" idx="0"/>
              <a:endCxn id="457" idx="0"/>
            </p:cNvCxnSpPr>
            <p:nvPr/>
          </p:nvCxnSpPr>
          <p:spPr>
            <a:xfrm flipH="1" flipV="1" rot="5400000">
              <a:off x="2888280" y="235080"/>
              <a:ext cx="76680" cy="2500920"/>
            </a:xfrm>
            <a:prstGeom prst="bentConnector3">
              <a:avLst>
                <a:gd name="adj1" fmla="val 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>
              <a:stCxn id="471" idx="0"/>
              <a:endCxn id="456" idx="0"/>
            </p:cNvCxnSpPr>
            <p:nvPr/>
          </p:nvCxnSpPr>
          <p:spPr>
            <a:xfrm flipH="1" flipV="1" rot="5400000">
              <a:off x="4688640" y="-1564920"/>
              <a:ext cx="76680" cy="6101280"/>
            </a:xfrm>
            <a:prstGeom prst="bentConnector3">
              <a:avLst>
                <a:gd name="adj1" fmla="val 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1" idx="0"/>
              <a:endCxn id="454" idx="0"/>
            </p:cNvCxnSpPr>
            <p:nvPr/>
          </p:nvCxnSpPr>
          <p:spPr>
            <a:xfrm flipH="1" flipV="1" rot="5400000">
              <a:off x="3638520" y="-514800"/>
              <a:ext cx="76680" cy="4001040"/>
            </a:xfrm>
            <a:prstGeom prst="bentConnector3">
              <a:avLst>
                <a:gd name="adj1" fmla="val 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7" name=""/>
          <p:cNvSpPr/>
          <p:nvPr/>
        </p:nvSpPr>
        <p:spPr>
          <a:xfrm>
            <a:off x="3200400" y="1477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1477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147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47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5000" y="147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r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24480" y="147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447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467480" y="1447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4280" y="2678040"/>
            <a:ext cx="2384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Reng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819520" y="2743200"/>
            <a:ext cx="5486400" cy="1295280"/>
            <a:chOff x="2819520" y="2743200"/>
            <a:chExt cx="5486400" cy="1295280"/>
          </a:xfrm>
        </p:grpSpPr>
        <p:sp>
          <p:nvSpPr>
            <p:cNvPr id="487" name=""/>
            <p:cNvSpPr/>
            <p:nvPr/>
          </p:nvSpPr>
          <p:spPr>
            <a:xfrm>
              <a:off x="2819520" y="2743200"/>
              <a:ext cx="5486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19520" y="3124080"/>
              <a:ext cx="5486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9520" y="3657600"/>
              <a:ext cx="5486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19520" y="4038480"/>
              <a:ext cx="5486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304920" y="685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onentes de l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066680" y="1447920"/>
            <a:ext cx="692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 de dato (fecha, texto, entero, decim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cripción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685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onentes de los Cam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6680" y="1447920"/>
            <a:ext cx="692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crip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685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Campos (colum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dentific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0192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miten establecer las relaciones entre atributos dentro del query (joi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hecho de que sean numéricas les brinda mayor velocidad que si fuesen de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miten establecer llaves primarias, identificando de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nera única cada registro (renglón) dentro de la tabla y previniendo dupl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miten establecer í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667640" y="3429000"/>
            <a:ext cx="479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92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92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192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92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92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192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192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192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92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192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192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192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92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192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192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192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2400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cript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220212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ienen la(s) descripción(es) correspondiente(s) a las columnas de ident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misma columna identificadora, pudiese fungir como columna de descripción si ésta brinda la suficiente información como para que el contexto tenga un sentido de negocios a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92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92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192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192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92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192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192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192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1-27T01:12:43Z</dcterms:modified>
  <cp:revision>45</cp:revision>
  <dc:subject/>
  <dc:title>Diapositiva 1</dc:title>
</cp:coreProperties>
</file>