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gif" ContentType="image/gif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9B7C-26F0-4A93-9C39-DE3D26AF59D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TP = On line Transaction Proce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PS = Transaction Processing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AP = On line Analytical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S = Analytical Processing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TP = On line Transaction Proce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PS = Transaction Processing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AP = On line Analytical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S = Analytical Processing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C30B-3B61-47B1-9B4C-32706AF8C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98C9-2E95-4601-B774-9711FE10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9946-6854-4868-9F0F-26E0C4B49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18F9-EA84-4AA4-A04A-EEC53D7B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BB52-F2CD-4FF4-8118-4B9F7CBF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04C9-4FF5-43E3-9E20-7BB41CC1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C4E4-46EA-49D3-9EC7-1660C30F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9B06-388F-484E-A7F1-2BB4E607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93B1-DB5B-457A-9D32-E9310D2B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C46D-138D-4B55-991D-E0018AEA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9233-1147-4341-B20F-9FA2F949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222D-DDDB-40C8-871C-606C2679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F866-E742-4B18-8669-6FE595014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50320" y="7452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 Unicode MS"/>
              </a:rPr>
              <a:t>IS5706 .TI aplicada a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4520" y="122400"/>
            <a:ext cx="3205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500" spc="-1" strike="noStrike">
                <a:solidFill>
                  <a:srgbClr val="ffffff"/>
                </a:solidFill>
                <a:latin typeface="Arial"/>
              </a:rPr>
              <a:t>Universidad Tecnológica de Méxic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rot="17994000">
            <a:off x="-458640" y="3022200"/>
            <a:ext cx="4065480" cy="573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474" y="1677"/>
                  <a:pt x="9348" y="5080"/>
                  <a:pt x="9348" y="10800"/>
                </a:cubicBezTo>
                <a:cubicBezTo>
                  <a:pt x="9348" y="16520"/>
                  <a:pt x="15474" y="1992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cccc00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rot="2227800">
            <a:off x="7669080" y="729720"/>
            <a:ext cx="1298880" cy="84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92" y="1074"/>
                  <a:pt x="5984" y="5080"/>
                  <a:pt x="5984" y="10800"/>
                </a:cubicBezTo>
                <a:cubicBezTo>
                  <a:pt x="5984" y="16520"/>
                  <a:pt x="13792" y="2052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100000">
                <a:srgbClr val="462f1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V="1" rot="13210200">
            <a:off x="7921440" y="658080"/>
            <a:ext cx="1298520" cy="84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92" y="1074"/>
                  <a:pt x="5984" y="5080"/>
                  <a:pt x="5984" y="10800"/>
                </a:cubicBezTo>
                <a:cubicBezTo>
                  <a:pt x="5984" y="16520"/>
                  <a:pt x="13792" y="2052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383040" y="6539040"/>
            <a:ext cx="275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ffffff"/>
                </a:solidFill>
                <a:latin typeface="Arial"/>
              </a:rPr>
              <a:t>MTI Fernando Carlos Rivero Esque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7270920" y="4984920"/>
            <a:ext cx="1873080" cy="187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55640" y="1125360"/>
            <a:ext cx="6697800" cy="504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I &amp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Sistemas 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Informació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539280"/>
            <a:ext cx="770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Objetivos de un Sistema de Inform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7000" y="2085840"/>
            <a:ext cx="8610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Recolec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Almacenami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Organización / Manipul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Utilización / Distribu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Times New Roman"/>
              </a:rPr>
              <a:t>Ejemplo de Áreas de una Organizació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66560" y="1957320"/>
            <a:ext cx="8137800" cy="3025800"/>
            <a:chOff x="466560" y="1957320"/>
            <a:chExt cx="8137800" cy="3025800"/>
          </a:xfrm>
        </p:grpSpPr>
        <p:cxnSp>
          <p:nvCxnSpPr>
            <p:cNvPr id="118" name="_s80901"/>
            <p:cNvCxnSpPr>
              <a:stCxn id="119" idx="0"/>
              <a:endCxn id="120" idx="2"/>
            </p:cNvCxnSpPr>
            <p:nvPr/>
          </p:nvCxnSpPr>
          <p:spPr>
            <a:xfrm flipV="1" rot="16200000">
              <a:off x="7565040" y="3400560"/>
              <a:ext cx="214920" cy="664200"/>
            </a:xfrm>
            <a:prstGeom prst="bentConnector3">
              <a:avLst>
                <a:gd name="adj1" fmla="val 53187"/>
              </a:avLst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121" name="_s80902"/>
            <p:cNvCxnSpPr>
              <a:stCxn id="122" idx="0"/>
              <a:endCxn id="120" idx="2"/>
            </p:cNvCxnSpPr>
            <p:nvPr/>
          </p:nvCxnSpPr>
          <p:spPr>
            <a:xfrm flipH="1" flipV="1" rot="5400000">
              <a:off x="6908760" y="3393360"/>
              <a:ext cx="200520" cy="66420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123" name="_s80903"/>
            <p:cNvCxnSpPr>
              <a:stCxn id="124" idx="0"/>
              <a:endCxn id="125" idx="2"/>
            </p:cNvCxnSpPr>
            <p:nvPr/>
          </p:nvCxnSpPr>
          <p:spPr>
            <a:xfrm flipV="1" rot="16200000">
              <a:off x="5954400" y="3704400"/>
              <a:ext cx="200520" cy="14137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126" name="_s80904"/>
            <p:cNvCxnSpPr>
              <a:stCxn id="127" idx="0"/>
              <a:endCxn id="125" idx="2"/>
            </p:cNvCxnSpPr>
            <p:nvPr/>
          </p:nvCxnSpPr>
          <p:spPr>
            <a:xfrm flipV="1">
              <a:off x="5348520" y="4311000"/>
              <a:ext cx="1440" cy="20052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28" name="_s80905"/>
            <p:cNvCxnSpPr>
              <a:stCxn id="129" idx="0"/>
              <a:endCxn id="125" idx="2"/>
            </p:cNvCxnSpPr>
            <p:nvPr/>
          </p:nvCxnSpPr>
          <p:spPr>
            <a:xfrm flipH="1" flipV="1" rot="5400000">
              <a:off x="4541760" y="3704760"/>
              <a:ext cx="200520" cy="141336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130" name="_s80906"/>
            <p:cNvCxnSpPr>
              <a:stCxn id="131" idx="0"/>
              <a:endCxn id="132" idx="2"/>
            </p:cNvCxnSpPr>
            <p:nvPr/>
          </p:nvCxnSpPr>
          <p:spPr>
            <a:xfrm flipV="1" rot="16200000">
              <a:off x="2068200" y="4057560"/>
              <a:ext cx="200520" cy="70740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133" name="_s80907"/>
            <p:cNvCxnSpPr>
              <a:stCxn id="134" idx="0"/>
              <a:endCxn id="132" idx="2"/>
            </p:cNvCxnSpPr>
            <p:nvPr/>
          </p:nvCxnSpPr>
          <p:spPr>
            <a:xfrm flipH="1" flipV="1" rot="5400000">
              <a:off x="1355040" y="4065120"/>
              <a:ext cx="214920" cy="706680"/>
            </a:xfrm>
            <a:prstGeom prst="bentConnector3">
              <a:avLst>
                <a:gd name="adj1" fmla="val 53187"/>
              </a:avLst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135" name="_s80908"/>
            <p:cNvCxnSpPr>
              <a:stCxn id="125" idx="0"/>
              <a:endCxn id="136" idx="2"/>
            </p:cNvCxnSpPr>
            <p:nvPr/>
          </p:nvCxnSpPr>
          <p:spPr>
            <a:xfrm flipV="1" rot="16200000">
              <a:off x="4541400" y="3018600"/>
              <a:ext cx="200520" cy="141336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137" name="_s80909"/>
            <p:cNvCxnSpPr>
              <a:stCxn id="138" idx="0"/>
              <a:endCxn id="136" idx="2"/>
            </p:cNvCxnSpPr>
            <p:nvPr/>
          </p:nvCxnSpPr>
          <p:spPr>
            <a:xfrm flipH="1" flipV="1" rot="5400000">
              <a:off x="3439800" y="3330000"/>
              <a:ext cx="200520" cy="79128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39" name="_s80910"/>
            <p:cNvCxnSpPr>
              <a:stCxn id="132" idx="0"/>
              <a:endCxn id="136" idx="2"/>
            </p:cNvCxnSpPr>
            <p:nvPr/>
          </p:nvCxnSpPr>
          <p:spPr>
            <a:xfrm flipH="1" flipV="1" rot="5400000">
              <a:off x="2775240" y="2665440"/>
              <a:ext cx="200520" cy="212040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140" name="_s80911"/>
            <p:cNvCxnSpPr>
              <a:stCxn id="120" idx="0"/>
              <a:endCxn id="141" idx="2"/>
            </p:cNvCxnSpPr>
            <p:nvPr/>
          </p:nvCxnSpPr>
          <p:spPr>
            <a:xfrm flipV="1" rot="16200000">
              <a:off x="5830560" y="1629360"/>
              <a:ext cx="214920" cy="2806200"/>
            </a:xfrm>
            <a:prstGeom prst="bentConnector3">
              <a:avLst>
                <a:gd name="adj1" fmla="val 46644"/>
              </a:avLst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142" name="_s80912"/>
            <p:cNvCxnSpPr>
              <a:stCxn id="143" idx="0"/>
              <a:endCxn id="141" idx="2"/>
            </p:cNvCxnSpPr>
            <p:nvPr/>
          </p:nvCxnSpPr>
          <p:spPr>
            <a:xfrm flipV="1" rot="16200000">
              <a:off x="4877280" y="2582640"/>
              <a:ext cx="214920" cy="899280"/>
            </a:xfrm>
            <a:prstGeom prst="bentConnector3">
              <a:avLst>
                <a:gd name="adj1" fmla="val 46644"/>
              </a:avLst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144" name="_s80913"/>
            <p:cNvCxnSpPr>
              <a:stCxn id="136" idx="0"/>
              <a:endCxn id="141" idx="2"/>
            </p:cNvCxnSpPr>
            <p:nvPr/>
          </p:nvCxnSpPr>
          <p:spPr>
            <a:xfrm flipH="1" flipV="1" rot="5400000">
              <a:off x="4128120" y="2732400"/>
              <a:ext cx="214920" cy="600480"/>
            </a:xfrm>
            <a:prstGeom prst="bentConnector3">
              <a:avLst>
                <a:gd name="adj1" fmla="val 46644"/>
              </a:avLst>
            </a:prstGeom>
            <a:ln w="38160">
              <a:solidFill>
                <a:srgbClr val="ff0000"/>
              </a:solidFill>
              <a:miter/>
            </a:ln>
          </p:spPr>
        </p:cxnSp>
        <p:sp>
          <p:nvSpPr>
            <p:cNvPr id="145" name=""/>
            <p:cNvSpPr/>
            <p:nvPr/>
          </p:nvSpPr>
          <p:spPr>
            <a:xfrm>
              <a:off x="466560" y="1957320"/>
              <a:ext cx="5425200" cy="424080"/>
            </a:xfrm>
            <a:prstGeom prst="rect">
              <a:avLst/>
            </a:prstGeom>
            <a:noFill/>
            <a:ln w="1260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80915"/>
            <p:cNvSpPr/>
            <p:nvPr/>
          </p:nvSpPr>
          <p:spPr>
            <a:xfrm>
              <a:off x="3711600" y="2468520"/>
              <a:ext cx="164808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2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RGANIZACIÓN XY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80916"/>
            <p:cNvSpPr/>
            <p:nvPr/>
          </p:nvSpPr>
          <p:spPr>
            <a:xfrm>
              <a:off x="3249000" y="3154320"/>
              <a:ext cx="137124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2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ISTR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80917"/>
            <p:cNvSpPr/>
            <p:nvPr/>
          </p:nvSpPr>
          <p:spPr>
            <a:xfrm>
              <a:off x="4747680" y="3154320"/>
              <a:ext cx="137124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2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RCADOTEC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80918"/>
            <p:cNvSpPr/>
            <p:nvPr/>
          </p:nvSpPr>
          <p:spPr>
            <a:xfrm>
              <a:off x="6654240" y="3154320"/>
              <a:ext cx="137124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2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DUC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80919"/>
            <p:cNvSpPr/>
            <p:nvPr/>
          </p:nvSpPr>
          <p:spPr>
            <a:xfrm>
              <a:off x="1215720" y="3840120"/>
              <a:ext cx="120060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2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S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80920"/>
            <p:cNvSpPr/>
            <p:nvPr/>
          </p:nvSpPr>
          <p:spPr>
            <a:xfrm>
              <a:off x="2543760" y="3840120"/>
              <a:ext cx="120060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2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TABILID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80921"/>
            <p:cNvSpPr/>
            <p:nvPr/>
          </p:nvSpPr>
          <p:spPr>
            <a:xfrm>
              <a:off x="4747680" y="3840120"/>
              <a:ext cx="120060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2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RV. GR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80922"/>
            <p:cNvSpPr/>
            <p:nvPr/>
          </p:nvSpPr>
          <p:spPr>
            <a:xfrm>
              <a:off x="466560" y="4525920"/>
              <a:ext cx="128556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2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UMAN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80923"/>
            <p:cNvSpPr/>
            <p:nvPr/>
          </p:nvSpPr>
          <p:spPr>
            <a:xfrm>
              <a:off x="1879560" y="4525920"/>
              <a:ext cx="128520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2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PACIT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80924"/>
            <p:cNvSpPr/>
            <p:nvPr/>
          </p:nvSpPr>
          <p:spPr>
            <a:xfrm>
              <a:off x="3292200" y="4525920"/>
              <a:ext cx="128520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2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P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80925"/>
            <p:cNvSpPr/>
            <p:nvPr/>
          </p:nvSpPr>
          <p:spPr>
            <a:xfrm>
              <a:off x="4705200" y="4525920"/>
              <a:ext cx="12855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2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VENTARI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80926"/>
            <p:cNvSpPr/>
            <p:nvPr/>
          </p:nvSpPr>
          <p:spPr>
            <a:xfrm>
              <a:off x="6118200" y="4525920"/>
              <a:ext cx="128520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2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GENIERÍ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80927"/>
            <p:cNvSpPr/>
            <p:nvPr/>
          </p:nvSpPr>
          <p:spPr>
            <a:xfrm>
              <a:off x="6075720" y="3840120"/>
              <a:ext cx="120060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2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NTA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80928"/>
            <p:cNvSpPr/>
            <p:nvPr/>
          </p:nvSpPr>
          <p:spPr>
            <a:xfrm>
              <a:off x="7403760" y="3840120"/>
              <a:ext cx="12006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2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NTA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76080"/>
            <a:ext cx="77724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cc99"/>
            </a:outerShdw>
          </a:effectLst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Times New Roman"/>
              </a:rPr>
              <a:t>Niveles Administrativ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72040" y="2216160"/>
            <a:ext cx="1274760" cy="1511280"/>
          </a:xfrm>
          <a:prstGeom prst="triangle">
            <a:avLst>
              <a:gd name="adj" fmla="val 49995"/>
            </a:avLst>
          </a:prstGeom>
          <a:solidFill>
            <a:srgbClr val="b760f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9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494160" y="3891960"/>
            <a:ext cx="2628720" cy="825480"/>
          </a:xfrm>
          <a:custGeom>
            <a:avLst/>
            <a:gdLst>
              <a:gd name="textAreaLeft" fmla="*/ 577800 w 2628720"/>
              <a:gd name="textAreaRight" fmla="*/ 2050920 w 2628720"/>
              <a:gd name="textAreaTop" fmla="*/ 181440 h 825480"/>
              <a:gd name="textAreaBottom" fmla="*/ 644040 h 82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9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139840" y="4882320"/>
            <a:ext cx="5338800" cy="901800"/>
          </a:xfrm>
          <a:custGeom>
            <a:avLst/>
            <a:gdLst>
              <a:gd name="textAreaLeft" fmla="*/ 1173960 w 5338800"/>
              <a:gd name="textAreaRight" fmla="*/ 4164840 w 5338800"/>
              <a:gd name="textAreaTop" fmla="*/ 198360 h 901800"/>
              <a:gd name="textAreaBottom" fmla="*/ 70344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f95ab7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9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708720" y="2881440"/>
            <a:ext cx="2380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STRATÉ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56120" y="4100400"/>
            <a:ext cx="1534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ÁC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38320" y="5167440"/>
            <a:ext cx="197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OPE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57080" y="2188800"/>
            <a:ext cx="7701120" cy="35989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 fontScale="87000"/>
          </a:bodyPr>
          <a:p>
            <a:pPr marL="228960" indent="-228960"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s-MX" sz="2400" spc="-1" strike="noStrike">
                <a:solidFill>
                  <a:srgbClr val="00cc99"/>
                </a:solidFill>
                <a:latin typeface="Times New Roman"/>
              </a:rPr>
              <a:t>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8280" indent="-182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 TOMA DE DECISIONES  ES REPETITIVA Y ESTA BASADA EN REGLAS Y POLITICAS ESTABLECIDAS EN NIVELES SUPERI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8280" indent="0">
              <a:spcBef>
                <a:spcPts val="700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960" indent="-228960"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s-MX" sz="2400" spc="-1" strike="noStrike">
                <a:solidFill>
                  <a:srgbClr val="00cc99"/>
                </a:solidFill>
                <a:latin typeface="Times New Roman"/>
              </a:rPr>
              <a:t>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8280" indent="-182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Detallada de la operación di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8280" indent="-182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Descriptiva - histó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8280" indent="-182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obre rendimiento pres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34440" indent="0">
              <a:spcBef>
                <a:spcPts val="499"/>
              </a:spcBef>
              <a:buNone/>
              <a:tabLst>
                <a:tab algn="l" pos="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8120" y="209520"/>
            <a:ext cx="636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Times New Roman"/>
              </a:rPr>
              <a:t>Nivel  Operativ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marL="263520" indent="-263520"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s-MX" sz="2400" spc="-1" strike="noStrike">
                <a:solidFill>
                  <a:srgbClr val="00cc99"/>
                </a:solidFill>
                <a:latin typeface="Times New Roman"/>
              </a:rPr>
              <a:t>DECISIONES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09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ORIENTADAS HACIA EL FUTURO DE LA EMPRESA, PARA DEFINIR LOS PLANES DE LARGO ALC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09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ABLECIMIENTO DE OBJETIVOS Y POLÍTICAS DE LA ORGAN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s-MX" sz="2400" spc="-1" strike="noStrike">
                <a:solidFill>
                  <a:srgbClr val="00cc99"/>
                </a:solidFill>
                <a:latin typeface="Times New Roman"/>
              </a:rPr>
              <a:t>INFORMACIÓN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09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xterna: de la competencia, de lo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09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tudios demográ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09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dictiva (tendencias a largo plaz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09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Información simulada: ¿que pasa si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55840" y="304920"/>
            <a:ext cx="636732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Times New Roman"/>
              </a:rPr>
              <a:t>Nivel Estratégic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539280"/>
            <a:ext cx="770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Times New Roman"/>
              </a:rPr>
              <a:t>Tipos de Sistemas de Información: </a:t>
            </a:r>
            <a:br>
              <a:rPr sz="3500"/>
            </a:br>
            <a:r>
              <a:rPr b="0" lang="es-MX" sz="3500" spc="-1" strike="noStrike">
                <a:solidFill>
                  <a:srgbClr val="000000"/>
                </a:solidFill>
                <a:latin typeface="Times New Roman"/>
              </a:rPr>
              <a:t>Dos Mundos Distint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7000" y="2085840"/>
            <a:ext cx="8610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Sistemas de Transac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OLTP / T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Sistemas de Análi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OLAP / A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539280"/>
            <a:ext cx="770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Times New Roman"/>
              </a:rPr>
              <a:t>Tipos de Sistemas de Información: </a:t>
            </a:r>
            <a:br>
              <a:rPr sz="3500"/>
            </a:br>
            <a:r>
              <a:rPr b="0" lang="es-MX" sz="3500" spc="-1" strike="noStrike">
                <a:solidFill>
                  <a:srgbClr val="000000"/>
                </a:solidFill>
                <a:latin typeface="Times New Roman"/>
              </a:rPr>
              <a:t>Dos Mundos Distint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985680" y="3413160"/>
            <a:ext cx="792360" cy="6984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274840" y="3270240"/>
            <a:ext cx="954000" cy="9144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7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LT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29080" y="3267000"/>
            <a:ext cx="954360" cy="9144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7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L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921360" y="3470400"/>
            <a:ext cx="792360" cy="698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971880" y="3444840"/>
            <a:ext cx="874800" cy="836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66cc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89200" y="3716280"/>
            <a:ext cx="409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60680" y="3774960"/>
            <a:ext cx="4096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81600" y="3774960"/>
            <a:ext cx="4096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35800" y="3716280"/>
            <a:ext cx="4096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54200" y="1886040"/>
            <a:ext cx="2257560" cy="1109520"/>
          </a:xfrm>
          <a:prstGeom prst="wedgeRoundRectCallout">
            <a:avLst>
              <a:gd name="adj1" fmla="val -67652"/>
              <a:gd name="adj2" fmla="val 80615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suario Transaccional (Nivel Operativ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70680" y="4667400"/>
            <a:ext cx="2820960" cy="1420560"/>
          </a:xfrm>
          <a:prstGeom prst="wedgeRoundRectCallout">
            <a:avLst>
              <a:gd name="adj1" fmla="val -14490"/>
              <a:gd name="adj2" fmla="val -86314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suario Analítico, Tomador de decisiones  (Nivel Gerenc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08200" y="4608360"/>
            <a:ext cx="2820960" cy="1420920"/>
          </a:xfrm>
          <a:prstGeom prst="wedgeRoundRectCallout">
            <a:avLst>
              <a:gd name="adj1" fmla="val 703"/>
              <a:gd name="adj2" fmla="val -68546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Bases de Datos Corporativas (Transaccionales y Analític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53928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The Bluff Ga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1484280"/>
            <a:ext cx="820908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Por equipo investiga los términos asignados por el profe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Escribe en un papel tres definiciones por cada térmi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Dos falsas y la verdadera (en orden aleatori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El equipo “expositor”, presentará al grupo las tres defini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Cada equipo “espectador” llegará a un consenso sobre cuál es la correc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53928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The Bluff Ga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1628640"/>
            <a:ext cx="856908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Cada caso puede presentar las siguientes opcion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700" spc="-1" strike="noStrike">
                <a:solidFill>
                  <a:srgbClr val="000000"/>
                </a:solidFill>
                <a:latin typeface="Times New Roman"/>
              </a:rPr>
              <a:t>Cada equipo “</a:t>
            </a:r>
            <a:r>
              <a:rPr b="0" lang="es-MX" sz="2700" spc="-1" strike="noStrike">
                <a:solidFill>
                  <a:srgbClr val="ff3300"/>
                </a:solidFill>
                <a:latin typeface="Times New Roman"/>
              </a:rPr>
              <a:t>espectador</a:t>
            </a:r>
            <a:r>
              <a:rPr b="0" lang="es-MX" sz="2700" spc="-1" strike="noStrike">
                <a:solidFill>
                  <a:srgbClr val="000000"/>
                </a:solidFill>
                <a:latin typeface="Times New Roman"/>
              </a:rPr>
              <a:t>” que adivine la palabra se lleva </a:t>
            </a:r>
            <a:r>
              <a:rPr b="0" lang="es-MX" sz="2700" spc="-1" strike="noStrike">
                <a:solidFill>
                  <a:srgbClr val="ff3300"/>
                </a:solidFill>
                <a:latin typeface="Times New Roman"/>
              </a:rPr>
              <a:t>5 participaciones</a:t>
            </a:r>
            <a:r>
              <a:rPr b="0" lang="es-MX" sz="2700" spc="-1" strike="noStrike">
                <a:solidFill>
                  <a:srgbClr val="000000"/>
                </a:solidFill>
                <a:latin typeface="Times New Roman"/>
              </a:rPr>
              <a:t> y el equipo “</a:t>
            </a:r>
            <a:r>
              <a:rPr b="0" lang="es-MX" sz="2700" spc="-1" strike="noStrike">
                <a:solidFill>
                  <a:srgbClr val="3333cc"/>
                </a:solidFill>
                <a:latin typeface="Times New Roman"/>
              </a:rPr>
              <a:t>expositor</a:t>
            </a:r>
            <a:r>
              <a:rPr b="0" lang="es-MX" sz="27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es-MX" sz="27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700" spc="-1" strike="noStrike">
                <a:solidFill>
                  <a:srgbClr val="000000"/>
                </a:solidFill>
                <a:latin typeface="Times New Roman"/>
              </a:rPr>
              <a:t>Cada equipo “</a:t>
            </a:r>
            <a:r>
              <a:rPr b="0" lang="es-MX" sz="2700" spc="-1" strike="noStrike">
                <a:solidFill>
                  <a:srgbClr val="ff3300"/>
                </a:solidFill>
                <a:latin typeface="Times New Roman"/>
              </a:rPr>
              <a:t>espectador</a:t>
            </a:r>
            <a:r>
              <a:rPr b="0" lang="es-MX" sz="2700" spc="-1" strike="noStrike">
                <a:solidFill>
                  <a:srgbClr val="000000"/>
                </a:solidFill>
                <a:latin typeface="Times New Roman"/>
              </a:rPr>
              <a:t>” que no adivine la palabra se lleva </a:t>
            </a:r>
            <a:r>
              <a:rPr b="0" lang="es-MX" sz="2700" spc="-1" strike="noStrike">
                <a:solidFill>
                  <a:srgbClr val="ff3300"/>
                </a:solidFill>
                <a:latin typeface="Times New Roman"/>
              </a:rPr>
              <a:t>0 participaciones</a:t>
            </a:r>
            <a:r>
              <a:rPr b="0" lang="es-MX" sz="2700" spc="-1" strike="noStrike">
                <a:solidFill>
                  <a:srgbClr val="000000"/>
                </a:solidFill>
                <a:latin typeface="Times New Roman"/>
              </a:rPr>
              <a:t> y el equipo “</a:t>
            </a:r>
            <a:r>
              <a:rPr b="0" lang="es-MX" sz="2700" spc="-1" strike="noStrike">
                <a:solidFill>
                  <a:srgbClr val="3333cc"/>
                </a:solidFill>
                <a:latin typeface="Times New Roman"/>
              </a:rPr>
              <a:t>expositor</a:t>
            </a:r>
            <a:r>
              <a:rPr b="0" lang="es-MX" sz="2700" spc="-1" strike="noStrike">
                <a:solidFill>
                  <a:srgbClr val="000000"/>
                </a:solidFill>
                <a:latin typeface="Times New Roman"/>
              </a:rPr>
              <a:t>” se lleva </a:t>
            </a:r>
            <a:r>
              <a:rPr b="0" lang="es-MX" sz="2700" spc="-1" strike="noStrike">
                <a:solidFill>
                  <a:srgbClr val="3333cc"/>
                </a:solidFill>
                <a:latin typeface="Times New Roman"/>
              </a:rPr>
              <a:t>5 participaciones</a:t>
            </a:r>
            <a:r>
              <a:rPr b="0" lang="es-MX" sz="2700" spc="-1" strike="noStrike">
                <a:solidFill>
                  <a:srgbClr val="000000"/>
                </a:solidFill>
                <a:latin typeface="Times New Roman"/>
              </a:rPr>
              <a:t> SIEMPRE Y CUANDO SU DEFINICIÓN ESTÉ CORREC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53928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Tipos de Sistemas de Información: Dos Mundos Disti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0920" y="1557360"/>
            <a:ext cx="861048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Sistemas de Transac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OLTP / T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OAS / O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WIS / 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C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SC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53928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Caso de Estud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7000" y="1636560"/>
            <a:ext cx="836280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Son dueños de una pequeña florería con una base instalada de 200 clientes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9240" y="3078000"/>
            <a:ext cx="8362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Desean registrar cada venta de flores y los datos de quién compr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3040" y="4255920"/>
            <a:ext cx="836316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Desean mantener actualizada la información de los clientes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53928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Tipos de Sistemas de Información: Dos Mundos Disti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557360"/>
            <a:ext cx="417672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Sistemas de Análi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OLAP / A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D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E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M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GD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D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G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A-CR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K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1628640"/>
            <a:ext cx="4176720" cy="24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Conceptos asoci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B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Data Warehou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ata Mar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T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egacy Syst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539280"/>
            <a:ext cx="770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Ejemplos de Sistemas OLT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7000" y="2085840"/>
            <a:ext cx="8847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Sistemas de Automatización de Oficinas (OAS) / Sistemas de Información de Oficina (OI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Sistemas de Información para Grupos de trabajo (WIS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Sistemas Colaborativos (C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Sistemas de planeación y administración de los recursos de la empresa (ERP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Administración de la Relación del Cliente (CRM Operacional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Sistemas de administración de la cadena de suministros (SCM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539280"/>
            <a:ext cx="770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Ejemplos de Sistemas OLAP (Permiten el Análisis y Toma de Decision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7000" y="2085840"/>
            <a:ext cx="884700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stemas de Soporte a la Toma de Decisiones (D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Sistemas de Información Ejecutivos o Empresariales (EI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Sistemas de Información Gerencial (MI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Sistemas de Soporte de Decisiones Grupales (GDS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Sistemas Geográficos de Información (GI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Sistemas Expertos (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Sistemas de Administración del Conocimiento (KM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Sistemas de Minería de Datos (DM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Algoritmos de Inteligencia Artifi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Redes Neuron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dministración de la Relación del Cliente (CRM Analít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539280"/>
            <a:ext cx="770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Conceptos relacionados con Sistemas OLA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7000" y="2085840"/>
            <a:ext cx="8847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Data Warehousing (DWH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Data Mart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Extracción Transformación y Carga (ETL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Inteligencia de Negocios (BI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237240" y="1135440"/>
            <a:ext cx="6849360" cy="3698640"/>
            <a:chOff x="237240" y="1135440"/>
            <a:chExt cx="6849360" cy="3698640"/>
          </a:xfrm>
        </p:grpSpPr>
        <p:sp>
          <p:nvSpPr>
            <p:cNvPr id="188" name=""/>
            <p:cNvSpPr/>
            <p:nvPr/>
          </p:nvSpPr>
          <p:spPr>
            <a:xfrm rot="16192200">
              <a:off x="1458000" y="-74160"/>
              <a:ext cx="3684600" cy="6118200"/>
            </a:xfrm>
            <a:prstGeom prst="foldedCorner">
              <a:avLst>
                <a:gd name="adj" fmla="val 12500"/>
              </a:avLst>
            </a:prstGeom>
            <a:solidFill>
              <a:srgbClr val="e1e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7640" rIns="107640" tIns="53640" bIns="536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9600" y="1203480"/>
              <a:ext cx="139680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7640" rIns="107640" tIns="54000" bIns="54000" anchor="t">
              <a:spAutoFit/>
            </a:bodyPr>
            <a:p>
              <a:pPr>
                <a:spcBef>
                  <a:spcPts val="1188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ato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7200" y="1856160"/>
              <a:ext cx="2513160" cy="13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N                          3,45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                           - 23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                          2,873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O                             476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05320" y="2397240"/>
              <a:ext cx="3581280" cy="101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NC        1,5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CA       2,0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0" y="517320"/>
            <a:ext cx="7848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¡De los Datos a la Acció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2120" y="3794040"/>
            <a:ext cx="5781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500" spc="-1" strike="noStrike">
                <a:solidFill>
                  <a:srgbClr val="fa2704"/>
                </a:solidFill>
                <a:latin typeface="Arial"/>
              </a:rPr>
              <a:t>Los </a:t>
            </a:r>
            <a:r>
              <a:rPr b="1" i="1" lang="es-MX" sz="1500" spc="-1" strike="noStrike">
                <a:solidFill>
                  <a:srgbClr val="fa2704"/>
                </a:solidFill>
                <a:latin typeface="Arial"/>
              </a:rPr>
              <a:t>Datos</a:t>
            </a:r>
            <a:r>
              <a:rPr b="0" i="1" lang="es-MX" sz="1500" spc="-1" strike="noStrike">
                <a:solidFill>
                  <a:srgbClr val="fa2704"/>
                </a:solidFill>
                <a:latin typeface="Arial"/>
              </a:rPr>
              <a:t> = </a:t>
            </a:r>
            <a:r>
              <a:rPr b="0" i="1" lang="en-US" sz="1500" spc="-1" strike="noStrike">
                <a:solidFill>
                  <a:srgbClr val="fa2704"/>
                </a:solidFill>
                <a:latin typeface="Arial"/>
              </a:rPr>
              <a:t>Números y </a:t>
            </a:r>
            <a:r>
              <a:rPr b="0" i="1" lang="es-MX" sz="1500" spc="-1" strike="noStrike">
                <a:solidFill>
                  <a:srgbClr val="fa2704"/>
                </a:solidFill>
                <a:latin typeface="Arial"/>
              </a:rPr>
              <a:t>Caracteres</a:t>
            </a:r>
            <a:r>
              <a:rPr b="0" i="1" lang="en-US" sz="1500" spc="-1" strike="noStrike">
                <a:solidFill>
                  <a:srgbClr val="fa2704"/>
                </a:solidFill>
                <a:latin typeface="Arial"/>
              </a:rPr>
              <a:t> </a:t>
            </a:r>
            <a:r>
              <a:rPr b="0" i="1" lang="es-MX" sz="1500" spc="-1" strike="noStrike">
                <a:solidFill>
                  <a:srgbClr val="fa2704"/>
                </a:solidFill>
                <a:latin typeface="Arial"/>
              </a:rPr>
              <a:t>que provienen de Sistemas </a:t>
            </a:r>
            <a:r>
              <a:rPr b="1" i="1" lang="es-MX" sz="1500" spc="-1" strike="noStrike">
                <a:solidFill>
                  <a:srgbClr val="fa2704"/>
                </a:solidFill>
                <a:latin typeface="Arial"/>
              </a:rPr>
              <a:t>Transaccionales</a:t>
            </a:r>
            <a:r>
              <a:rPr b="0" i="1" lang="es-MX" sz="1500" spc="-1" strike="noStrike">
                <a:solidFill>
                  <a:srgbClr val="fa2704"/>
                </a:solidFill>
                <a:latin typeface="Arial"/>
              </a:rPr>
              <a:t> / </a:t>
            </a:r>
            <a:r>
              <a:rPr b="1" i="1" lang="es-MX" sz="1500" spc="-1" strike="noStrike">
                <a:solidFill>
                  <a:srgbClr val="fa2704"/>
                </a:solidFill>
                <a:latin typeface="Arial"/>
              </a:rPr>
              <a:t>Operaciona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234000" y="1132200"/>
            <a:ext cx="6848640" cy="3698640"/>
            <a:chOff x="234000" y="1132200"/>
            <a:chExt cx="6848640" cy="3698640"/>
          </a:xfrm>
        </p:grpSpPr>
        <p:grpSp>
          <p:nvGrpSpPr>
            <p:cNvPr id="195" name=""/>
            <p:cNvGrpSpPr/>
            <p:nvPr/>
          </p:nvGrpSpPr>
          <p:grpSpPr>
            <a:xfrm>
              <a:off x="234000" y="1132200"/>
              <a:ext cx="6848640" cy="3698640"/>
              <a:chOff x="234000" y="1132200"/>
              <a:chExt cx="6848640" cy="3698640"/>
            </a:xfrm>
          </p:grpSpPr>
          <p:sp>
            <p:nvSpPr>
              <p:cNvPr id="196" name=""/>
              <p:cNvSpPr/>
              <p:nvPr/>
            </p:nvSpPr>
            <p:spPr>
              <a:xfrm rot="16192200">
                <a:off x="1454400" y="-77040"/>
                <a:ext cx="3684600" cy="6117840"/>
              </a:xfrm>
              <a:prstGeom prst="foldedCorner">
                <a:avLst>
                  <a:gd name="adj" fmla="val 12500"/>
                </a:avLst>
              </a:prstGeom>
              <a:solidFill>
                <a:srgbClr val="e1e8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7640" rIns="107640" tIns="53640" bIns="536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06000" y="1200240"/>
                <a:ext cx="1396440" cy="39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7640" rIns="107640" tIns="54000" bIns="54000" anchor="t">
                <a:spAutoFit/>
              </a:bodyPr>
              <a:p>
                <a:pPr>
                  <a:spcBef>
                    <a:spcPts val="1188"/>
                  </a:spcBef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</a:rPr>
                  <a:t>Datos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53600" y="1852920"/>
                <a:ext cx="2512800" cy="13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N                          3,45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S                           - 235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E                          2,873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O                             476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501720" y="2394000"/>
                <a:ext cx="3580920" cy="101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NC        1,50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CA       2,00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488520" y="3791160"/>
              <a:ext cx="57819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500" spc="-1" strike="noStrike">
                  <a:solidFill>
                    <a:srgbClr val="fa2704"/>
                  </a:solidFill>
                  <a:latin typeface="Arial"/>
                </a:rPr>
                <a:t>Los </a:t>
              </a:r>
              <a:r>
                <a:rPr b="1" i="1" lang="es-MX" sz="1500" spc="-1" strike="noStrike">
                  <a:solidFill>
                    <a:srgbClr val="fa2704"/>
                  </a:solidFill>
                  <a:latin typeface="Arial"/>
                </a:rPr>
                <a:t>Datos</a:t>
              </a:r>
              <a:r>
                <a:rPr b="0" i="1" lang="es-MX" sz="1500" spc="-1" strike="noStrike">
                  <a:solidFill>
                    <a:srgbClr val="fa2704"/>
                  </a:solidFill>
                  <a:latin typeface="Arial"/>
                </a:rPr>
                <a:t> = </a:t>
              </a:r>
              <a:r>
                <a:rPr b="0" i="1" lang="en-US" sz="1500" spc="-1" strike="noStrike">
                  <a:solidFill>
                    <a:srgbClr val="fa2704"/>
                  </a:solidFill>
                  <a:latin typeface="Arial"/>
                </a:rPr>
                <a:t>Números y </a:t>
              </a:r>
              <a:r>
                <a:rPr b="0" i="1" lang="es-MX" sz="1500" spc="-1" strike="noStrike">
                  <a:solidFill>
                    <a:srgbClr val="fa2704"/>
                  </a:solidFill>
                  <a:latin typeface="Arial"/>
                </a:rPr>
                <a:t>Caracteres</a:t>
              </a:r>
              <a:r>
                <a:rPr b="0" i="1" lang="en-US" sz="1500" spc="-1" strike="noStrike">
                  <a:solidFill>
                    <a:srgbClr val="fa2704"/>
                  </a:solidFill>
                  <a:latin typeface="Arial"/>
                </a:rPr>
                <a:t> </a:t>
              </a:r>
              <a:r>
                <a:rPr b="0" i="1" lang="es-MX" sz="1500" spc="-1" strike="noStrike">
                  <a:solidFill>
                    <a:srgbClr val="fa2704"/>
                  </a:solidFill>
                  <a:latin typeface="Arial"/>
                </a:rPr>
                <a:t>que provienen de Sistemas </a:t>
              </a:r>
              <a:r>
                <a:rPr b="1" i="1" lang="es-MX" sz="1500" spc="-1" strike="noStrike">
                  <a:solidFill>
                    <a:srgbClr val="fa2704"/>
                  </a:solidFill>
                  <a:latin typeface="Arial"/>
                </a:rPr>
                <a:t>Transaccionales</a:t>
              </a:r>
              <a:r>
                <a:rPr b="0" i="1" lang="es-MX" sz="1500" spc="-1" strike="noStrike">
                  <a:solidFill>
                    <a:srgbClr val="fa2704"/>
                  </a:solidFill>
                  <a:latin typeface="Arial"/>
                </a:rPr>
                <a:t> / </a:t>
              </a:r>
              <a:r>
                <a:rPr b="1" i="1" lang="es-MX" sz="1500" spc="-1" strike="noStrike">
                  <a:solidFill>
                    <a:srgbClr val="fa2704"/>
                  </a:solidFill>
                  <a:latin typeface="Arial"/>
                </a:rPr>
                <a:t>Operacional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38760" y="1293840"/>
            <a:ext cx="6495120" cy="3900960"/>
            <a:chOff x="338760" y="1293840"/>
            <a:chExt cx="6495120" cy="3900960"/>
          </a:xfrm>
        </p:grpSpPr>
        <p:sp>
          <p:nvSpPr>
            <p:cNvPr id="202" name=""/>
            <p:cNvSpPr/>
            <p:nvPr/>
          </p:nvSpPr>
          <p:spPr>
            <a:xfrm rot="16192200">
              <a:off x="1643040" y="1080"/>
              <a:ext cx="3886200" cy="6486480"/>
            </a:xfrm>
            <a:prstGeom prst="foldedCorner">
              <a:avLst>
                <a:gd name="adj" fmla="val 12500"/>
              </a:avLst>
            </a:prstGeom>
            <a:solidFill>
              <a:srgbClr val="b7c8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7640" rIns="107640" tIns="53640" bIns="53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4160" y="1393200"/>
              <a:ext cx="159660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7640" rIns="107640" tIns="54000" bIns="54000" anchor="ctr">
              <a:spAutoFit/>
            </a:bodyPr>
            <a:p>
              <a:pPr algn="ctr">
                <a:spcBef>
                  <a:spcPts val="1188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48200" y="1738800"/>
              <a:ext cx="2939760" cy="195444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7640" rIns="107640" tIns="54000" bIns="5400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Regi</a:t>
              </a:r>
              <a:r>
                <a:rPr b="1" lang="es-MX" sz="1500" spc="-1" strike="noStrike">
                  <a:solidFill>
                    <a:srgbClr val="000000"/>
                  </a:solidFill>
                  <a:latin typeface="Tahoma"/>
                </a:rPr>
                <a:t>ón</a:t>
              </a:r>
              <a:r>
                <a:rPr b="1" lang="es-MX" sz="15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s-MX" sz="1500" spc="-1" strike="noStrike">
                  <a:solidFill>
                    <a:srgbClr val="000000"/>
                  </a:solidFill>
                  <a:latin typeface="Tahoma"/>
                </a:rPr>
                <a:t> Utilidad Mensu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 indent="-182520">
                <a:spcBef>
                  <a:spcPts val="938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N        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$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,450.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 indent="-182520">
                <a:spcBef>
                  <a:spcPts val="938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               </a:t>
              </a: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$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- 235.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 indent="-182520">
                <a:spcBef>
                  <a:spcPts val="938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               </a:t>
              </a: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       $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2,873.00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 indent="-182520">
                <a:spcBef>
                  <a:spcPts val="938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O                 </a:t>
              </a: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     $ 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76.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095560" y="3700440"/>
              <a:ext cx="3359160" cy="100116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7640" rIns="107640" tIns="54000" bIns="5400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s-MX" sz="1300" spc="-1" strike="noStrike">
                  <a:solidFill>
                    <a:srgbClr val="000000"/>
                  </a:solidFill>
                  <a:latin typeface="Tahoma"/>
                </a:rPr>
                <a:t>Clave Descripción    Cantidad Mensua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 indent="-182520">
                <a:spcBef>
                  <a:spcPts val="938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NC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    New Customers           1,500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 indent="-182520">
                <a:spcBef>
                  <a:spcPts val="938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    Customer Attritions       2,0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495360" y="4807080"/>
            <a:ext cx="636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fa2704"/>
                </a:solidFill>
                <a:latin typeface="Arial"/>
              </a:rPr>
              <a:t>La </a:t>
            </a:r>
            <a:r>
              <a:rPr b="1" i="1" lang="en-US" sz="1500" spc="-1" strike="noStrike">
                <a:solidFill>
                  <a:srgbClr val="fa2704"/>
                </a:solidFill>
                <a:latin typeface="Arial"/>
              </a:rPr>
              <a:t>Información</a:t>
            </a:r>
            <a:r>
              <a:rPr b="0" i="1" lang="es-MX" sz="1500" spc="-1" strike="noStrike">
                <a:solidFill>
                  <a:srgbClr val="fa2704"/>
                </a:solidFill>
                <a:latin typeface="Arial"/>
              </a:rPr>
              <a:t> = </a:t>
            </a:r>
            <a:r>
              <a:rPr b="1" i="1" lang="es-MX" sz="1500" spc="-1" strike="noStrike">
                <a:solidFill>
                  <a:srgbClr val="fa2704"/>
                </a:solidFill>
                <a:latin typeface="Arial"/>
              </a:rPr>
              <a:t>Datos</a:t>
            </a:r>
            <a:r>
              <a:rPr b="0" i="1" lang="es-MX" sz="1500" spc="-1" strike="noStrike">
                <a:solidFill>
                  <a:srgbClr val="fa2704"/>
                </a:solidFill>
                <a:latin typeface="Arial"/>
              </a:rPr>
              <a:t> + Contexto, orden, limpieza, Integr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231120" y="1140120"/>
            <a:ext cx="6848640" cy="3698640"/>
            <a:chOff x="231120" y="1140120"/>
            <a:chExt cx="6848640" cy="3698640"/>
          </a:xfrm>
        </p:grpSpPr>
        <p:grpSp>
          <p:nvGrpSpPr>
            <p:cNvPr id="208" name=""/>
            <p:cNvGrpSpPr/>
            <p:nvPr/>
          </p:nvGrpSpPr>
          <p:grpSpPr>
            <a:xfrm>
              <a:off x="231120" y="1140120"/>
              <a:ext cx="6848640" cy="3698640"/>
              <a:chOff x="231120" y="1140120"/>
              <a:chExt cx="6848640" cy="3698640"/>
            </a:xfrm>
          </p:grpSpPr>
          <p:sp>
            <p:nvSpPr>
              <p:cNvPr id="209" name=""/>
              <p:cNvSpPr/>
              <p:nvPr/>
            </p:nvSpPr>
            <p:spPr>
              <a:xfrm rot="16192200">
                <a:off x="1451520" y="-69120"/>
                <a:ext cx="3684600" cy="6117840"/>
              </a:xfrm>
              <a:prstGeom prst="foldedCorner">
                <a:avLst>
                  <a:gd name="adj" fmla="val 12500"/>
                </a:avLst>
              </a:prstGeom>
              <a:solidFill>
                <a:srgbClr val="e1e8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7640" rIns="107640" tIns="53640" bIns="536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03120" y="1208160"/>
                <a:ext cx="1396440" cy="39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7640" rIns="107640" tIns="54000" bIns="54000" anchor="t">
                <a:spAutoFit/>
              </a:bodyPr>
              <a:p>
                <a:pPr>
                  <a:spcBef>
                    <a:spcPts val="1188"/>
                  </a:spcBef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</a:rPr>
                  <a:t>Datos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0720" y="1860840"/>
                <a:ext cx="2512800" cy="13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N                          3,45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S                           - 235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E                          2,873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O                             476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498840" y="2401920"/>
                <a:ext cx="3580920" cy="101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BM        2,50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CB       4,85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485640" y="3799080"/>
              <a:ext cx="57819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500" spc="-1" strike="noStrike">
                  <a:solidFill>
                    <a:srgbClr val="fa2704"/>
                  </a:solidFill>
                  <a:latin typeface="Arial"/>
                </a:rPr>
                <a:t>Los </a:t>
              </a:r>
              <a:r>
                <a:rPr b="1" i="1" lang="es-MX" sz="1500" spc="-1" strike="noStrike">
                  <a:solidFill>
                    <a:srgbClr val="fa2704"/>
                  </a:solidFill>
                  <a:latin typeface="Arial"/>
                </a:rPr>
                <a:t>Datos</a:t>
              </a:r>
              <a:r>
                <a:rPr b="0" i="1" lang="es-MX" sz="1500" spc="-1" strike="noStrike">
                  <a:solidFill>
                    <a:srgbClr val="fa2704"/>
                  </a:solidFill>
                  <a:latin typeface="Arial"/>
                </a:rPr>
                <a:t> = </a:t>
              </a:r>
              <a:r>
                <a:rPr b="0" i="1" lang="en-US" sz="1500" spc="-1" strike="noStrike">
                  <a:solidFill>
                    <a:srgbClr val="fa2704"/>
                  </a:solidFill>
                  <a:latin typeface="Arial"/>
                </a:rPr>
                <a:t>Números y </a:t>
              </a:r>
              <a:r>
                <a:rPr b="0" i="1" lang="es-MX" sz="1500" spc="-1" strike="noStrike">
                  <a:solidFill>
                    <a:srgbClr val="fa2704"/>
                  </a:solidFill>
                  <a:latin typeface="Arial"/>
                </a:rPr>
                <a:t>Caracteres</a:t>
              </a:r>
              <a:r>
                <a:rPr b="0" i="1" lang="en-US" sz="1500" spc="-1" strike="noStrike">
                  <a:solidFill>
                    <a:srgbClr val="fa2704"/>
                  </a:solidFill>
                  <a:latin typeface="Arial"/>
                </a:rPr>
                <a:t> </a:t>
              </a:r>
              <a:r>
                <a:rPr b="0" i="1" lang="es-MX" sz="1500" spc="-1" strike="noStrike">
                  <a:solidFill>
                    <a:srgbClr val="fa2704"/>
                  </a:solidFill>
                  <a:latin typeface="Arial"/>
                </a:rPr>
                <a:t>que provienen de Sistemas </a:t>
              </a:r>
              <a:r>
                <a:rPr b="1" i="1" lang="es-MX" sz="1500" spc="-1" strike="noStrike">
                  <a:solidFill>
                    <a:srgbClr val="fa2704"/>
                  </a:solidFill>
                  <a:latin typeface="Arial"/>
                </a:rPr>
                <a:t>Transaccionales</a:t>
              </a:r>
              <a:r>
                <a:rPr b="0" i="1" lang="es-MX" sz="1500" spc="-1" strike="noStrike">
                  <a:solidFill>
                    <a:srgbClr val="fa2704"/>
                  </a:solidFill>
                  <a:latin typeface="Arial"/>
                </a:rPr>
                <a:t> / </a:t>
              </a:r>
              <a:r>
                <a:rPr b="1" i="1" lang="es-MX" sz="1500" spc="-1" strike="noStrike">
                  <a:solidFill>
                    <a:srgbClr val="fa2704"/>
                  </a:solidFill>
                  <a:latin typeface="Arial"/>
                </a:rPr>
                <a:t>Operacional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35520" y="1290600"/>
            <a:ext cx="6517800" cy="3900960"/>
            <a:chOff x="335520" y="1290600"/>
            <a:chExt cx="6517800" cy="3900960"/>
          </a:xfrm>
        </p:grpSpPr>
        <p:grpSp>
          <p:nvGrpSpPr>
            <p:cNvPr id="215" name=""/>
            <p:cNvGrpSpPr/>
            <p:nvPr/>
          </p:nvGrpSpPr>
          <p:grpSpPr>
            <a:xfrm>
              <a:off x="335520" y="1290600"/>
              <a:ext cx="6495120" cy="3900960"/>
              <a:chOff x="335520" y="1290600"/>
              <a:chExt cx="6495120" cy="3900960"/>
            </a:xfrm>
          </p:grpSpPr>
          <p:sp>
            <p:nvSpPr>
              <p:cNvPr id="216" name=""/>
              <p:cNvSpPr/>
              <p:nvPr/>
            </p:nvSpPr>
            <p:spPr>
              <a:xfrm rot="16192200">
                <a:off x="1639800" y="-1800"/>
                <a:ext cx="3886200" cy="6486480"/>
              </a:xfrm>
              <a:prstGeom prst="foldedCorner">
                <a:avLst>
                  <a:gd name="adj" fmla="val 12500"/>
                </a:avLst>
              </a:prstGeom>
              <a:solidFill>
                <a:srgbClr val="b7c8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7640" rIns="107640" tIns="53640" bIns="53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40920" y="1389960"/>
                <a:ext cx="1596600" cy="39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7640" rIns="107640" tIns="54000" bIns="54000" anchor="ctr">
                <a:spAutoFit/>
              </a:bodyPr>
              <a:p>
                <a:pPr algn="ctr">
                  <a:spcBef>
                    <a:spcPts val="1188"/>
                  </a:spcBef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</a:rPr>
                  <a:t>Información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244960" y="1735560"/>
                <a:ext cx="2939760" cy="1954440"/>
              </a:xfrm>
              <a:prstGeom prst="rect">
                <a:avLst/>
              </a:prstGeom>
              <a:noFill/>
              <a:ln w="9360">
                <a:solidFill>
                  <a:srgbClr val="3366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7640" rIns="107640" tIns="54000" bIns="54000" anchor="ctr">
                <a:spAutoFit/>
              </a:bodyPr>
              <a:p>
                <a:pPr marL="182520" indent="-182520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ahoma"/>
                  </a:rPr>
                  <a:t>Regi</a:t>
                </a:r>
                <a:r>
                  <a:rPr b="1" lang="es-MX" sz="1500" spc="-1" strike="noStrike">
                    <a:solidFill>
                      <a:srgbClr val="000000"/>
                    </a:solidFill>
                    <a:latin typeface="Tahoma"/>
                  </a:rPr>
                  <a:t>ón</a:t>
                </a:r>
                <a:r>
                  <a:rPr b="1" lang="es-MX" sz="15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1" lang="es-MX" sz="1500" spc="-1" strike="noStrike">
                    <a:solidFill>
                      <a:srgbClr val="000000"/>
                    </a:solidFill>
                    <a:latin typeface="Tahoma"/>
                  </a:rPr>
                  <a:t> Utilidad Mensual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2520" indent="-182520">
                  <a:spcBef>
                    <a:spcPts val="938"/>
                  </a:spcBef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N       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$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3,450.0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2520" indent="-182520">
                  <a:spcBef>
                    <a:spcPts val="938"/>
                  </a:spcBef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S               </a:t>
                </a: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$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- 235.0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2520" indent="-182520">
                  <a:spcBef>
                    <a:spcPts val="938"/>
                  </a:spcBef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E               </a:t>
                </a: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       $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 2,873.00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2520" indent="-182520">
                  <a:spcBef>
                    <a:spcPts val="938"/>
                  </a:spcBef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O                 </a:t>
                </a: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     $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476.0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092320" y="3653640"/>
                <a:ext cx="3359160" cy="1090080"/>
              </a:xfrm>
              <a:prstGeom prst="rect">
                <a:avLst/>
              </a:prstGeom>
              <a:noFill/>
              <a:ln w="9360">
                <a:solidFill>
                  <a:srgbClr val="3366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7640" rIns="107640" tIns="54000" bIns="54000" anchor="ctr">
                <a:spAutoFit/>
              </a:bodyPr>
              <a:p>
                <a:pPr marL="182520" indent="-182520" algn="ctr">
                  <a:lnSpc>
                    <a:spcPct val="15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1" lang="es-MX" sz="1300" spc="-1" strike="noStrike">
                    <a:solidFill>
                      <a:srgbClr val="000000"/>
                    </a:solidFill>
                    <a:latin typeface="Tahoma"/>
                  </a:rPr>
                  <a:t>Clave Descripción    Cantidad Mensual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2520" indent="-182520" algn="ctr">
                  <a:lnSpc>
                    <a:spcPct val="15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NC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     New Customers           1,500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2520" indent="-182520" algn="ctr">
                  <a:lnSpc>
                    <a:spcPct val="15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CA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     Customer Attritions       2,00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492120" y="4803480"/>
              <a:ext cx="63612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fa2704"/>
                  </a:solidFill>
                  <a:latin typeface="Arial"/>
                </a:rPr>
                <a:t>La </a:t>
              </a:r>
              <a:r>
                <a:rPr b="1" i="1" lang="en-US" sz="1500" spc="-1" strike="noStrike">
                  <a:solidFill>
                    <a:srgbClr val="fa2704"/>
                  </a:solidFill>
                  <a:latin typeface="Arial"/>
                </a:rPr>
                <a:t>Información</a:t>
              </a:r>
              <a:r>
                <a:rPr b="0" i="1" lang="es-MX" sz="1500" spc="-1" strike="noStrike">
                  <a:solidFill>
                    <a:srgbClr val="fa2704"/>
                  </a:solidFill>
                  <a:latin typeface="Arial"/>
                </a:rPr>
                <a:t> = </a:t>
              </a:r>
              <a:r>
                <a:rPr b="1" i="1" lang="es-MX" sz="1500" spc="-1" strike="noStrike">
                  <a:solidFill>
                    <a:srgbClr val="fa2704"/>
                  </a:solidFill>
                  <a:latin typeface="Arial"/>
                </a:rPr>
                <a:t>Datos</a:t>
              </a:r>
              <a:r>
                <a:rPr b="0" i="1" lang="es-MX" sz="1500" spc="-1" strike="noStrike">
                  <a:solidFill>
                    <a:srgbClr val="fa2704"/>
                  </a:solidFill>
                  <a:latin typeface="Arial"/>
                </a:rPr>
                <a:t> + Contexto, orden, limpieza, Integració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49280" y="1487160"/>
            <a:ext cx="6543360" cy="4069800"/>
            <a:chOff x="449280" y="1487160"/>
            <a:chExt cx="6543360" cy="4069800"/>
          </a:xfrm>
        </p:grpSpPr>
        <p:sp>
          <p:nvSpPr>
            <p:cNvPr id="222" name=""/>
            <p:cNvSpPr/>
            <p:nvPr/>
          </p:nvSpPr>
          <p:spPr>
            <a:xfrm rot="16200000">
              <a:off x="1685880" y="250200"/>
              <a:ext cx="4069800" cy="6543360"/>
            </a:xfrm>
            <a:prstGeom prst="foldedCorner">
              <a:avLst>
                <a:gd name="adj" fmla="val 12500"/>
              </a:avLst>
            </a:prstGeom>
            <a:solidFill>
              <a:srgbClr val="83a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3360" y="1668240"/>
              <a:ext cx="182520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7640" rIns="107640" tIns="54000" bIns="54000" anchor="ctr">
              <a:spAutoFit/>
            </a:bodyPr>
            <a:p>
              <a:pPr algn="ctr">
                <a:spcBef>
                  <a:spcPts val="1188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onocimient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4280" y="2316240"/>
              <a:ext cx="5916960" cy="20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7640" rIns="107640" tIns="54000" bIns="54000" anchor="ctr">
              <a:spAutoFit/>
            </a:bodyPr>
            <a:p>
              <a:pPr marL="252360" indent="-252360">
                <a:spcBef>
                  <a:spcPts val="938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a Región Sur fué la única que presentó utilidad negativa.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marL="252360" indent="-252360">
                <a:spcBef>
                  <a:spcPts val="938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a razón fueron los altos costos de distribución e inventario así como las bajas ventas.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marL="252360" indent="-252360">
                <a:spcBef>
                  <a:spcPts val="938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ste fenómeno se dió particularmente en productos con márgenes pequeños.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marL="252360" indent="-252360">
                <a:spcBef>
                  <a:spcPts val="938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En el último mes se han perdido 500 clientes, sin embargo las ventas se mantienen creciendo a un ritmo constante.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534960" y="5280120"/>
            <a:ext cx="6232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fa2704"/>
                </a:solidFill>
                <a:latin typeface="Arial"/>
              </a:rPr>
              <a:t>El </a:t>
            </a:r>
            <a:r>
              <a:rPr b="1" i="1" lang="es-MX" sz="1500" spc="-1" strike="noStrike">
                <a:solidFill>
                  <a:srgbClr val="fa2704"/>
                </a:solidFill>
                <a:latin typeface="Arial"/>
              </a:rPr>
              <a:t>C</a:t>
            </a:r>
            <a:r>
              <a:rPr b="1" i="1" lang="en-US" sz="1500" spc="-1" strike="noStrike">
                <a:solidFill>
                  <a:srgbClr val="fa2704"/>
                </a:solidFill>
                <a:latin typeface="Arial"/>
              </a:rPr>
              <a:t>onocimiento</a:t>
            </a:r>
            <a:r>
              <a:rPr b="0" i="1" lang="en-US" sz="1500" spc="-1" strike="noStrike">
                <a:solidFill>
                  <a:srgbClr val="fa2704"/>
                </a:solidFill>
                <a:latin typeface="Arial"/>
              </a:rPr>
              <a:t> </a:t>
            </a:r>
            <a:r>
              <a:rPr b="0" i="1" lang="es-MX" sz="1500" spc="-1" strike="noStrike">
                <a:solidFill>
                  <a:srgbClr val="fa2704"/>
                </a:solidFill>
                <a:latin typeface="Arial"/>
              </a:rPr>
              <a:t>= </a:t>
            </a:r>
            <a:r>
              <a:rPr b="1" i="1" lang="es-MX" sz="1500" spc="-1" strike="noStrike">
                <a:solidFill>
                  <a:srgbClr val="fa2704"/>
                </a:solidFill>
                <a:latin typeface="Arial"/>
              </a:rPr>
              <a:t>A</a:t>
            </a:r>
            <a:r>
              <a:rPr b="1" i="1" lang="en-US" sz="1500" spc="-1" strike="noStrike">
                <a:solidFill>
                  <a:srgbClr val="fa2704"/>
                </a:solidFill>
                <a:latin typeface="Arial"/>
              </a:rPr>
              <a:t>nálisis</a:t>
            </a:r>
            <a:r>
              <a:rPr b="0" i="1" lang="es-MX" sz="1500" spc="-1" strike="noStrike">
                <a:solidFill>
                  <a:srgbClr val="fa2704"/>
                </a:solidFill>
                <a:latin typeface="Arial"/>
              </a:rPr>
              <a:t> y manipulación de la </a:t>
            </a:r>
            <a:r>
              <a:rPr b="1" i="1" lang="es-MX" sz="1500" spc="-1" strike="noStrike">
                <a:solidFill>
                  <a:srgbClr val="fa2704"/>
                </a:solidFill>
                <a:latin typeface="Arial"/>
              </a:rPr>
              <a:t>Inform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234000" y="1143360"/>
            <a:ext cx="6848640" cy="3698640"/>
            <a:chOff x="234000" y="1143360"/>
            <a:chExt cx="6848640" cy="3698640"/>
          </a:xfrm>
        </p:grpSpPr>
        <p:grpSp>
          <p:nvGrpSpPr>
            <p:cNvPr id="227" name=""/>
            <p:cNvGrpSpPr/>
            <p:nvPr/>
          </p:nvGrpSpPr>
          <p:grpSpPr>
            <a:xfrm>
              <a:off x="234000" y="1143360"/>
              <a:ext cx="6848640" cy="3698640"/>
              <a:chOff x="234000" y="1143360"/>
              <a:chExt cx="6848640" cy="3698640"/>
            </a:xfrm>
          </p:grpSpPr>
          <p:sp>
            <p:nvSpPr>
              <p:cNvPr id="228" name=""/>
              <p:cNvSpPr/>
              <p:nvPr/>
            </p:nvSpPr>
            <p:spPr>
              <a:xfrm rot="16192200">
                <a:off x="1454400" y="-65880"/>
                <a:ext cx="3684600" cy="6117840"/>
              </a:xfrm>
              <a:prstGeom prst="foldedCorner">
                <a:avLst>
                  <a:gd name="adj" fmla="val 12500"/>
                </a:avLst>
              </a:prstGeom>
              <a:solidFill>
                <a:srgbClr val="e1e8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7640" rIns="107640" tIns="53640" bIns="536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06000" y="1211400"/>
                <a:ext cx="1396440" cy="39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7640" rIns="107640" tIns="54000" bIns="54000" anchor="t">
                <a:spAutoFit/>
              </a:bodyPr>
              <a:p>
                <a:pPr>
                  <a:spcBef>
                    <a:spcPts val="1188"/>
                  </a:spcBef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</a:rPr>
                  <a:t>Datos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53600" y="1864080"/>
                <a:ext cx="2512800" cy="13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N                          3,45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S                           - 235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E                          2,873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O                             476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501720" y="2405160"/>
                <a:ext cx="3580920" cy="101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BM        2,50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CB       4,85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488520" y="3802320"/>
              <a:ext cx="57819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500" spc="-1" strike="noStrike">
                  <a:solidFill>
                    <a:srgbClr val="fa2704"/>
                  </a:solidFill>
                  <a:latin typeface="Arial"/>
                </a:rPr>
                <a:t>Los </a:t>
              </a:r>
              <a:r>
                <a:rPr b="1" i="1" lang="es-MX" sz="1500" spc="-1" strike="noStrike">
                  <a:solidFill>
                    <a:srgbClr val="fa2704"/>
                  </a:solidFill>
                  <a:latin typeface="Arial"/>
                </a:rPr>
                <a:t>Datos</a:t>
              </a:r>
              <a:r>
                <a:rPr b="0" i="1" lang="es-MX" sz="1500" spc="-1" strike="noStrike">
                  <a:solidFill>
                    <a:srgbClr val="fa2704"/>
                  </a:solidFill>
                  <a:latin typeface="Arial"/>
                </a:rPr>
                <a:t> = </a:t>
              </a:r>
              <a:r>
                <a:rPr b="0" i="1" lang="en-US" sz="1500" spc="-1" strike="noStrike">
                  <a:solidFill>
                    <a:srgbClr val="fa2704"/>
                  </a:solidFill>
                  <a:latin typeface="Arial"/>
                </a:rPr>
                <a:t>Números y </a:t>
              </a:r>
              <a:r>
                <a:rPr b="0" i="1" lang="es-MX" sz="1500" spc="-1" strike="noStrike">
                  <a:solidFill>
                    <a:srgbClr val="fa2704"/>
                  </a:solidFill>
                  <a:latin typeface="Arial"/>
                </a:rPr>
                <a:t>Caracteres</a:t>
              </a:r>
              <a:r>
                <a:rPr b="0" i="1" lang="en-US" sz="1500" spc="-1" strike="noStrike">
                  <a:solidFill>
                    <a:srgbClr val="fa2704"/>
                  </a:solidFill>
                  <a:latin typeface="Arial"/>
                </a:rPr>
                <a:t> </a:t>
              </a:r>
              <a:r>
                <a:rPr b="0" i="1" lang="es-MX" sz="1500" spc="-1" strike="noStrike">
                  <a:solidFill>
                    <a:srgbClr val="fa2704"/>
                  </a:solidFill>
                  <a:latin typeface="Arial"/>
                </a:rPr>
                <a:t>que provienen de Sistemas </a:t>
              </a:r>
              <a:r>
                <a:rPr b="1" i="1" lang="es-MX" sz="1500" spc="-1" strike="noStrike">
                  <a:solidFill>
                    <a:srgbClr val="fa2704"/>
                  </a:solidFill>
                  <a:latin typeface="Arial"/>
                </a:rPr>
                <a:t>Transaccionales</a:t>
              </a:r>
              <a:r>
                <a:rPr b="0" i="1" lang="es-MX" sz="1500" spc="-1" strike="noStrike">
                  <a:solidFill>
                    <a:srgbClr val="fa2704"/>
                  </a:solidFill>
                  <a:latin typeface="Arial"/>
                </a:rPr>
                <a:t> / </a:t>
              </a:r>
              <a:r>
                <a:rPr b="1" i="1" lang="es-MX" sz="1500" spc="-1" strike="noStrike">
                  <a:solidFill>
                    <a:srgbClr val="fa2704"/>
                  </a:solidFill>
                  <a:latin typeface="Arial"/>
                </a:rPr>
                <a:t>Operacional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38760" y="1293840"/>
            <a:ext cx="6517800" cy="3900960"/>
            <a:chOff x="338760" y="1293840"/>
            <a:chExt cx="6517800" cy="3900960"/>
          </a:xfrm>
        </p:grpSpPr>
        <p:grpSp>
          <p:nvGrpSpPr>
            <p:cNvPr id="234" name=""/>
            <p:cNvGrpSpPr/>
            <p:nvPr/>
          </p:nvGrpSpPr>
          <p:grpSpPr>
            <a:xfrm>
              <a:off x="338760" y="1293840"/>
              <a:ext cx="6495120" cy="3900960"/>
              <a:chOff x="338760" y="1293840"/>
              <a:chExt cx="6495120" cy="3900960"/>
            </a:xfrm>
          </p:grpSpPr>
          <p:sp>
            <p:nvSpPr>
              <p:cNvPr id="235" name=""/>
              <p:cNvSpPr/>
              <p:nvPr/>
            </p:nvSpPr>
            <p:spPr>
              <a:xfrm rot="16192200">
                <a:off x="1643040" y="1080"/>
                <a:ext cx="3886200" cy="6486480"/>
              </a:xfrm>
              <a:prstGeom prst="foldedCorner">
                <a:avLst>
                  <a:gd name="adj" fmla="val 12500"/>
                </a:avLst>
              </a:prstGeom>
              <a:solidFill>
                <a:srgbClr val="b7c8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7640" rIns="107640" tIns="53640" bIns="53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44160" y="1393200"/>
                <a:ext cx="1596600" cy="39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7640" rIns="107640" tIns="54000" bIns="54000" anchor="ctr">
                <a:spAutoFit/>
              </a:bodyPr>
              <a:p>
                <a:pPr algn="ctr">
                  <a:spcBef>
                    <a:spcPts val="1188"/>
                  </a:spcBef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</a:rPr>
                  <a:t>Información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48200" y="1707120"/>
                <a:ext cx="2939760" cy="2016360"/>
              </a:xfrm>
              <a:prstGeom prst="rect">
                <a:avLst/>
              </a:prstGeom>
              <a:noFill/>
              <a:ln w="9360">
                <a:solidFill>
                  <a:srgbClr val="3366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7640" rIns="107640" tIns="54000" bIns="54000" anchor="ctr">
                <a:spAutoFit/>
              </a:bodyPr>
              <a:p>
                <a:pPr marL="182520" indent="-182520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ahoma"/>
                  </a:rPr>
                  <a:t>Regi</a:t>
                </a:r>
                <a:r>
                  <a:rPr b="0" lang="es-MX" sz="1700" spc="-1" strike="noStrike">
                    <a:solidFill>
                      <a:srgbClr val="000000"/>
                    </a:solidFill>
                    <a:latin typeface="Tahoma"/>
                  </a:rPr>
                  <a:t>ón</a:t>
                </a:r>
                <a:r>
                  <a:rPr b="0" lang="es-MX" sz="17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s-MX" sz="1700" spc="-1" strike="noStrike">
                    <a:solidFill>
                      <a:srgbClr val="000000"/>
                    </a:solidFill>
                    <a:latin typeface="Tahoma"/>
                  </a:rPr>
                  <a:t> Utilidad Mensual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2520" indent="-182520">
                  <a:spcBef>
                    <a:spcPts val="938"/>
                  </a:spcBef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N       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$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3,450.0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2520" indent="-182520">
                  <a:spcBef>
                    <a:spcPts val="938"/>
                  </a:spcBef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S               </a:t>
                </a: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$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- 235.0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2520" indent="-182520">
                  <a:spcBef>
                    <a:spcPts val="938"/>
                  </a:spcBef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E               </a:t>
                </a: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       $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 2,873.00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2520" indent="-182520">
                  <a:spcBef>
                    <a:spcPts val="938"/>
                  </a:spcBef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O                 </a:t>
                </a: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     $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476.0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095560" y="3540600"/>
                <a:ext cx="3359160" cy="1321560"/>
              </a:xfrm>
              <a:prstGeom prst="rect">
                <a:avLst/>
              </a:prstGeom>
              <a:noFill/>
              <a:ln w="9360">
                <a:solidFill>
                  <a:srgbClr val="3366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7640" rIns="107640" tIns="54000" bIns="54000" anchor="ctr">
                <a:spAutoFit/>
              </a:bodyPr>
              <a:p>
                <a:pPr marL="182520" indent="-182520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s-MX" sz="1700" spc="-1" strike="noStrike">
                    <a:solidFill>
                      <a:srgbClr val="000000"/>
                    </a:solidFill>
                    <a:latin typeface="Tahoma"/>
                  </a:rPr>
                  <a:t>Producto    Descricpión    Ventas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2520" indent="-182520">
                  <a:spcBef>
                    <a:spcPts val="938"/>
                  </a:spcBef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BM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            Big Mac     </a:t>
                </a: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$ 2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2520" indent="-182520">
                  <a:spcBef>
                    <a:spcPts val="938"/>
                  </a:spcBef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CB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 Cheese Burger</a:t>
                </a: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  $ 4,85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495360" y="4806720"/>
              <a:ext cx="63612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fa2704"/>
                  </a:solidFill>
                  <a:latin typeface="Arial"/>
                </a:rPr>
                <a:t>La </a:t>
              </a:r>
              <a:r>
                <a:rPr b="1" i="1" lang="en-US" sz="1500" spc="-1" strike="noStrike">
                  <a:solidFill>
                    <a:srgbClr val="fa2704"/>
                  </a:solidFill>
                  <a:latin typeface="Arial"/>
                </a:rPr>
                <a:t>Información</a:t>
              </a:r>
              <a:r>
                <a:rPr b="0" i="1" lang="es-MX" sz="1500" spc="-1" strike="noStrike">
                  <a:solidFill>
                    <a:srgbClr val="fa2704"/>
                  </a:solidFill>
                  <a:latin typeface="Arial"/>
                </a:rPr>
                <a:t> = </a:t>
              </a:r>
              <a:r>
                <a:rPr b="1" i="1" lang="es-MX" sz="1500" spc="-1" strike="noStrike">
                  <a:solidFill>
                    <a:srgbClr val="fa2704"/>
                  </a:solidFill>
                  <a:latin typeface="Arial"/>
                </a:rPr>
                <a:t>Datos</a:t>
              </a:r>
              <a:r>
                <a:rPr b="0" i="1" lang="es-MX" sz="1500" spc="-1" strike="noStrike">
                  <a:solidFill>
                    <a:srgbClr val="fa2704"/>
                  </a:solidFill>
                  <a:latin typeface="Arial"/>
                </a:rPr>
                <a:t> + Contexto, orden, limpieza, Integració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52520" y="1490400"/>
            <a:ext cx="6543360" cy="4114800"/>
            <a:chOff x="452520" y="1490400"/>
            <a:chExt cx="6543360" cy="4114800"/>
          </a:xfrm>
        </p:grpSpPr>
        <p:grpSp>
          <p:nvGrpSpPr>
            <p:cNvPr id="241" name=""/>
            <p:cNvGrpSpPr/>
            <p:nvPr/>
          </p:nvGrpSpPr>
          <p:grpSpPr>
            <a:xfrm>
              <a:off x="452520" y="1490400"/>
              <a:ext cx="6543360" cy="4069800"/>
              <a:chOff x="452520" y="1490400"/>
              <a:chExt cx="6543360" cy="4069800"/>
            </a:xfrm>
          </p:grpSpPr>
          <p:sp>
            <p:nvSpPr>
              <p:cNvPr id="242" name=""/>
              <p:cNvSpPr/>
              <p:nvPr/>
            </p:nvSpPr>
            <p:spPr>
              <a:xfrm rot="16200000">
                <a:off x="1689120" y="253440"/>
                <a:ext cx="4069800" cy="6543360"/>
              </a:xfrm>
              <a:prstGeom prst="foldedCorner">
                <a:avLst>
                  <a:gd name="adj" fmla="val 12500"/>
                </a:avLst>
              </a:prstGeom>
              <a:solidFill>
                <a:srgbClr val="83a0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96600" y="1671480"/>
                <a:ext cx="1825200" cy="39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7640" rIns="107640" tIns="54000" bIns="54000" anchor="ctr">
                <a:spAutoFit/>
              </a:bodyPr>
              <a:p>
                <a:pPr algn="ctr">
                  <a:spcBef>
                    <a:spcPts val="1188"/>
                  </a:spcBef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</a:rPr>
                  <a:t>Conocimiento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67520" y="2319480"/>
                <a:ext cx="5916960" cy="206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7640" rIns="107640" tIns="54000" bIns="54000" anchor="ctr">
                <a:spAutoFit/>
              </a:bodyPr>
              <a:p>
                <a:pPr marL="252360" indent="-252360">
                  <a:spcBef>
                    <a:spcPts val="938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La Región Sur fué la única que presentó utilidad negativa.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52360" indent="-252360">
                  <a:spcBef>
                    <a:spcPts val="938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La razón fueron los altos costos de distribución e inventario así como las bajas ventas.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52360" indent="-252360">
                  <a:spcBef>
                    <a:spcPts val="938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Este fenómeno se dió particularmente en productos con márgenes pequeños.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52360" indent="-252360">
                  <a:spcBef>
                    <a:spcPts val="938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En el último mes se han perdido 500 clientes, sin embargo las ventas se mantienen creciendo a un ritmo constante.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538200" y="5283000"/>
              <a:ext cx="62326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fa2704"/>
                  </a:solidFill>
                  <a:latin typeface="Arial"/>
                </a:rPr>
                <a:t>El </a:t>
              </a:r>
              <a:r>
                <a:rPr b="1" i="1" lang="es-MX" sz="1500" spc="-1" strike="noStrike">
                  <a:solidFill>
                    <a:srgbClr val="fa2704"/>
                  </a:solidFill>
                  <a:latin typeface="Arial"/>
                </a:rPr>
                <a:t>C</a:t>
              </a:r>
              <a:r>
                <a:rPr b="1" i="1" lang="en-US" sz="1500" spc="-1" strike="noStrike">
                  <a:solidFill>
                    <a:srgbClr val="fa2704"/>
                  </a:solidFill>
                  <a:latin typeface="Arial"/>
                </a:rPr>
                <a:t>onocimiento</a:t>
              </a:r>
              <a:r>
                <a:rPr b="0" i="1" lang="en-US" sz="1500" spc="-1" strike="noStrike">
                  <a:solidFill>
                    <a:srgbClr val="fa2704"/>
                  </a:solidFill>
                  <a:latin typeface="Arial"/>
                </a:rPr>
                <a:t> </a:t>
              </a:r>
              <a:r>
                <a:rPr b="0" i="1" lang="es-MX" sz="1500" spc="-1" strike="noStrike">
                  <a:solidFill>
                    <a:srgbClr val="fa2704"/>
                  </a:solidFill>
                  <a:latin typeface="Arial"/>
                </a:rPr>
                <a:t>= </a:t>
              </a:r>
              <a:r>
                <a:rPr b="1" i="1" lang="es-MX" sz="1500" spc="-1" strike="noStrike">
                  <a:solidFill>
                    <a:srgbClr val="fa2704"/>
                  </a:solidFill>
                  <a:latin typeface="Arial"/>
                </a:rPr>
                <a:t>A</a:t>
              </a:r>
              <a:r>
                <a:rPr b="1" i="1" lang="en-US" sz="1500" spc="-1" strike="noStrike">
                  <a:solidFill>
                    <a:srgbClr val="fa2704"/>
                  </a:solidFill>
                  <a:latin typeface="Arial"/>
                </a:rPr>
                <a:t>nálisis</a:t>
              </a:r>
              <a:r>
                <a:rPr b="0" i="1" lang="es-MX" sz="1500" spc="-1" strike="noStrike">
                  <a:solidFill>
                    <a:srgbClr val="fa2704"/>
                  </a:solidFill>
                  <a:latin typeface="Arial"/>
                </a:rPr>
                <a:t> y manipulación de la </a:t>
              </a:r>
              <a:r>
                <a:rPr b="1" i="1" lang="es-MX" sz="1500" spc="-1" strike="noStrike">
                  <a:solidFill>
                    <a:srgbClr val="fa2704"/>
                  </a:solidFill>
                  <a:latin typeface="Arial"/>
                </a:rPr>
                <a:t>Informació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797040" y="1706040"/>
            <a:ext cx="6925680" cy="4243320"/>
            <a:chOff x="797040" y="1706040"/>
            <a:chExt cx="6925680" cy="4243320"/>
          </a:xfrm>
        </p:grpSpPr>
        <p:sp>
          <p:nvSpPr>
            <p:cNvPr id="247" name=""/>
            <p:cNvSpPr/>
            <p:nvPr/>
          </p:nvSpPr>
          <p:spPr>
            <a:xfrm rot="16200000">
              <a:off x="2138040" y="364680"/>
              <a:ext cx="4243320" cy="6925680"/>
            </a:xfrm>
            <a:prstGeom prst="foldedCorner">
              <a:avLst>
                <a:gd name="adj" fmla="val 12500"/>
              </a:avLst>
            </a:prstGeom>
            <a:solidFill>
              <a:srgbClr val="6d8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99800" y="1896840"/>
              <a:ext cx="110448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7640" rIns="107640" tIns="54000" bIns="54000" anchor="ctr">
              <a:spAutoFit/>
            </a:bodyPr>
            <a:p>
              <a:pPr algn="ctr">
                <a:spcBef>
                  <a:spcPts val="1312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Acció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79520" y="3238200"/>
              <a:ext cx="6319440" cy="12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7640" rIns="107640" tIns="54000" bIns="54000" anchor="ctr">
              <a:spAutoFit/>
            </a:bodyPr>
            <a:p>
              <a:pPr marL="252360" indent="-252360">
                <a:spcBef>
                  <a:spcPts val="938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poyar a las franquicias regionales con utilidades negativas con mayor  publicidad y promociones.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marL="252360" indent="-252360">
                <a:spcBef>
                  <a:spcPts val="938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romocionar productos con niveles de inventario alto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marL="252360" indent="-252360">
                <a:spcBef>
                  <a:spcPts val="938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Regionalizar paquetes y servicios por preferencias geográficas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99960" y="5654520"/>
            <a:ext cx="7682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300" spc="-1" strike="noStrike">
                <a:solidFill>
                  <a:srgbClr val="fa2704"/>
                </a:solidFill>
                <a:latin typeface="Arial"/>
              </a:rPr>
              <a:t>La </a:t>
            </a:r>
            <a:r>
              <a:rPr b="1" i="1" lang="es-MX" sz="1300" spc="-1" strike="noStrike">
                <a:solidFill>
                  <a:srgbClr val="fa2704"/>
                </a:solidFill>
                <a:latin typeface="Arial"/>
              </a:rPr>
              <a:t>Acción</a:t>
            </a:r>
            <a:r>
              <a:rPr b="0" i="1" lang="es-MX" sz="1300" spc="-1" strike="noStrike">
                <a:solidFill>
                  <a:srgbClr val="fa2704"/>
                </a:solidFill>
                <a:latin typeface="Arial"/>
              </a:rPr>
              <a:t> = Resultado de la </a:t>
            </a:r>
            <a:r>
              <a:rPr b="1" i="1" lang="es-MX" sz="1300" spc="-1" strike="noStrike">
                <a:solidFill>
                  <a:srgbClr val="fa2704"/>
                </a:solidFill>
                <a:latin typeface="Arial"/>
              </a:rPr>
              <a:t>Toma de Decisiones </a:t>
            </a:r>
            <a:r>
              <a:rPr b="0" i="1" lang="es-MX" sz="1300" spc="-1" strike="noStrike">
                <a:solidFill>
                  <a:srgbClr val="fa2704"/>
                </a:solidFill>
                <a:latin typeface="Arial"/>
              </a:rPr>
              <a:t>basada en el </a:t>
            </a:r>
            <a:r>
              <a:rPr b="1" i="1" lang="es-MX" sz="1300" spc="-1" strike="noStrike">
                <a:solidFill>
                  <a:srgbClr val="fa2704"/>
                </a:solidFill>
                <a:latin typeface="Arial"/>
              </a:rPr>
              <a:t>conocimiento </a:t>
            </a:r>
            <a:r>
              <a:rPr b="0" i="1" lang="es-MX" sz="1300" spc="-1" strike="noStrike">
                <a:solidFill>
                  <a:srgbClr val="fa2704"/>
                </a:solidFill>
                <a:latin typeface="Arial"/>
              </a:rPr>
              <a:t>del </a:t>
            </a:r>
            <a:r>
              <a:rPr b="1" i="1" lang="es-MX" sz="1300" spc="-1" strike="noStrike">
                <a:solidFill>
                  <a:srgbClr val="fa2704"/>
                </a:solidFill>
                <a:latin typeface="Arial"/>
              </a:rPr>
              <a:t>negoci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0600" y="1312920"/>
            <a:ext cx="7373880" cy="46450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Inteligencia de Negoc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Business Intelli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1579320"/>
            <a:ext cx="9144000" cy="40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i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</a:t>
            </a: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imient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ediante la transformación d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t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formación</a:t>
            </a: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que se analiza y manipula de forma inteligen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ocimient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roducido deberá soportar </a:t>
            </a:r>
            <a:r>
              <a:rPr b="1" lang="es-MX" sz="2200" spc="-1" strike="noStrike">
                <a:solidFill>
                  <a:srgbClr val="00264c"/>
                </a:solidFill>
                <a:latin typeface="Arial"/>
                <a:ea typeface="Times New Roman"/>
              </a:rPr>
              <a:t>decisione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que se traduzcan en planes d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ió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nfocados a mejorar el desempeño de la organizació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 BI provee a los tomadores de decisiones de la información precisa, en el momento justo, en el lugar correcto, ayudándolos a tomar mejores decisiones y generar beneficios para la </a:t>
            </a: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operación 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de la organiz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703080"/>
            <a:ext cx="7848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Objetivo de B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53928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Caso de Estud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7000" y="1636560"/>
            <a:ext cx="836280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Quieren mantener relación con sus clientes a través de una estrecha comunicación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240" y="3078000"/>
            <a:ext cx="8362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Cada mes se premiará al mejor empleado con una tarjeta diseñada con su fot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3040" y="4255920"/>
            <a:ext cx="8363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Desean mantener actualizado un catálogo con los diferentes productos y disponible a los client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53928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Caso de Estud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5080" y="1606680"/>
            <a:ext cx="836280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Son los años 50s, no existen los Sistemas de Información computacionales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08120" y="3068640"/>
            <a:ext cx="36338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53928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Caso de Estud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7000" y="1636560"/>
            <a:ext cx="8610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En base a la información acumulada desean controlar el inventario de flores. Saber qué flores pedir y cuándo hacerlo.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240" y="3395520"/>
            <a:ext cx="8362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Desean conocer los hábitos de compra e historial de cada client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3040" y="4573440"/>
            <a:ext cx="8363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Desean conocer los gustos de familiares y amigos de sus client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nceptos de 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8424720" cy="20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a tecnología de información (TI) facilita el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rear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municar, almacenar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analizar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información así como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hacer eficiente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los procesos dentro de una organiz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181080" y="1413000"/>
            <a:ext cx="5562720" cy="3276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62f17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8760" y="400356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14560" y="3165480"/>
            <a:ext cx="2971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00360" y="240336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6880" y="4079880"/>
            <a:ext cx="37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Almacenar y Anal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3080" y="177336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Cr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51600" y="2556000"/>
            <a:ext cx="20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Comun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75360" y="3357720"/>
            <a:ext cx="184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Efici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77080" y="4508640"/>
            <a:ext cx="1138320" cy="1296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020000" y="2349360"/>
            <a:ext cx="1330200" cy="1368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716360" y="5300640"/>
            <a:ext cx="1457280" cy="1324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435640" y="836640"/>
            <a:ext cx="1434960" cy="1440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rot="20749800">
            <a:off x="3265200" y="1345680"/>
            <a:ext cx="2166840" cy="648000"/>
          </a:xfrm>
          <a:prstGeom prst="rightArrow">
            <a:avLst>
              <a:gd name="adj1" fmla="val 34870"/>
              <a:gd name="adj2" fmla="val 73271"/>
            </a:avLst>
          </a:prstGeom>
          <a:gradFill rotWithShape="0">
            <a:gsLst>
              <a:gs pos="0">
                <a:srgbClr val="462f17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7280" y="2492280"/>
            <a:ext cx="2809800" cy="647640"/>
          </a:xfrm>
          <a:prstGeom prst="rightArrow">
            <a:avLst>
              <a:gd name="adj1" fmla="val 26472"/>
              <a:gd name="adj2" fmla="val 95106"/>
            </a:avLst>
          </a:prstGeom>
          <a:gradFill rotWithShape="0">
            <a:gsLst>
              <a:gs pos="0">
                <a:srgbClr val="462f17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451400">
            <a:off x="4516200" y="3641760"/>
            <a:ext cx="2447640" cy="647640"/>
          </a:xfrm>
          <a:prstGeom prst="rightArrow">
            <a:avLst>
              <a:gd name="adj1" fmla="val 26472"/>
              <a:gd name="adj2" fmla="val 82848"/>
            </a:avLst>
          </a:prstGeom>
          <a:gradFill rotWithShape="0">
            <a:gsLst>
              <a:gs pos="0">
                <a:srgbClr val="462f17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451400">
            <a:off x="3534840" y="4951080"/>
            <a:ext cx="1440000" cy="647640"/>
          </a:xfrm>
          <a:prstGeom prst="rightArrow">
            <a:avLst>
              <a:gd name="adj1" fmla="val 26472"/>
              <a:gd name="adj2" fmla="val 48741"/>
            </a:avLst>
          </a:prstGeom>
          <a:gradFill rotWithShape="0">
            <a:gsLst>
              <a:gs pos="0">
                <a:srgbClr val="462f17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0674200">
            <a:off x="3129120" y="1412640"/>
            <a:ext cx="2678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Arial"/>
              </a:rPr>
              <a:t>Diseño, multimedi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10200" y="2600280"/>
            <a:ext cx="23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Redes,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402800">
            <a:off x="4714200" y="3752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OAS, E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402800">
            <a:off x="3495240" y="51494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RDB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0560" y="122400"/>
            <a:ext cx="4737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500" spc="-1" strike="noStrike">
                <a:solidFill>
                  <a:srgbClr val="ffffff"/>
                </a:solidFill>
                <a:latin typeface="Arial"/>
              </a:rPr>
              <a:t>Tecnológico de Monterrey Campus Estado de Méxic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545960" y="339120"/>
            <a:ext cx="1793160" cy="1540800"/>
            <a:chOff x="7545960" y="339120"/>
            <a:chExt cx="1793160" cy="1540800"/>
          </a:xfrm>
        </p:grpSpPr>
        <p:sp>
          <p:nvSpPr>
            <p:cNvPr id="96" name=""/>
            <p:cNvSpPr/>
            <p:nvPr/>
          </p:nvSpPr>
          <p:spPr>
            <a:xfrm rot="2227800">
              <a:off x="7668720" y="729360"/>
              <a:ext cx="1299240" cy="843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92" y="1074"/>
                    <a:pt x="5984" y="5080"/>
                    <a:pt x="5984" y="10800"/>
                  </a:cubicBezTo>
                  <a:cubicBezTo>
                    <a:pt x="5984" y="16520"/>
                    <a:pt x="13792" y="2052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 rot="13210200">
              <a:off x="7920720" y="658080"/>
              <a:ext cx="1299240" cy="843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92" y="1074"/>
                    <a:pt x="5984" y="5080"/>
                    <a:pt x="5984" y="10800"/>
                  </a:cubicBezTo>
                  <a:cubicBezTo>
                    <a:pt x="5984" y="16520"/>
                    <a:pt x="13792" y="2052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 txBox="1"/>
          <p:nvPr/>
        </p:nvSpPr>
        <p:spPr>
          <a:xfrm>
            <a:off x="1117440" y="2155680"/>
            <a:ext cx="6743880" cy="249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istemas d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formació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7545960" y="339120"/>
            <a:ext cx="1793160" cy="1540800"/>
            <a:chOff x="7545960" y="339120"/>
            <a:chExt cx="1793160" cy="1540800"/>
          </a:xfrm>
        </p:grpSpPr>
        <p:sp>
          <p:nvSpPr>
            <p:cNvPr id="100" name=""/>
            <p:cNvSpPr/>
            <p:nvPr/>
          </p:nvSpPr>
          <p:spPr>
            <a:xfrm rot="2227800">
              <a:off x="7668720" y="729360"/>
              <a:ext cx="1299240" cy="843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92" y="1074"/>
                    <a:pt x="5984" y="5080"/>
                    <a:pt x="5984" y="10800"/>
                  </a:cubicBezTo>
                  <a:cubicBezTo>
                    <a:pt x="5984" y="16520"/>
                    <a:pt x="13792" y="2052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 rot="13210200">
              <a:off x="7920720" y="658080"/>
              <a:ext cx="1299240" cy="843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92" y="1074"/>
                    <a:pt x="5984" y="5080"/>
                    <a:pt x="5984" y="10800"/>
                  </a:cubicBezTo>
                  <a:cubicBezTo>
                    <a:pt x="5984" y="16520"/>
                    <a:pt x="13792" y="2052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412920" y="1771560"/>
            <a:ext cx="3760920" cy="3360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888320" y="2160720"/>
            <a:ext cx="1319040" cy="2573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773520" y="1916280"/>
            <a:ext cx="1490760" cy="2732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3160" y="2190600"/>
            <a:ext cx="1763640" cy="1424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pplic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11560" y="4113360"/>
            <a:ext cx="2873520" cy="442800"/>
          </a:xfrm>
          <a:prstGeom prst="leftArrow">
            <a:avLst>
              <a:gd name="adj1" fmla="val 26167"/>
              <a:gd name="adj2" fmla="val 13054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04040" y="2558880"/>
            <a:ext cx="704880" cy="443160"/>
          </a:xfrm>
          <a:prstGeom prst="leftArrow">
            <a:avLst>
              <a:gd name="adj1" fmla="val 26167"/>
              <a:gd name="adj2" fmla="val 319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668680" y="1917720"/>
            <a:ext cx="879480" cy="27399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018040" y="2676600"/>
            <a:ext cx="784440" cy="442800"/>
          </a:xfrm>
          <a:prstGeom prst="leftArrow">
            <a:avLst>
              <a:gd name="adj1" fmla="val 26167"/>
              <a:gd name="adj2" fmla="val 3563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28840" y="3081240"/>
            <a:ext cx="784440" cy="443160"/>
          </a:xfrm>
          <a:prstGeom prst="leftArrow">
            <a:avLst>
              <a:gd name="adj1" fmla="val 26167"/>
              <a:gd name="adj2" fmla="val 356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44520" y="2401920"/>
            <a:ext cx="1749600" cy="442800"/>
          </a:xfrm>
          <a:prstGeom prst="leftArrow">
            <a:avLst>
              <a:gd name="adj1" fmla="val 26167"/>
              <a:gd name="adj2" fmla="val 7948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240" y="7650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omponentes de un sistema de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2920" y="4903920"/>
            <a:ext cx="8588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Times New Roman"/>
              </a:rPr>
              <a:t>Hardware    Datos Software               Usuar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00:42:41Z</dcterms:created>
  <dc:creator>Administrador</dc:creator>
  <dc:description/>
  <dc:language>en-US</dc:language>
  <cp:lastModifiedBy>Administrador</cp:lastModifiedBy>
  <dcterms:modified xsi:type="dcterms:W3CDTF">2007-01-27T03:20:47Z</dcterms:modified>
  <cp:revision>56</cp:revision>
  <dc:subject/>
  <dc:title>Planeación de un sitio Web </dc:title>
</cp:coreProperties>
</file>