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3A54-1B83-4F45-9D6E-603B21FFA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5263-3C06-419E-8939-133875229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3A40-4D81-4C7F-AE1C-5484905A6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585B-E852-4F43-B529-6040974CA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13F9-F4D7-4D2B-941A-35145C404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B21D-2C8E-47EE-9DC4-FC1879763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DD96-15AC-4E86-A01A-BD320B0C2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60ED-5104-487C-BFAD-4A3856F53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523A-B606-4C06-98A5-6115FFC4B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4572-8BDB-4FEC-9486-3C4407191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7826-6456-41D3-B1C6-1D4619EF7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635D-D91D-4AA4-B364-5AC30B0B1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85A8B-4CBB-42C4-8624-D95E9EC22C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gradFill rotWithShape="0">
            <a:gsLst>
              <a:gs pos="0">
                <a:srgbClr val="cccc00"/>
              </a:gs>
              <a:gs pos="100000">
                <a:srgbClr val="9966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5350320" y="74520"/>
            <a:ext cx="366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 Unicode MS"/>
              </a:rPr>
              <a:t>IS5706 .TI aplicada a la Empre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74520" y="122400"/>
            <a:ext cx="3205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500" spc="-1" strike="noStrike">
                <a:solidFill>
                  <a:srgbClr val="ffffff"/>
                </a:solidFill>
                <a:latin typeface="Arial"/>
              </a:rPr>
              <a:t>Universidad Tecnológica de Méxic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 rot="17994000">
            <a:off x="-458640" y="3022200"/>
            <a:ext cx="4065480" cy="5738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5474" y="1677"/>
                  <a:pt x="9348" y="5080"/>
                  <a:pt x="9348" y="10800"/>
                </a:cubicBezTo>
                <a:cubicBezTo>
                  <a:pt x="9348" y="16520"/>
                  <a:pt x="15474" y="19923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cccc00"/>
              </a:gs>
              <a:gs pos="100000">
                <a:srgbClr val="9966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 rot="2227800">
            <a:off x="7669080" y="729720"/>
            <a:ext cx="1298880" cy="843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3792" y="1074"/>
                  <a:pt x="5984" y="5080"/>
                  <a:pt x="5984" y="10800"/>
                </a:cubicBezTo>
                <a:cubicBezTo>
                  <a:pt x="5984" y="16520"/>
                  <a:pt x="13792" y="20526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996633"/>
              </a:gs>
              <a:gs pos="100000">
                <a:srgbClr val="462f17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 flipV="1" rot="13210200">
            <a:off x="7921440" y="658080"/>
            <a:ext cx="1298520" cy="843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3792" y="1074"/>
                  <a:pt x="5984" y="5080"/>
                  <a:pt x="5984" y="10800"/>
                </a:cubicBezTo>
                <a:cubicBezTo>
                  <a:pt x="5984" y="16520"/>
                  <a:pt x="13792" y="20526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966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383040" y="6539040"/>
            <a:ext cx="275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200" spc="-1" strike="noStrike">
                <a:solidFill>
                  <a:srgbClr val="ffffff"/>
                </a:solidFill>
                <a:latin typeface="Arial"/>
              </a:rPr>
              <a:t>MTI Fernando Carlos Rivero Esque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" name="" descr=""/>
          <p:cNvPicPr/>
          <p:nvPr/>
        </p:nvPicPr>
        <p:blipFill>
          <a:blip r:embed="rId2"/>
          <a:stretch/>
        </p:blipFill>
        <p:spPr>
          <a:xfrm>
            <a:off x="7270920" y="4653000"/>
            <a:ext cx="1873080" cy="1873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1116000" y="2349360"/>
            <a:ext cx="6696000" cy="2016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Temari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92040" y="1666800"/>
            <a:ext cx="823752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Arial"/>
              </a:rPr>
              <a:t>Tecnologías de Informació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Arial"/>
              </a:rPr>
              <a:t>Sistemas de Informació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Arial"/>
              </a:rPr>
              <a:t>Bases de Datos (Access / SQL Server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Arial"/>
              </a:rPr>
              <a:t>Inteligencia de Negocios (BI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Arial"/>
              </a:rPr>
              <a:t>Data Warehousing (DWH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Arial"/>
              </a:rPr>
              <a:t>Administración de los recursos / procesos de la empresa (ERP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Arial"/>
              </a:rPr>
              <a:t>Administración de la relación con el cliente (CRM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Arial"/>
              </a:rPr>
              <a:t>Administración de la cadena de suministros (SCM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920880"/>
            <a:ext cx="63435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500" spc="-1" strike="noStrike">
                <a:solidFill>
                  <a:srgbClr val="000000"/>
                </a:solidFill>
                <a:latin typeface="Times New Roman"/>
              </a:rPr>
              <a:t>Temario (Programa de Estudio)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6T21:35:47Z</dcterms:created>
  <dc:creator>Administrador</dc:creator>
  <dc:description/>
  <dc:language>en-US</dc:language>
  <cp:lastModifiedBy>Administrador</cp:lastModifiedBy>
  <dcterms:modified xsi:type="dcterms:W3CDTF">2007-01-16T21:39:06Z</dcterms:modified>
  <cp:revision>3</cp:revision>
  <dc:subject/>
  <dc:title>Diapositiva 1</dc:title>
</cp:coreProperties>
</file>