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457D-7206-4818-B827-78B308423F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Mi primer día de clases!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(1° Kinder, Secu, Prepa, Profe, Trabajo, Casado, Padr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¿Por qué estás aquí y por qué es importante la preparatoria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ormar y reafirmar el cará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paratoria, preparándose para qué (carrera, v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¿Por qué es importante el curso de Computació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so en todas la áreas, materias y profesiones, facilita la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Mi primer día de clases!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(1° Kinder, Secu, Prepa, Profe, Trabajo, Casado, Padr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¿Por qué estás aquí y por qué es importante la preparatoria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ormar y reafirmar el cará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paratoria, preparándose para qué (carrera, v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¿Por qué es importante el curso de Computació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so en todas la áreas, materias y profesiones, facilita la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La Era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Introducción al Comercio Electró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Modelos de Negocio del Comercio Electró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B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Suba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Portales y comun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Proveedores de Cont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Infraestructura para el 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Desarrollo y Costrucción de Por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Diseño y plan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Shopping C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Software y Herramient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Mercadotecni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 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 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Sistemas de P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Políticas, privacidad y 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3DB-287A-482E-BA7D-C8621EEF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EDD-C2B1-4376-9609-7ADAD398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700-EF86-4C13-83FD-A1E325AD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346-9137-4E76-AB20-A77CB136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F66-A7D3-4F73-AFB5-91B07898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472-AB58-4B60-AF3C-88DC9C29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A48-EB09-412B-A652-CB36F225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8C3-5C58-47C3-B851-3BFB1682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DA9-32AD-48AA-B119-7742FD32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81D-1E15-4ACF-A27F-3A99B08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2EE-9380-415E-90BD-F8D17533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C05-C799-4D44-9959-8D89C2F9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33A9-418C-45EC-A459-7DBB0D283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50320" y="745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</a:rPr>
              <a:t>IS5706 .TI aplicada 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520" y="122400"/>
            <a:ext cx="320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fffff"/>
                </a:solidFill>
                <a:latin typeface="Arial"/>
              </a:rPr>
              <a:t>Universidad Tecnológica de Méx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7994000">
            <a:off x="-458640" y="3022200"/>
            <a:ext cx="4065480" cy="573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4" y="1677"/>
                  <a:pt x="9348" y="5080"/>
                  <a:pt x="9348" y="10800"/>
                </a:cubicBezTo>
                <a:cubicBezTo>
                  <a:pt x="9348" y="16520"/>
                  <a:pt x="15474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2227800">
            <a:off x="7669080" y="729720"/>
            <a:ext cx="129888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 rot="13210200">
            <a:off x="7921440" y="658080"/>
            <a:ext cx="129852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3040" y="6539040"/>
            <a:ext cx="27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ffffff"/>
                </a:solidFill>
                <a:latin typeface="Arial"/>
              </a:rPr>
              <a:t>MTI Fernando Carlos Rivero Esqu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270920" y="4653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memories.com.mx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0Temario.ppt" TargetMode="External"/><Relationship Id="rId2" Type="http://schemas.openxmlformats.org/officeDocument/2006/relationships/hyperlink" Target="file:///00Pol&#237;ticas%20y%20Ponderaciones.ppt" TargetMode="External"/><Relationship Id="rId3" Type="http://schemas.openxmlformats.org/officeDocument/2006/relationships/hyperlink" Target="file:///00PoliticasyPonderaciones.ppt" TargetMode="External"/><Relationship Id="rId4" Type="http://schemas.openxmlformats.org/officeDocument/2006/relationships/hyperlink" Target="file:///00Pol&#237;ticas%20y%20Ponderaciones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flipH="1" rot="12127200">
            <a:off x="1187280" y="2996640"/>
            <a:ext cx="3346560" cy="2523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8360" y="1700280"/>
            <a:ext cx="7775640" cy="316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ecnología de la Inform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plicada a las empres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403280" y="4220640"/>
            <a:ext cx="62755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000000"/>
                </a:solidFill>
                <a:latin typeface="Arial"/>
                <a:ea typeface="Arial"/>
              </a:rPr>
              <a:t>mmgroup08@</a:t>
            </a:r>
            <a:r>
              <a:rPr b="1" lang="es-MX" sz="3900" spc="-1" strike="noStrike">
                <a:solidFill>
                  <a:srgbClr val="990000"/>
                </a:solidFill>
                <a:latin typeface="Arial"/>
                <a:ea typeface="Arial"/>
              </a:rPr>
              <a:t>gmail.com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61520" y="2242800"/>
            <a:ext cx="82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ÉXITO EN TU CUATRIMESTRE ESTOY PARA SERVIRT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2040" y="1666800"/>
            <a:ext cx="823752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 nombre: Fernando Carlos Rivero E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ormación Acadé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geniero en Sistemas Electrón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estría en Administración de Tecnologías de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eriencia profe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rector General, E-Memories (</a:t>
            </a:r>
            <a:r>
              <a:rPr b="0" lang="es-MX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memories.com.mx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rector Regional de Operaciones Zona Centro, Sism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erente de Servicios Educativos para MicroStrategy México y Región Norte de Latinoam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sultor Asociado para MicroStrategy México y Región Norte de Latinoam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eriencia doc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utación PS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utación en Inglés BS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ultimedios PS2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ultimedios en Inglés BS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utación Administrativa TI1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ercio Electrónico SI0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teligencia de Negocios TI3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920880"/>
            <a:ext cx="3781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127440" y="1679400"/>
            <a:ext cx="9091800" cy="29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i primer día de 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Cuáles son tus expectativas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Por qué es importante el curso de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I aplicada a la Empre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120" y="64620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latiquemos un p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79640" y="2924280"/>
            <a:ext cx="4925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xamen Diagnó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09560" y="1933200"/>
            <a:ext cx="77724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olíti</a:t>
            </a:r>
            <a:r>
              <a:rPr b="0" lang="es-MX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a</a:t>
            </a:r>
            <a:r>
              <a:rPr b="0" lang="es-MX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 y Ponder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1039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latiquemos un p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Individual (Examen Teór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Parejas (Talle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Equipo (Dinámicas y examen práct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611280"/>
            <a:ext cx="82389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orma de 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2852640"/>
            <a:ext cx="852804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Anu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Material Didác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Talleres y Prá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Exámenes Rá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0" y="611280"/>
            <a:ext cx="82389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ágina Informativa del Cur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16720" y="1844640"/>
            <a:ext cx="69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Times New Roman"/>
              </a:rPr>
              <a:t>www.angelfire.com/funky/uni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SISTEMAS DE INFORMACION GERENCI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LAUDON, KENNETH C. LAUDON, JANE P. PRENTICE HALL 200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ERP FOR DUMMI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LUCAS, MARY ELLEN, BISHOP, RONNIE RESOURCE PUBLISHING 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INTRODUCTION TO DATAMINING AND KNOWLEDGE DISCOVERY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DELSTEIN, HERBERT A. TWO CROWS CORP. 199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0" y="611280"/>
            <a:ext cx="82389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aterial de Consu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148428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Generar y ofrece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rvicios educativos en los niveles medio superior, superior y posgrado:</a:t>
            </a:r>
            <a:br>
              <a:rPr sz="2000"/>
            </a:b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conjugand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ducación científica y tecnológica sobre una base de </a:t>
            </a: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humanism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br>
              <a:rPr sz="2000"/>
            </a:b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promoviend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una actitud de </a:t>
            </a: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aprendizaje permanent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, una cultura basada en el esfuerzo y un espíritu de </a:t>
            </a: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superación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br>
              <a:rPr sz="2000"/>
            </a:b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combinand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la profundidad en el estudio de cada disciplina con una </a:t>
            </a: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visión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amplia de la empresa, la sociedad y la vida; </a:t>
            </a:r>
            <a:br>
              <a:rPr sz="2000"/>
            </a:b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buscando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evar permanentemente la </a:t>
            </a: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calidad académica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br>
              <a:rPr sz="2000"/>
            </a:b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adecuand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nuestros procesos educativos a las diversas </a:t>
            </a: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necesidades de los estudiante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, y </a:t>
            </a:r>
            <a:br>
              <a:rPr sz="2000"/>
            </a:b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aprovechando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icientemente los </a:t>
            </a: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recurso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de la institución para dar acceso a grupos más amplios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11280"/>
            <a:ext cx="82389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UNITEC: Mis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35:47Z</dcterms:created>
  <dc:creator>Administrador</dc:creator>
  <dc:description/>
  <dc:language>en-US</dc:language>
  <cp:lastModifiedBy>Administrador</cp:lastModifiedBy>
  <dcterms:modified xsi:type="dcterms:W3CDTF">2007-01-16T21:38:12Z</dcterms:modified>
  <cp:revision>2</cp:revision>
  <dc:subject/>
  <dc:title>Diapositiva 1</dc:title>
</cp:coreProperties>
</file>