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D83-1856-4494-BAAB-1B42848F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5A7-A7F0-4AD4-9F9B-BAFCD4A2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32C-2ECE-409B-82E7-CE2B3AAB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36C-4A7F-42F0-AC9B-956A0282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832-9E71-4E79-831D-D9953FB7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FEA-0354-47E5-B200-458C1EF9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08B-64B6-4260-A47D-05E4C4DE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10EA-F3A3-412C-A4C5-528D1D5C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54C-EF4F-43AD-BB26-AE2B8A24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36D-D82A-45AF-9606-15AAFBA7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759-6E8B-44D8-B1A5-582651DA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88D-14A5-4C66-BACF-88E923DD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0902-863B-495E-A465-B43C71CDD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50320" y="7452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 Unicode MS"/>
              </a:rPr>
              <a:t>IS5706 .TI aplicada a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4520" y="122400"/>
            <a:ext cx="320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500" spc="-1" strike="noStrike">
                <a:solidFill>
                  <a:srgbClr val="ffffff"/>
                </a:solidFill>
                <a:latin typeface="Arial"/>
              </a:rPr>
              <a:t>Universidad Tecnológica de Méx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17994000">
            <a:off x="-458640" y="3022200"/>
            <a:ext cx="4065480" cy="573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74" y="1677"/>
                  <a:pt x="9348" y="5080"/>
                  <a:pt x="9348" y="10800"/>
                </a:cubicBezTo>
                <a:cubicBezTo>
                  <a:pt x="9348" y="16520"/>
                  <a:pt x="15474" y="1992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2227800">
            <a:off x="7669080" y="729720"/>
            <a:ext cx="129888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V="1" rot="13210200">
            <a:off x="7921440" y="658080"/>
            <a:ext cx="129852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3040" y="6539040"/>
            <a:ext cx="27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ffffff"/>
                </a:solidFill>
                <a:latin typeface="Arial"/>
              </a:rPr>
              <a:t>MTI Fernando Carlos Rivero Esque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270920" y="465300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16000" y="1916280"/>
            <a:ext cx="6696000" cy="331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olíticas 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Pondera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2060640"/>
            <a:ext cx="8497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a entrada es 10 después de las 6:00 p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l retardo = Falta en la clase (pueden entrar de todas formas si así lo desean para no atrasar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a salida es 10 minutos antes de las 8:00 p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920880"/>
            <a:ext cx="7494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Políticas: Derechos y oblig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2375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Obligación de asistir al </a:t>
            </a:r>
            <a:r>
              <a:rPr b="1" lang="es-MX" sz="3600" spc="-1" strike="noStrike">
                <a:solidFill>
                  <a:srgbClr val="ff3300"/>
                </a:solidFill>
                <a:latin typeface="Arial"/>
              </a:rPr>
              <a:t>80%</a:t>
            </a: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 de tus clas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Derecho a un máximo de faltas al cuatrimestre de </a:t>
            </a:r>
            <a:r>
              <a:rPr b="1" lang="es-MX" sz="3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20880"/>
            <a:ext cx="7494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Políticas: Derechos y oblig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2040" y="1666800"/>
            <a:ext cx="823752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Requerimientos para justificar fal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tivos de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cibo de honorarios + justificante méd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guridad Púb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ctas del ministerio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Arial"/>
              </a:rPr>
              <a:t>No se justifican faltas por motivos laborarles o familia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920880"/>
            <a:ext cx="7494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Políticas: Derechos y oblig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1680" y="1666440"/>
            <a:ext cx="497196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alificación Bimestral 40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xamen Teórico 50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xamen Práctico 50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xamen Final 50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xamen Teórico 50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xamen Práctico 50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articipación 10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920880"/>
            <a:ext cx="3781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onder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421600" y="3527280"/>
            <a:ext cx="3260160" cy="857160"/>
            <a:chOff x="5421600" y="3527280"/>
            <a:chExt cx="3260160" cy="8571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7538760" y="352728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421600" y="37350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nor a 6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436360" y="1916280"/>
            <a:ext cx="3485160" cy="698400"/>
            <a:chOff x="5436360" y="1916280"/>
            <a:chExt cx="3485160" cy="69840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8130240" y="1916280"/>
              <a:ext cx="79128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436360" y="2033640"/>
              <a:ext cx="1773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Mayor a 60%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716360" y="1413000"/>
            <a:ext cx="935280" cy="3744720"/>
          </a:xfrm>
          <a:custGeom>
            <a:avLst/>
            <a:gdLst>
              <a:gd name="textAreaLeft" fmla="*/ 0 w 935280"/>
              <a:gd name="textAreaRight" fmla="*/ 337680 w 93528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2040" y="1666800"/>
            <a:ext cx="82375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quivalen al 10% de la calificación fin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Arial"/>
              </a:rPr>
              <a:t>Se hará un corte al primer bimestre equivalente al 5%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Arial"/>
              </a:rPr>
              <a:t>El 5% restante comenzará a contarse después del examen bimestra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920880"/>
            <a:ext cx="6846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istema de particip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2040" y="1666800"/>
            <a:ext cx="82375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¿Cuántas participaciones necesito para obtener el 5% correspondient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Arial"/>
              </a:rPr>
              <a:t>promedio grupal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quivaldrá a ese 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arlos tien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Laura tiene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Ramón tiene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Pepe tien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Si mi grupo es de 4 personas ¿Cuántas participaciones equivalen al 5%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920880"/>
            <a:ext cx="6846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istema de particip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2040" y="1666800"/>
            <a:ext cx="823752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l profesor es responsable de seleccionar quién participará (normalmente quien tiene menos o levanta la man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s posible sobrepasar el 5% bimestral, y se tomará como extra en el examen práctico correspondien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No son acumulables entre cada bimest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punta lo que se te preguntó en tu cuaderno (requisito para reclamar la participació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l final de la clase el profesor registrará las participaciones del dí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920880"/>
            <a:ext cx="6846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istema de particip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2040" y="1666800"/>
            <a:ext cx="823752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studiantes con </a:t>
            </a:r>
            <a:r>
              <a:rPr b="1" lang="es-MX" sz="3500" spc="-1" strike="noStrike">
                <a:solidFill>
                  <a:srgbClr val="ff0000"/>
                </a:solidFill>
                <a:latin typeface="Arial"/>
              </a:rPr>
              <a:t>cero</a:t>
            </a: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 falt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studiantes con un </a:t>
            </a:r>
            <a:r>
              <a:rPr b="1" lang="es-MX" sz="3500" spc="-1" strike="noStrike">
                <a:solidFill>
                  <a:srgbClr val="ff0000"/>
                </a:solidFill>
                <a:latin typeface="Arial"/>
              </a:rPr>
              <a:t>promedio máximo de 90 o más</a:t>
            </a: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 antes del examen final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920880"/>
            <a:ext cx="6846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compen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1:35:47Z</dcterms:created>
  <dc:creator>Administrador</dc:creator>
  <dc:description/>
  <dc:language>en-US</dc:language>
  <cp:lastModifiedBy>Administrador</cp:lastModifiedBy>
  <dcterms:modified xsi:type="dcterms:W3CDTF">2007-01-16T21:37:40Z</dcterms:modified>
  <cp:revision>2</cp:revision>
  <dc:subject/>
  <dc:title>Diapositiva 1</dc:title>
</cp:coreProperties>
</file>