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BC8-E128-4135-8B50-7FAAA34B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8CE-2917-48CF-B2ED-0705CB9D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5A8-E50B-4D3B-981F-9709C604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823-21F1-40C4-B7F8-2ECE1220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BD5-F696-4D6F-97D0-7A199EB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B6C-41E9-429A-84BA-9A7989F6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268-8909-48FD-90BE-200FD04A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002-6DC8-4FA4-BAE8-5605EEA6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383-86A3-4779-8B2A-D9DE0057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8E4-D7EF-432D-93B1-ED0F5EAD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4B3-D392-4968-A6FD-7CE41F2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B35-E0A6-4804-A92D-2A78A1F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3358-321B-4D65-9B7C-A0E2815E8354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google.no/imgres?imgurl=http://www.braastad-golf.no/images/sverre.gif&amp;imgrefurl=http://www.braastad-golf.no/html/reisetilbud.htm&amp;h=200&amp;w=200&amp;sz=15&amp;tbnid=MVPkLKTzYEYSyM:&amp;tbnh=99&amp;tbnw=99&amp;hl=no&amp;start=5&amp;prev=/images%3Fq%3Dbraastad%2Bcognac%26svnum%3D10%26hl%3Dno%26lr%3D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ennligst finn plassene deres og fall til 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4560" cy="11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3083040" cy="4249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52000" y="5734080"/>
            <a:ext cx="792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Aj aj 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Forslag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4 natten så skal alle få opple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One night in Paris Hi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Hilton Paris La Defense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3800" cy="1125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352000" y="5734080"/>
            <a:ext cx="792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Welcome to Hilton Paris La Defense - Photo Tour"/>
          <p:cNvPicPr/>
          <p:nvPr/>
        </p:nvPicPr>
        <p:blipFill>
          <a:blip r:embed="rId1"/>
          <a:stretch/>
        </p:blipFill>
        <p:spPr>
          <a:xfrm>
            <a:off x="995400" y="1600200"/>
            <a:ext cx="296064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4560" cy="1197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Hilton Paris La Defense Hotel"/>
          <p:cNvPicPr/>
          <p:nvPr/>
        </p:nvPicPr>
        <p:blipFill>
          <a:blip r:embed="rId3"/>
          <a:stretch/>
        </p:blipFill>
        <p:spPr>
          <a:xfrm>
            <a:off x="4211640" y="2421000"/>
            <a:ext cx="3887640" cy="2494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299440" y="5661000"/>
            <a:ext cx="8445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Litt utenfor sentrum, 2 miles fra Champs Elysees. 4 miles til Eiffeltå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en rett i nærheten av CNIT convention center og La Grande Ar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Og for de ivrige kun 20 miles fra selveste Disney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30 min fra CD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720,- per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4560" cy="119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48680" y="5589720"/>
            <a:ext cx="895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Alternativt har vi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De La Perdrix Rouge Hotel Par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t anbefalt(?) hotell nære turistområder og ”the business distric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Pris: 500,- per 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Absolutt koselig og grei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Hotel entrance"/>
          <p:cNvPicPr/>
          <p:nvPr/>
        </p:nvPicPr>
        <p:blipFill>
          <a:blip r:embed="rId1"/>
          <a:stretch/>
        </p:blipFill>
        <p:spPr>
          <a:xfrm>
            <a:off x="971640" y="1773360"/>
            <a:ext cx="2941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Debatten kjøres igang utover kvelden med korte og lange, usaklige og saklige, men alltid like viktige  pas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192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2592360" cy="17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84920" y="1647720"/>
            <a:ext cx="347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Aj aj, var vi ikke ferdige nå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i var visst ikke det, i disse OL-tider så mangler det visst en liten, men akk så viktig ting som hører hjemme i et hvert møte, i en enhver cognacklubb med respekt for seg selv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3800" cy="1125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52000" y="5734080"/>
            <a:ext cx="792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Poengoversikt OL 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Poengoversikt etter 70 av 84 øvelser - Topp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Land Po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skland 17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USA 145,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anada 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ussland 1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ussland 1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orge 126,5 (Altså den hederlige 6.pla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veits 8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verige 78 (Se det, 8.p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talia 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rankrike 7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5400" spc="-1" strike="noStrike">
                <a:solidFill>
                  <a:srgbClr val="000000"/>
                </a:solidFill>
                <a:latin typeface="Arial"/>
              </a:rPr>
              <a:t>Cognac 200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8 me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5 d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1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Uendelig mye morr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0600" y="1600200"/>
            <a:ext cx="319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040" cy="132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Hôtel l'Heri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Her er </a:t>
            </a:r>
            <a:r>
              <a:rPr b="1" lang="nb-NO" sz="2800" spc="-1" strike="noStrike" u="sng">
                <a:solidFill>
                  <a:srgbClr val="000000"/>
                </a:solidFill>
                <a:uFillTx/>
                <a:latin typeface="Arial"/>
              </a:rPr>
              <a:t>tanken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 at vi skal bo de to første nettene.</a:t>
            </a: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600,- per rom per natt. (Omtrent)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Hotel Franï¿½ois 1er"/>
          <p:cNvPicPr/>
          <p:nvPr/>
        </p:nvPicPr>
        <p:blipFill>
          <a:blip r:embed="rId2"/>
          <a:stretch/>
        </p:blipFill>
        <p:spPr>
          <a:xfrm>
            <a:off x="755640" y="1700280"/>
            <a:ext cx="2678040" cy="41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59840" y="5605560"/>
            <a:ext cx="88416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otel Franï¿½ois 1er rom"/>
          <p:cNvPicPr/>
          <p:nvPr/>
        </p:nvPicPr>
        <p:blipFill>
          <a:blip r:embed="rId1"/>
          <a:stretch/>
        </p:blipFill>
        <p:spPr>
          <a:xfrm>
            <a:off x="468360" y="2276640"/>
            <a:ext cx="4032360" cy="2676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Hotel Franï¿½ois 1er rom"/>
          <p:cNvPicPr/>
          <p:nvPr/>
        </p:nvPicPr>
        <p:blipFill>
          <a:blip r:embed="rId2"/>
          <a:stretch/>
        </p:blipFill>
        <p:spPr>
          <a:xfrm>
            <a:off x="4643280" y="2276640"/>
            <a:ext cx="4032360" cy="2678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6720" cy="1328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207280" y="5529240"/>
            <a:ext cx="9367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931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Dette er et meget sentralt beliggende to stjerners hotell i Cognac by med gåavstand til "alt".</a:t>
            </a:r>
            <a:br>
              <a:rPr sz="2800"/>
            </a:b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Hotellet er meget sjarmerende, er nyoppusset og har et hyggelig vertskap som vil ta vare på </a:t>
            </a:r>
            <a:r>
              <a:rPr b="1" lang="nb-NO" sz="2800" spc="-1" strike="noStrike" u="sng">
                <a:solidFill>
                  <a:srgbClr val="000000"/>
                </a:solidFill>
                <a:uFillTx/>
                <a:latin typeface="Arial"/>
              </a:rPr>
              <a:t>deg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på </a:t>
            </a:r>
            <a:r>
              <a:rPr b="1" lang="nb-NO" sz="2800" spc="-1" strike="noStrike" u="sng">
                <a:solidFill>
                  <a:srgbClr val="000000"/>
                </a:solidFill>
                <a:uFillTx/>
                <a:latin typeface="Arial"/>
              </a:rPr>
              <a:t>beste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måte. Hotellet har en god restaurant ( delvis ute ) og </a:t>
            </a:r>
            <a:r>
              <a:rPr b="1" lang="nb-NO" sz="2800" spc="-1" strike="noStrike" u="sng">
                <a:solidFill>
                  <a:srgbClr val="000000"/>
                </a:solidFill>
                <a:uFillTx/>
                <a:latin typeface="Arial"/>
              </a:rPr>
              <a:t>bar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Og er anbefalt av Imagine Rei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" cy="129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199360" y="5516640"/>
            <a:ext cx="944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97920" y="5516640"/>
            <a:ext cx="946080" cy="1341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Grunnet manglende svar fra Hotel Heritage, så er dette alternativet for de første da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Hotel Ibis Cogn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4840" y="1700280"/>
            <a:ext cx="3992400" cy="403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95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Sentralt, like ved turistkontor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Ikke langt fra Cha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Kjedehotell og mange rom(40), altså større sjanse for at det er ledig. Og nr. 4 på hotelpoppislista i Cogn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Total from Aug 30, 2006 to Sep 01, 2006 - 1035.78 NOK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 - per 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b-NO" sz="2800" spc="-1" strike="noStrike">
                <a:solidFill>
                  <a:srgbClr val="000000"/>
                </a:solidFill>
                <a:latin typeface="Arial"/>
              </a:rPr>
              <a:t>Breakfast available at extra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3800" cy="1125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52000" y="5734080"/>
            <a:ext cx="792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3800" cy="1125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616720" cy="4422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256600" y="5600880"/>
            <a:ext cx="88740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vor skal vi b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4560" cy="1197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Natt nr. 3 skal tilbringes p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Chateau de Tria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For visse bedre kjent som Braastad Slo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Natten hos Sverre koster 1200,- per pers inkludert midd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2205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299440" y="5661000"/>
            <a:ext cx="8445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1:00:45Z</dcterms:created>
  <dc:creator>Anders Sildnes</dc:creator>
  <dc:description/>
  <dc:language>en-US</dc:language>
  <cp:lastModifiedBy>Anders Sildnes</cp:lastModifiedBy>
  <dcterms:modified xsi:type="dcterms:W3CDTF">2006-02-24T15:13:37Z</dcterms:modified>
  <cp:revision>12</cp:revision>
  <dc:subject/>
  <dc:title>Hvor skal vi bo?</dc:title>
</cp:coreProperties>
</file>