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344-517E-4BA4-96D3-CEA6579D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978-09B8-4B98-BDAB-7FE50D5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120-6A27-41B2-976D-A9ED50F4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51F-F0A1-4B22-9B1F-455F0931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0531C-CC35-4681-95E3-6B34315D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0932-2BC9-4515-9415-9E9CD19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F43D0-14F1-46B7-BF7F-78E9A44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07C7B-BA7B-4B6A-9C51-362BAF8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2B231-53CB-4705-92F0-A255E63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EAD8-73C5-4255-A46F-C0DD39EE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1ACB-DD7C-465F-A836-FBAE649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DE4-3EC5-4167-8551-9B3D1B45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F6CE1-1B58-4A72-BE9B-4A00A80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DE162-3B7A-461E-B114-6B5E9C0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9B31-CA10-4F11-8072-21D79D5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6D3D-5FDD-461C-9420-85126050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82C0E-F7B5-44FE-AD48-113D551E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44F-272E-4B65-87AD-ACCC721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EFB-3DF5-41A8-875C-312E8596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69B-5BE3-4AFC-B682-C3E3B83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58E-D96E-4FD3-B4FB-9282C758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46E-4134-485D-83D0-0FDDA892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6D-7248-4DBD-9605-B4D1458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79A-44FD-41F0-9BCF-EDD23F4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5DC-1A71-40C4-BA31-075A58E64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FB3C-0171-4B8A-A966-FB68EA147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i.edu/tfi/units/rocks/rocks.html" TargetMode="External"/><Relationship Id="rId2" Type="http://schemas.openxmlformats.org/officeDocument/2006/relationships/hyperlink" Target="http://www.fi.edu/tfi/units/rocks/rocks.html" TargetMode="External"/><Relationship Id="rId3" Type="http://schemas.openxmlformats.org/officeDocument/2006/relationships/hyperlink" Target="http://volcano.und.nodak.edu/.../vwlessons/lessons/Slideshow/Slideinex.html" TargetMode="External"/><Relationship Id="rId4" Type="http://schemas.openxmlformats.org/officeDocument/2006/relationships/hyperlink" Target="http://volcano.und.nodak.edu/.../vwlessons/lessons/Slideshow/Slideinex.html" TargetMode="External"/><Relationship Id="rId5" Type="http://schemas.openxmlformats.org/officeDocument/2006/relationships/hyperlink" Target="http://volcano.und.nodak.edu/.../vwlessons/lessons/Slideshow/Slideinex.html" TargetMode="External"/><Relationship Id="rId6" Type="http://schemas.openxmlformats.org/officeDocument/2006/relationships/hyperlink" Target="http://volcano.und.nodak.edu/.../vwlessons/lessons/Slideshow/Slideinex.html" TargetMode="External"/><Relationship Id="rId7" Type="http://schemas.openxmlformats.org/officeDocument/2006/relationships/hyperlink" Target="http://volcano.und.nodak.edu/.../vwlessons/lessons/Slideshow/Slideinex.html" TargetMode="External"/><Relationship Id="rId8" Type="http://schemas.openxmlformats.org/officeDocument/2006/relationships/hyperlink" Target="http://volcano.und.nodak.edu/.../vwlessons/lessons/Slideshow/Slideinex.html" TargetMode="External"/><Relationship Id="rId9" Type="http://schemas.openxmlformats.org/officeDocument/2006/relationships/hyperlink" Target="http://cte.jhu.edu/techacademy/fellows/brannon/webquest/kmbindex.html" TargetMode="External"/><Relationship Id="rId10" Type="http://schemas.openxmlformats.org/officeDocument/2006/relationships/hyperlink" Target="http://edtech.kennesaw.edu/web/rocks.html" TargetMode="External"/><Relationship Id="rId11" Type="http://schemas.openxmlformats.org/officeDocument/2006/relationships/hyperlink" Target="http://edtech.kennesaw.edu/web/rocks.html" TargetMode="External"/><Relationship Id="rId12" Type="http://schemas.openxmlformats.org/officeDocument/2006/relationships/audio" Target="../media/push.wav"/><Relationship Id="rId1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otf.edu/ete/modules/msese/earthsysflr/rock.html" TargetMode="External"/><Relationship Id="rId2" Type="http://schemas.openxmlformats.org/officeDocument/2006/relationships/hyperlink" Target="http://www.cotf.edu/ete/modules/msese/earthsysflr/rock.html" TargetMode="External"/><Relationship Id="rId3" Type="http://schemas.openxmlformats.org/officeDocument/2006/relationships/hyperlink" Target="http://images.search.yahoo.com/search/images" TargetMode="External"/><Relationship Id="rId4" Type="http://schemas.openxmlformats.org/officeDocument/2006/relationships/hyperlink" Target="http://mineral.galleries.com/minerals/silicate/quartz/quart" TargetMode="External"/><Relationship Id="rId5" Type="http://schemas.openxmlformats.org/officeDocument/2006/relationships/hyperlink" Target="http://mineral.galleries.com/minerals/silicate/quartz/quart" TargetMode="External"/><Relationship Id="rId6" Type="http://schemas.openxmlformats.org/officeDocument/2006/relationships/hyperlink" Target="http://mineral.galleries.com/minerals/silicate/quartz/quart" TargetMode="External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neral.galleries.com/minerals/gemstone/rock_cry/roc-21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mineral.galleries.com/minerals/gemstone/rock_cry/roc-42.jpg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HAPTER 10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erals and R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Jamie Desro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4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Luster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kinds of 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l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metal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rl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ommon Luster Char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09680" y="1066680"/>
          <a:ext cx="4648320" cy="4729320"/>
        </p:xfrm>
        <a:graphic>
          <a:graphicData uri="http://schemas.openxmlformats.org/drawingml/2006/table">
            <a:tbl>
              <a:tblPr/>
              <a:tblGrid>
                <a:gridCol w="2212920"/>
                <a:gridCol w="24354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c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ar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rn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7010280" y="5486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Color of the mark a mineral makes on a white til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17340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622840" y="4964040"/>
            <a:ext cx="2759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2578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ahoo image, 2005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push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rd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The ability of a mineral to resist being scratche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Streak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eak test helps to identify a mi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eak may be different then the minerals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inerals are so hard that they do not leave a st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Hardnes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logist use a hardness scale from 1 to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le is called the Mohs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r the number the harder the mi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ineral with a higher number will scratch a lower numbered miner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Mohs Scale of Hardness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66680" y="990720"/>
          <a:ext cx="7315200" cy="421632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37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ily scratch by fingerna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yps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tch by fingerna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c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ley scratched by copper pen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ily scratched by ste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t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tched by ste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dsp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tches glass easi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t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tches both glass and steel easi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a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tches quart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und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imple 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o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imple 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943600" y="5562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Self-Check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answer in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miner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wo common miner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can’t color alone be used to identify miner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a streak test helpful in identifying miner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ardness of quartz is 7.  The hardness of topaz is 8. Will quartz scratch topaz.  Expl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urally occurring solid, not made of living things, with a definite atomic pattern and the same chemical composition throug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may vary but may include: gold, quartz, diamonds, carbon, feldspar, 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inerals are found in more than one color, and many minerals are similar in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neral streak may be different then the mineral’s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, on the Mohs hardness scale, a mineral with a higher number is harder than a mineral with a lower number.   The softer mineral. Quartz will not scratch the harder mineral to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Lesson 2 What are rocks?</a:t>
            </a:r>
            <a:br>
              <a:rPr sz="4000"/>
            </a:b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at rocks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nd describe three main types of r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rock cycl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Lesson 1 What are minerals?</a:t>
            </a:r>
            <a:br>
              <a:rPr sz="4000"/>
            </a:br>
            <a:r>
              <a:rPr b="0" lang="en-US" sz="3200" spc="-1" strike="noStrike">
                <a:solidFill>
                  <a:srgbClr val="ccaa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at a mineral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ome common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four properties of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o test the streak and hardness of a mi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Natural solid material made of one or more minerals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Go to fullsize image"/>
          <p:cNvPicPr/>
          <p:nvPr/>
        </p:nvPicPr>
        <p:blipFill>
          <a:blip r:embed="rId1"/>
          <a:stretch/>
        </p:blipFill>
        <p:spPr>
          <a:xfrm>
            <a:off x="4800600" y="1523880"/>
            <a:ext cx="3429000" cy="2401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800600" y="4419720"/>
            <a:ext cx="3429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267080"/>
            <a:ext cx="32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34340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ahoo image, 2005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push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Minerals make up rock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20% of minerals make up 95% of r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who study rocks are interested in which minerals make them up and how the rocks are 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ormation helps locate valuable resource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efinitions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gneous 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Rock formed from melted minerals the have cooled and hard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g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Hot liquid rock insid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tamorphic 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Rock that had been changed by intense heat, pressure, and chemical re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dimentary r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Rock formed from pieces of other rock and organic matter that was pressed and cemented together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Three Types of Rock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s are classified by how they a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 rocks are formed from magma inside the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s are formed from heat an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ary rocks are formed by bits and pieces cemented together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Rock Image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1047960" cy="1238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ft-sedimentary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iddle-metamorphic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right-Igneous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Yahoo image, 2005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050920" cy="2171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95880" y="1447920"/>
            <a:ext cx="2362320" cy="17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4" name="push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ommon Rock Char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7772400" cy="3809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c97"/>
                          </a:solidFill>
                          <a:latin typeface="Arial"/>
                        </a:rPr>
                        <a:t>Igne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c97"/>
                          </a:solidFill>
                          <a:latin typeface="Arial"/>
                        </a:rPr>
                        <a:t>Sediment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c97"/>
                          </a:solidFill>
                          <a:latin typeface="Arial"/>
                        </a:rPr>
                        <a:t>Metamorph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hibol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r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m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ei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n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id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est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quartz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m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st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i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yol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63244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ck Cyc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eries of changes through which one kind of rock becomes another kind of rock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The Rock Cycle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ma rises, cools, and hardens into igneous r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ises to the surface breaks apart, forming sed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diment is carried to the ocean by rivers were it builds up and becomes sedimentary r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and pressure change it into metamorphic r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ock cycle can have many other pa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272120" cy="3805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648320" y="5562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The Rock Cycle, 1997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push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Self-Check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answer in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ro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main types of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ype of rock is gran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metamorphic rocks f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ock cyc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0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heck Your Work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solid material made of one or more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, sedimentary, and metamorphic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, pressure, and hot fluids change the appearance and texture of preexisting rock to form metamorphic rock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a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ies of changes that rocks undergo as they change into other r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push.wav"/>
      </p:stSnd>
    </p:sndAc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4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e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Element or compound found in the Earth’s cru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Quiz</a:t>
            </a:r>
            <a:br>
              <a:rPr sz="40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answer in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four features that all minerals have in com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ro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scientist use information about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three types of rock and describe how each type if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the “quick test” is used to estimate a mineral’s hard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YI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ore information about rocks and minerals please check out the following web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eral Gall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fi.edu/tfi/units/rocks/rock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 and Mineral Slide 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volcano.und.nodak.edu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/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..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vwlessons/lessons/Slideshow/Slidein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and Mineral Web 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http://cte.jhu.edu/techacademy/fellows/brannon/webquest/kmbindex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and Mineral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edtech.kennesaw.edu/web/rock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2" name="push.wav"/>
      </p:stSnd>
    </p:sndAc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"/>
                            </p:stCondLst>
                            <p:childTnLst>
                              <p:par>
                                <p:cTn id="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Educational Technology, (1997). The roc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cle. retrieved Jan. 22, 2005, from Earth's Cycl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ite: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.cotf.edu/ete/modules/msese/earthsysflr/rock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hall, R., Jacobs, D., Rosskopf, A., &amp; LaRue, C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1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neral sci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ircle Pines, M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Guidance Serv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hoo image. (2005). retrieved Jan. 22, 2005, fr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 imagin Web sit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images.search.yahoo.com/search/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ethyst. (2003). Retrieved February 8,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methyst web site: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mineral.galleries.com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/minerals/silicate/quartz/qu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7" name="push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sol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formed natu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the same chemical makeup throug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a definite arrangement of at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ommon Mineral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,000 differ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minerals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ds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yps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z vibrates at a precise, constant speed when electricity passes through it.  Watches use tiny bits of vibrating quartz to keep tim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HERKIMER DIAMO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082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ROCK CRYST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1523880"/>
            <a:ext cx="1463760" cy="109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76920" y="2971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he Amethysts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5" name="push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properties can be used to identify miner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inerals have unique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ulfur is usually bright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z may be clear, pink, black, white, or pur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 is only one clue to a mineral’s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efinition</a:t>
            </a:r>
            <a:br>
              <a:rPr sz="4400"/>
            </a:br>
            <a:r>
              <a:rPr b="0" lang="en-US" sz="2400" spc="-1" strike="noStrike">
                <a:solidFill>
                  <a:srgbClr val="ccaa00"/>
                </a:solidFill>
                <a:latin typeface="Arial"/>
              </a:rPr>
              <a:t>(Please enter into your notebook)</a:t>
            </a:r>
            <a:endParaRPr b="0" lang="en-US" sz="2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u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way a mineral reflects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rshall et al, 2001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push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21:40:43Z</dcterms:created>
  <dc:creator>TEACHER</dc:creator>
  <dc:description/>
  <dc:language>en-US</dc:language>
  <cp:lastModifiedBy>EHabbyshaw</cp:lastModifiedBy>
  <dcterms:modified xsi:type="dcterms:W3CDTF">2005-02-12T01:02:59Z</dcterms:modified>
  <cp:revision>26</cp:revision>
  <dc:subject/>
  <dc:title>CHAPTER 10</dc:title>
</cp:coreProperties>
</file>