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F79-40DF-4F3B-B4BF-DFF37BA5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F1-A83B-40A5-9622-D06E697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12E-DE22-4C11-A2D0-2883EC7B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527-FB69-4BB0-B710-74B41481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248-6DC0-4A5F-A349-4248C15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A19-265A-47AC-ABFB-8350571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F3D-27DA-45DA-9614-0E3FB74C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891-87A4-4CBB-90CE-C3F2146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362-FE9D-47D5-A0FE-E637049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C6C-4838-4EA1-948B-D497BE8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441-2F98-46B7-803D-203D090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33A-DE64-4DA7-8BE7-DD57F00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B40-BB31-45C4-8280-82E0D4A2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-533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429000"/>
            <a:ext cx="3429000" cy="2438280"/>
          </a:xfrm>
          <a:prstGeom prst="rightArrow">
            <a:avLst>
              <a:gd name="adj1" fmla="val 50000"/>
              <a:gd name="adj2" fmla="val 351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0384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 Paul Two Times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-20520"/>
            <a:ext cx="7162560" cy="69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381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-6480"/>
            <a:ext cx="7010640" cy="687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80960" y="0"/>
            <a:ext cx="6382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41360" y="0"/>
            <a:ext cx="646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50960" y="0"/>
            <a:ext cx="5840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-14400"/>
            <a:ext cx="7010640" cy="68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52520" y="0"/>
            <a:ext cx="6437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76560" y="0"/>
            <a:ext cx="4790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1136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1:01:05Z</dcterms:created>
  <dc:creator>Holy Family University Client</dc:creator>
  <dc:description/>
  <dc:language>en-US</dc:language>
  <cp:lastModifiedBy>Tom Holtje</cp:lastModifiedBy>
  <dcterms:modified xsi:type="dcterms:W3CDTF">2006-05-12T04:58:28Z</dcterms:modified>
  <cp:revision>13</cp:revision>
  <dc:subject/>
  <dc:title>Slide 1</dc:title>
</cp:coreProperties>
</file>