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879-FECC-4E8C-AF92-85470BD3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373-3BE3-414A-9688-1E0F1104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7FB-3AD0-449F-81DA-DCEB1ACA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BD9-F25F-4D10-82D2-94A3AC75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590-FB12-4EBD-9806-78F73005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76C-E618-4059-B6C9-14A15C3A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7D0-0B6E-4D5B-BEF7-DB39BD12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332-13A1-42C7-9111-0FAC3F74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B22-8EB8-4ED0-A05B-84EA860F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FD3-A05B-4534-B76A-10F6BC2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6C9-2BDC-49FC-A11E-D8A814C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81F-98F9-441B-8177-E681F85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62C4-031D-4CFF-8AB6-CFE84F4A9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slie%20Closeup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slie%20Taping%20Meat%20by%20Plates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00:13:57Z</dcterms:created>
  <dc:creator>Unknown User</dc:creator>
  <dc:description/>
  <dc:language>en-US</dc:language>
  <cp:lastModifiedBy>Unknown User</cp:lastModifiedBy>
  <dcterms:modified xsi:type="dcterms:W3CDTF">2001-04-02T00:14:08Z</dcterms:modified>
  <cp:revision>1</cp:revision>
  <dc:subject/>
  <dc:title>PowerPoint Presentation</dc:title>
</cp:coreProperties>
</file>