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10D-B358-400F-A2B9-9B569379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045-EF51-41BB-920E-2027FDEE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58B-6BBC-4DD8-A895-D1D981E3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0368-F203-4E33-81E6-9D6992A0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145A-62C0-451E-A68E-70A12C21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B709-B5D1-4A14-A932-562BFBDE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F9B8-55F2-4478-B6AD-39A98B35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2902-41B2-4A95-BC49-2C5AB692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D798-E698-4DB3-83F1-22B7BA08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4FA-7FD9-4B19-9948-273835B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5D96-A0AD-4DDC-8195-C394F9F2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787-77A7-48D1-B496-9951BC44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0BBD-2E05-4D81-BC1B-5B1B4E5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507C-E2B6-4967-9339-12071841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239-0BE0-4A5D-8312-5DDE0CA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2143-2F4C-4B40-8E1B-9C9B6147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C7A2-2833-4441-90A9-7742E789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FA5-C276-47E0-A055-26F18BF7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927-9228-4C7E-AEB0-7FF41AFC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917-3235-484F-B876-312E6224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914-0752-4502-A5CB-9D07D8A8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7FB-4A9B-49D8-AA36-6129107E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F8C-E6A1-4206-B6FE-0F38C70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394-C47B-43DD-9E95-A50C8B1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666-B8BB-4969-8DD6-FE3752EB6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951-9F5F-404D-85C3-3CACD3E96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21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221304"/>
                </a:solidFill>
                <a:latin typeface="Times New Roman"/>
              </a:rPr>
              <a:t>Universidad Liceo Cervantin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106668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umno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. De Lourdes Vargas Aguil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Semestre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ero. De Pre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ignatur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dquisición y Desenvolvimiento del Lengu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ema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s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esor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ópez Guerrero Ma. Tere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ech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rapuato Gto, 20 de Enero de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Conclusiones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El pequeño es un ser curioso, moldeable, aprendiz. Es responsabilidad de los adultos el impartir los conocimientos indicados para su buen desarrol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La lectura y escritura correctas son una herramienta sumamente importante para la vida de cualquier ser human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unicación entre el docente y el alumno, puede cambiar a vida del niño y al final del ciclo escolar puede darnos una inmensa satisfacción y la mejor paga que el pequeño pudiera darnos, una pequeña hoja de papel con 2 palabras escritas;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Gracias Maestr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niños%20leyendo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411480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20012400">
            <a:off x="1295280" y="3200400"/>
            <a:ext cx="3886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"Gracias Maestra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Introducción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Todos los seres humanos somos el resultado de un proceso de millones de años. Al igual que nuestra fisiología, nuestra forma de comunicarnos va adquiriendo su esencia propia a través del paso del tiempo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Éste proceso comienza al momento de escuchar las palabras  que los demás mencionan hasta que se van haciendo familiares y poco a poco vamos entendiendo su significado;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desde que somos bebés hasta llegar a la edad adulta, desde que solo balbuceábamos hasta que somos capaces de dar un discurso y todo mediante el proceso de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dquisición y  Desenvolvimiento del Legua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niños%20leyendo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4114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21304"/>
                </a:solidFill>
                <a:latin typeface="Arial"/>
                <a:ea typeface="Arial"/>
              </a:rPr>
              <a:t> </a:t>
            </a:r>
            <a:r>
              <a:rPr b="1" lang="es-MX" sz="2400" spc="-1" strike="noStrike">
                <a:solidFill>
                  <a:srgbClr val="221304"/>
                </a:solidFill>
                <a:latin typeface="Arial"/>
                <a:ea typeface="Arial"/>
              </a:rPr>
              <a:t>EL SIGNIFICADO DE LAS EXPERIENCIAS DE LOS NIÑOS EN RELACION CON EL LENGUAJE DURANTE LA EDUCACION PREESCOLAR.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a socialización a través de diversos contex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lenguaje y la soci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a socialización lingüística explícita: qué decir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Los padres como interlocu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El habla de los herm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ather_and_son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3301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221304"/>
                </a:solidFill>
                <a:latin typeface="Times New Roman"/>
              </a:rPr>
              <a:t>La Escuela Y Más All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La socialización del lenguaje en la escue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Los compañeros como interlocutore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camino hacia la escritura y la lec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aula como espacio comuni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scritura (lectura) de palabras y text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S00559_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733920" cy="2117880"/>
          </a:xfrm>
          <a:prstGeom prst="rect">
            <a:avLst/>
          </a:prstGeom>
          <a:ln w="0">
            <a:noFill/>
          </a:ln>
        </p:spPr>
      </p:pic>
      <p:pic>
        <p:nvPicPr>
          <p:cNvPr id="101" name="BS00554_" descr=""/>
          <p:cNvPicPr/>
          <p:nvPr/>
        </p:nvPicPr>
        <p:blipFill>
          <a:blip r:embed="rId2"/>
          <a:stretch/>
        </p:blipFill>
        <p:spPr>
          <a:xfrm>
            <a:off x="1752480" y="3276720"/>
            <a:ext cx="2673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21304"/>
                </a:solidFill>
                <a:latin typeface="Arial"/>
                <a:ea typeface="Arial"/>
              </a:rPr>
              <a:t>LA EDUCADORA, LAS RELACIONES PEDAGÓGICAS Y EL DESARROLLO LINGÜÍSTICO DE LOS NIÑO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aprendizaje en interacción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Hablar y escuchar, Tiempo de compartir*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La zona de desarrollo próxim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El andamiaje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teacher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381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En El Jardín Los Senderos No Se Bifurcan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Pensamiento divergente y convergente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Lenguaje creativo y lenguaje informativ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Lo imaginario y lo real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NURSERY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21304"/>
                </a:solidFill>
                <a:latin typeface="Arial"/>
                <a:ea typeface="Arial"/>
              </a:rPr>
              <a:t>Competencia En El Uso Pedagógico De Algunas Formas Comunicativas Relevantes Para El Desarrollo Lingüístico Y Cognitivo De Los Niños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expositivo*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Mostrar y dec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  <a:ea typeface="Arial"/>
              </a:rPr>
              <a:t>La mejora de las habilidades comunicativas de los enseñ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ibujo" descr=""/>
          <p:cNvPicPr/>
          <p:nvPr/>
        </p:nvPicPr>
        <p:blipFill>
          <a:blip r:embed="rId1"/>
          <a:stretch/>
        </p:blipFill>
        <p:spPr>
          <a:xfrm>
            <a:off x="990720" y="2013120"/>
            <a:ext cx="40384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21304"/>
                </a:solidFill>
                <a:latin typeface="Arial"/>
                <a:ea typeface="Arial"/>
              </a:rPr>
              <a:t>La F</a:t>
            </a:r>
            <a:r>
              <a:rPr b="0" lang="es-MX" sz="2800" spc="-1" strike="noStrike">
                <a:solidFill>
                  <a:srgbClr val="221304"/>
                </a:solidFill>
                <a:latin typeface="Arial"/>
                <a:ea typeface="Arial"/>
              </a:rPr>
              <a:t>amiliarización</a:t>
            </a:r>
            <a:r>
              <a:rPr b="0" lang="es-ES" sz="2800" spc="-1" strike="noStrike">
                <a:solidFill>
                  <a:srgbClr val="221304"/>
                </a:solidFill>
                <a:latin typeface="Arial"/>
                <a:ea typeface="Arial"/>
              </a:rPr>
              <a:t> Con La Lengua Escrita Y Su </a:t>
            </a:r>
            <a:r>
              <a:rPr b="0" lang="es-MX" sz="2800" spc="-1" strike="noStrike">
                <a:solidFill>
                  <a:srgbClr val="221304"/>
                </a:solidFill>
                <a:latin typeface="Arial"/>
                <a:ea typeface="Arial"/>
              </a:rPr>
              <a:t>Relación</a:t>
            </a:r>
            <a:r>
              <a:rPr b="0" lang="es-ES" sz="2800" spc="-1" strike="noStrike">
                <a:solidFill>
                  <a:srgbClr val="221304"/>
                </a:solidFill>
                <a:latin typeface="Arial"/>
                <a:ea typeface="Arial"/>
              </a:rPr>
              <a:t> Con La Lengua Oral</a:t>
            </a:r>
            <a:r>
              <a:rPr b="0" lang="es-E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Un buen comien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ciar el éxito de los niños en la lec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Circunstancias que propician la lect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Aprendizaje cotidiano de la lectoescritura: el hogar de una famil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Dibujo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3962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221304"/>
                </a:solidFill>
                <a:latin typeface="Arial"/>
                <a:ea typeface="Arial"/>
              </a:rPr>
              <a:t>Aspectos Claves Del Lenguaje Y El Aprendizaje De La Lectoescritura, Actividades Para Niños Muy Pequeños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Ampliación del vocabulario y desarrollo del lengua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ciencia fonológic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ocimiento de la narrativ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nocimiento del libro y de lo impres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s letras y el conocimiento temprano de palabra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rensión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1981080"/>
          <a:ext cx="4038840" cy="36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403884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8:43:23Z</dcterms:created>
  <dc:creator>particular</dc:creator>
  <dc:description/>
  <dc:language>en-US</dc:language>
  <cp:lastModifiedBy>@rroba Sistemas.</cp:lastModifiedBy>
  <dcterms:modified xsi:type="dcterms:W3CDTF">2004-01-20T20:29:19Z</dcterms:modified>
  <cp:revision>14</cp:revision>
  <dc:subject/>
  <dc:title>Universidad Liceo Cervantino</dc:title>
</cp:coreProperties>
</file>