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A299-5AF5-4683-9D25-D7DC3418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D471-5E42-466C-B252-7DF28271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1DDE-96D5-4493-9E0B-A548FBAB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AED8-89E5-426F-B981-9334C0EF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2458-4E8C-498A-9957-447FA65D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EF41-A1C8-4C00-9E64-D312F8D6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7CF0-9173-4F9D-8FE0-487D5ACB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37AC-9650-4442-8CF3-B7230162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17D4-5011-4716-8217-C732A887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9D9D-C4DF-413A-A246-1EE10C14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19AC-2DC7-4AD3-BB05-A5853322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0BA4-4A83-4114-9039-73F8C7F1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6D75-0186-46FE-8350-3D0DF78B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7D5A-EC2A-4C7E-89D7-4BED51DC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2F9C-1609-4ABC-A329-1646E246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703C-C0AF-445B-AC91-01AD6150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1DA8-B3CB-40D9-B996-150EA751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BE98-4F7A-4050-9CD4-6FCD63C8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AA2-5FC9-4BE6-B973-5F87137B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318E-33A0-47FB-B691-3001E225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4E19-1FCB-45BA-BEEF-AF7FF314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3106-4056-4A0C-97A5-55A5750F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7539-D6A3-41FF-9D23-AE01FCAD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24E0-6D24-4962-B22A-173930E2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2D76-6FB0-4F7A-AECD-2747B8CE471A}" type="slidenum"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3375-F630-40E8-B0BD-D854BE1C6100}" type="slidenum">
              <a:rPr b="0" lang="de-DE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795241"/>
                </a:solidFill>
                <a:latin typeface="Times New Roman"/>
              </a:rPr>
              <a:t>December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5920" y="914400"/>
            <a:ext cx="4174920" cy="541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4648320" y="914400"/>
          <a:ext cx="3809880" cy="540972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0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1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7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8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4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5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un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1 </a:t>
                      </a:r>
                      <a:r>
                        <a:rPr b="0" lang="de-DE" sz="1000" spc="-1" strike="noStrike">
                          <a:solidFill>
                            <a:srgbClr val="781602"/>
                          </a:solidFill>
                          <a:latin typeface="Times New Roman"/>
                        </a:rPr>
                        <a:t>Sat</a:t>
                      </a:r>
                      <a:endParaRPr b="0" lang="en-US" sz="1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5:06:43Z</dcterms:created>
  <dc:creator>Claudia</dc:creator>
  <dc:description/>
  <dc:language>en-US</dc:language>
  <cp:lastModifiedBy>Claudia</cp:lastModifiedBy>
  <dcterms:modified xsi:type="dcterms:W3CDTF">2005-03-08T00:32:20Z</dcterms:modified>
  <cp:revision>2</cp:revision>
  <dc:subject/>
  <dc:title>PowerPoint-Präsentation</dc:title>
</cp:coreProperties>
</file>