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D96E-59AB-429A-B257-19F1E9D5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4C0D-4FA1-4E08-A32C-10B6FCF7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DC0F-D661-40D3-84FF-558B95A3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1B29-C56E-42FA-9BDF-F7826F1F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8B44-5A3E-4AD9-A164-27EE572C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9CF5-079E-4148-A697-E7E2F84A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6B8C-D621-497A-BDD3-2E80E75F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9C2B-6221-44FC-86C7-212E572D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AC64-A8BD-42E7-973C-54569492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7E85-189C-45F2-9795-41F2A254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55C7-7D66-4505-85F4-4E9F242C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8A17-9A42-4CBF-AF66-5A451BCE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A43B-0409-4DBB-9A7C-C418C4F4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7D9C-7C52-460D-B19A-A14E1B8B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A38A-FAE3-46AF-90C9-64817F09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73DE-4972-4194-A4F3-0F3A40F6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8809-503B-4765-85E6-8E6FCFAC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008C-1809-4B84-94A4-7FB7F15E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BCE1-AA66-4229-85B1-F06152CE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CA63-FE8B-4492-BC6B-795B9825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5DA4-56C5-4092-9D01-3CE779A4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12D2-43B7-435E-807A-EBF7E16B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EF03-D1C9-44BD-BCE5-22E08444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2F7E-4993-4C21-9369-AA1E5DBE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DA2F-34A6-4BDD-B5B5-9B09F95DC1AD}" type="slidenum"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7428-A54A-478E-AB41-38EAF7D2C5F1}" type="slidenum"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795241"/>
                </a:solidFill>
                <a:latin typeface="Times New Roman"/>
              </a:rPr>
              <a:t>November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03440" y="914400"/>
            <a:ext cx="3622320" cy="541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4495680" y="914400"/>
          <a:ext cx="3809880" cy="541008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5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6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2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3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9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0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6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7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9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15:03:13Z</dcterms:created>
  <dc:creator>Claudia</dc:creator>
  <dc:description/>
  <dc:language>en-US</dc:language>
  <cp:lastModifiedBy>Claudia</cp:lastModifiedBy>
  <dcterms:modified xsi:type="dcterms:W3CDTF">2005-03-08T00:32:11Z</dcterms:modified>
  <cp:revision>2</cp:revision>
  <dc:subject/>
  <dc:title>PowerPoint-Präsentation</dc:title>
</cp:coreProperties>
</file>