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81F-D373-4ED1-A1B3-7C4AD08F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E20-BF7B-426F-953E-1E3191B7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610-03A8-4CB3-897A-39C0EB27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360-16A4-4829-B6E7-34DD5654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7C85-4914-47AE-8EAB-AD86F11A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9915-A452-4EC9-A581-5DFB42D7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2894-995A-4AE2-A038-ED9AA270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36AB-8D57-4214-A072-9DD98099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6EE1-A13B-4F03-9608-38D4DBA6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D706-A833-4FF3-982E-744F3045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A064-1B4A-40E2-9F75-27A2830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A27-91B8-441F-AA3A-D6D3D15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ABA-7DD0-43CC-AC68-9294B270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8162-8D9B-4D7C-A66D-0508BC0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2A42-99E2-4612-9B15-DD1B81D9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7710-1FCE-4C9F-A15B-61B3D5F0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DDA-CC1D-4591-AB0E-4DA47847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9BA-5092-492C-8430-D211E52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0DB-D14E-44DB-8B0D-A1B158C9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07E-3521-4C92-BECE-BAC69222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B2F-860B-4997-92D0-F58040E1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339-A90C-4DA8-B50E-4BFF1DD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A19-DD10-4592-8A37-566A3D1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F54-9773-41A9-9670-E4A572E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BFC7-C3FE-4A94-AD5A-FBFE2CA9E80A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BF3-8887-4B98-A12F-321B551B8C46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October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20840" y="990720"/>
            <a:ext cx="421632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4832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5:03:25Z</dcterms:created>
  <dc:creator>Claudia</dc:creator>
  <dc:description/>
  <dc:language>en-US</dc:language>
  <cp:lastModifiedBy>Claudia</cp:lastModifiedBy>
  <dcterms:modified xsi:type="dcterms:W3CDTF">2005-03-08T00:32:03Z</dcterms:modified>
  <cp:revision>2</cp:revision>
  <dc:subject/>
  <dc:title>PowerPoint-Präsentation</dc:title>
</cp:coreProperties>
</file>