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6C76-2221-46AA-A485-3358D9A5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1491-5C1E-4837-B069-737B76AD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FA3-271A-4AD1-BC9D-A991AF4E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079-0152-4796-B9D0-0771AF4C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5AFE-AA7A-4142-AD59-386ACDF8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0F66-8041-4B08-B1CB-BE12F772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1E66-A07E-4A58-82E0-7F083165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4EE5-9590-46D2-B452-23A8FDDC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5B58-6935-428D-9457-873C3CB2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F5D3-432B-4263-A97C-145FD85C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880D-C3BD-461E-82C1-F07DB2F4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49D2-E01E-4E9A-982E-BBF7833D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7440-88DB-4F3B-BBA4-2FF3ED50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27D5-7FC6-4369-A404-28CC121F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073D-EE5B-40F8-94A8-15BBC569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A92D-8CAB-4D50-B91D-76F70A71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FEDA-3A39-4058-B427-34D056EB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C1B-41C3-48E4-9F73-6E12B74F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15CB-7D32-47DE-8A90-4CC687B5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EE0-7F27-469A-AD18-11ACE35D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881E-890C-4DC2-BC0D-004CEC41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C33-7C2D-4C13-9BFE-C5D9B5BE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6EE1-E968-4CD9-AE1C-1B616D2B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D022-5A3D-4C7B-8271-0A0E2072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EDB3-6D34-4253-96D8-E2578CD9219D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CAE5-D033-4056-A97B-6FFCA88E8022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795241"/>
                </a:solidFill>
                <a:latin typeface="Times New Roman"/>
              </a:rPr>
              <a:t>September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648320" y="914400"/>
          <a:ext cx="3809880" cy="541008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1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7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8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4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5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6 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425736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5:03:35Z</dcterms:created>
  <dc:creator>Claudia</dc:creator>
  <dc:description/>
  <dc:language>en-US</dc:language>
  <cp:lastModifiedBy>Claudia</cp:lastModifiedBy>
  <dcterms:modified xsi:type="dcterms:W3CDTF">2005-03-08T00:31:52Z</dcterms:modified>
  <cp:revision>2</cp:revision>
  <dc:subject/>
  <dc:title>PowerPoint-Präsentation</dc:title>
</cp:coreProperties>
</file>