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33D-16B2-42C3-9C8C-C18578E6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7C6-1225-40EB-8E43-D27B6B70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607-59B7-406E-9A29-BFB17B0B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E15-B606-4262-B24E-2E51D734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5527-396C-4AA6-8767-D92B6DE7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3B8C-E513-4923-9A9E-7896E224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7518-8907-43C2-A2FF-08819CF1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4719-AC58-401F-B9B5-CAACA0B2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3D69-0981-4EB7-870F-5B464F48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504F-3E1E-483F-A821-78ADBB1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1F9B-6659-483C-95D8-8B4A23EB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22E-4AD6-48BD-9A99-9D1AD8F7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242D-5188-46EE-AB7A-D4226687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EF5C-EF1C-46E9-8595-C47B63F3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C608-8FF6-489E-A6EA-5B378B89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D1B7-7FD2-4FA5-AB60-84CBCE12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072C-FA56-4B0B-8109-48D2FEE6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3F6-B6A1-4F71-A9A0-05C93FA5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E8A-AD6E-434B-98B6-68F3F4BE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215-F040-4587-8F77-42A905C1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C44-6905-40D9-B250-EE8E8954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F61-C5F7-497F-B8DC-9DDA053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859-AC3D-4555-88EC-00C08006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B77-01DA-41F5-AB6E-4919526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0B67-01A8-4643-B06B-6BA68862EBAE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A2AC-66B0-42D3-AB7E-097CA3118576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August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48320" y="990720"/>
          <a:ext cx="3809880" cy="53337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2deb"/>
                          </a:solidFill>
                          <a:latin typeface="Times New Roman"/>
                        </a:rPr>
                        <a:t>8 JC Birthday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 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 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422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5:01:07Z</dcterms:created>
  <dc:creator>Claudia</dc:creator>
  <dc:description/>
  <dc:language>en-US</dc:language>
  <cp:lastModifiedBy>Claudia</cp:lastModifiedBy>
  <dcterms:modified xsi:type="dcterms:W3CDTF">2005-03-08T00:31:45Z</dcterms:modified>
  <cp:revision>2</cp:revision>
  <dc:subject/>
  <dc:title>PowerPoint-Präsentation</dc:title>
</cp:coreProperties>
</file>