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266-CCE6-4360-BEEF-8BC34A6D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46B-F76B-43A2-B622-EC57DB3A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8D2-C59C-44AD-95AF-8B2648ED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DC3-6410-47DA-8F7F-42233C86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8F07-0525-426E-8C0F-D9189348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15AD-F54D-4C7E-923E-372813BC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EF12-2201-4100-8D79-2545ECC7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5248-B0CB-4F80-BF0F-A4B291F2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DB32-1537-4302-8207-B0C44240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1C99-B3E7-4B19-A69D-42040351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6317-646B-4685-8205-066237A8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048-AF80-4834-8D35-A4A72B14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36A5-3CEB-4E71-A973-62A5FBD9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2A12-D24D-417E-80FE-4AE99CCD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70B9-A860-4319-B55D-76393927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D966-08B0-49A2-B3D5-19CADC31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135E-6157-46C9-A572-83A58179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02D-A43F-4F1A-BF2D-E8BC99F8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9CA-D8FE-42AD-9C13-ADEFD49B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843-F4FD-4723-9B4F-322A7A1A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F5B-8B66-4F21-866D-40832BE9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BE0-30FD-432C-87AC-4945BF90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395-3F06-44E4-BFAC-ECD05318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ECA-5898-416D-B55A-03D9CE42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B9D3-6BFA-4A8D-8E2C-5B613F83A9D5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D5BC-DC08-4B3F-A018-3BA44FE387C3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795241"/>
                </a:solidFill>
                <a:latin typeface="Times New Roman"/>
              </a:rPr>
              <a:t>July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48320" y="914400"/>
          <a:ext cx="3809880" cy="541008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9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6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7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3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4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0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1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4011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5:00:56Z</dcterms:created>
  <dc:creator>Claudia</dc:creator>
  <dc:description/>
  <dc:language>en-US</dc:language>
  <cp:lastModifiedBy>Claudia</cp:lastModifiedBy>
  <dcterms:modified xsi:type="dcterms:W3CDTF">2005-03-08T00:31:35Z</dcterms:modified>
  <cp:revision>2</cp:revision>
  <dc:subject/>
  <dc:title>PowerPoint-Präsentation</dc:title>
</cp:coreProperties>
</file>