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8E6-C53E-4256-964A-16AD0180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08A-11C5-4157-BD2A-0E0EA506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E91-A9D9-434A-B68E-D2228FF0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8CB-B6FF-489A-B46A-FC914F8B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63C3-D207-48A8-8430-0FA60C68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7EAE-C1C8-4FE5-ADD7-18E150F5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7422-3972-4338-816A-3ED0E028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8B93-7E7A-413B-8C4F-3F2FF3B7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8D37-D60D-472F-8417-E8B167CD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CFD0-D9BE-452A-AD38-5690F1C5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8452-20A7-4874-A5C2-752B59A8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D65-5A60-47FC-A3AF-F4CE9BB3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DE41-1C7C-4091-842B-35E4A1E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23F6-3773-4EB6-B6D6-0503CF3E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53BC-1C3E-4006-97C8-D1E793A7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F4CC-04A6-488B-8871-0047CD03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08EE-1804-4ED5-8A70-3028A19D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8C3-4C50-4D3B-BCE6-AF66C9B4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4F5-2C5A-497B-92BA-6C71186F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DA0-717B-4B28-B23E-A6EA7C17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709-8998-4781-B3DD-C7057E8B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0FE-5A90-44B9-8C38-5AF1BBA6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874-FBED-42C5-AD39-0A3D415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BAD-8E21-4366-AD3A-D868B893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1D08-8F78-480A-8897-CFEB7A9B8980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8AF6-F710-4EBA-B47E-156CAE89D356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Ju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408276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648320" y="914400"/>
          <a:ext cx="3809880" cy="541008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5:00:46Z</dcterms:created>
  <dc:creator>Claudia</dc:creator>
  <dc:description/>
  <dc:language>en-US</dc:language>
  <cp:lastModifiedBy>Claudia</cp:lastModifiedBy>
  <dcterms:modified xsi:type="dcterms:W3CDTF">2005-03-08T00:31:27Z</dcterms:modified>
  <cp:revision>2</cp:revision>
  <dc:subject/>
  <dc:title>PowerPoint-Präsentation</dc:title>
</cp:coreProperties>
</file>