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130-72C9-4FFA-AF73-C0441C35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98F-7E31-426C-B258-C6923D92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F7E-4290-485C-9BBF-4F5F1DD3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429-21CC-4453-AFA5-8049EC6B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417F-35FD-42A4-A860-EAA2FBC6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034C-31D3-4588-B99F-DBD5518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EBCB-AA94-4C93-A7B3-BDDEA1EE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0AD7-7A27-46AE-9C6A-DFEFE47F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6EAC-F7C2-4437-B6C1-DD2596E7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8696-6104-4C26-803F-4CF0BE43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FB69-FFAE-4829-A80B-7E57D96B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60D-0DB9-4CF8-B0A6-B08F9EB2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934C-F106-4B03-A32C-423BCA4A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753E-D332-4902-81E3-F125DD2D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F360-7206-4862-8CA4-EB24AE0A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2AF2-782E-41CC-9A22-84ECF1A5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CF97-8F82-45FA-AB14-630BCA97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C34-28EA-4B63-BC2E-B63B1F44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384-73E7-4B92-99B6-414FE2BA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086-0C88-4542-8F34-CACBF4CF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600-A8A6-47DA-A4CF-7A22391D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DE8-A818-4D88-96B2-F6FC8ED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5A1-C608-4BCE-964E-180410E2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14A-1072-4BEC-B4C7-DFEBD74D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25AD-C1A1-4C7F-9E6E-32AD4E4DB1D1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1710-4F90-4275-8043-9E7F4286F8B9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795241"/>
                </a:solidFill>
                <a:latin typeface="Times New Roman"/>
              </a:rPr>
              <a:t>May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4343400" cy="32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648320" y="914400"/>
          <a:ext cx="3809880" cy="541008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9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4:58:46Z</dcterms:created>
  <dc:creator>Claudia</dc:creator>
  <dc:description/>
  <dc:language>en-US</dc:language>
  <cp:lastModifiedBy>Claudia</cp:lastModifiedBy>
  <dcterms:modified xsi:type="dcterms:W3CDTF">2005-03-08T00:31:15Z</dcterms:modified>
  <cp:revision>2</cp:revision>
  <dc:subject/>
  <dc:title>PowerPoint-Präsentation</dc:title>
</cp:coreProperties>
</file>