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D4C-F346-44E6-B13C-ED8557BD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F9E-BF04-456D-874D-0A4CC222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303-101C-4FA1-B31D-50F09607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772-68C7-4525-804E-A2315341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EF45-BBF3-4F8A-BF75-8A19A916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83AE-7EA0-4A14-AFCA-180E1342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D1F3-CB52-480E-90FC-B203D0E0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4547-5E74-4909-8C95-CAA340CB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4E62-CA34-4663-9E8A-1406FB4E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6612-74A9-49E9-9AA8-12F69436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993C-A58F-4D71-A67C-218400A6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E72-B4DD-4AB1-91F6-1A59DAC2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72B4-734A-4558-B219-F8FEC30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1741-10F4-457D-9DC4-0DEEC95F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BB64-4025-4C5E-8E8E-38297338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A6C0-8996-4437-9819-894C9D90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E338-E537-4DE5-8FE6-3398C6C5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36C-0BB7-46CD-BDB5-7CE44EA9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BDC-6C61-4ECA-BB78-CAE9C5AB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3D6-EC42-48AB-9086-AA69C027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E5A-709A-4C22-B6A1-8EF6CE11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85C-926C-4C62-83C8-62F9D33F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58F-BB0B-46CF-B03F-3CD32BF6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316-9D00-4B45-8492-406E7C98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B711-9466-4C54-B2DF-A4E9813EE2A6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7EBF-AB22-448D-8B48-A2C91B9C9858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795241"/>
                </a:solidFill>
                <a:latin typeface="Times New Roman"/>
              </a:rPr>
              <a:t>Apri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214280"/>
            <a:ext cx="4724280" cy="424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724280" y="914400"/>
          <a:ext cx="3809880" cy="541008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4:58:41Z</dcterms:created>
  <dc:creator>Claudia</dc:creator>
  <dc:description/>
  <dc:language>en-US</dc:language>
  <cp:lastModifiedBy>Claudia</cp:lastModifiedBy>
  <dcterms:modified xsi:type="dcterms:W3CDTF">2005-03-08T00:31:08Z</dcterms:modified>
  <cp:revision>2</cp:revision>
  <dc:subject/>
  <dc:title>PowerPoint-Präsentation</dc:title>
</cp:coreProperties>
</file>