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0E8-1935-4669-9B95-6CA339D0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9C8-9FB4-4435-B8FD-870AB8C0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71D-0ACB-428C-B6C2-CE09694F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AC9-F116-4F6A-8473-C615E6F5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8640-2E38-4765-8136-C20B1032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0AA-AF3B-4385-B5D3-01C5925D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12BA-70C7-41C0-B531-450F545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99A-1F8B-4886-B55C-34BDED85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1EA2-76F3-419A-B8A4-E47AB13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58C-40C5-4949-ADA0-D5D87BF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C2D7-0859-4493-A1C3-212D47A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603-B0E2-4513-B954-58CB3EA3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DCD6-455E-4B87-839E-C179E67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078-0BEF-4BF0-91FD-4B06E5C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F443-1581-4ABD-B8B0-E2B2C23F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E9DE-37E3-4C64-ACA2-B0262592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2D9-34D3-40BA-BF94-31E532F1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D22-6CB2-483C-AE56-FB4790E7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A15-39D9-4EA8-86A7-548F1839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2B8-5F33-48CF-9220-E9576E2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FFD-529D-4C5F-967A-D58CEB3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D8B-978D-4641-973E-E92D79C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304-257E-4A41-A18C-5630D1D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ECB-80B3-46AF-BEDA-683D703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908-4E2C-4540-AFC2-99745950689C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5EDA-B27E-41D8-92FF-48F2590ADB0A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March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343400" cy="42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57:43Z</dcterms:created>
  <dc:creator>Claudia</dc:creator>
  <dc:description/>
  <dc:language>en-US</dc:language>
  <cp:lastModifiedBy>Claudia</cp:lastModifiedBy>
  <dcterms:modified xsi:type="dcterms:W3CDTF">2005-03-08T00:30:59Z</dcterms:modified>
  <cp:revision>2</cp:revision>
  <dc:subject/>
  <dc:title>PowerPoint-Präsentation</dc:title>
</cp:coreProperties>
</file>