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040-D30E-4FC8-97DB-4E55C88A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1C3-D9FF-4AD8-9485-326086C0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9B3-22AD-42A6-A2B7-6676199B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6EAE-51DA-4DA4-9F63-C1950092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1CCE-EAAE-43AD-9C5E-D6604C58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D416-0AAC-4897-9CBF-B98DB2CE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8B0A-7DAB-409C-B219-A243D077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CE45-6377-4FFE-A50B-D00736BB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85D7-94B0-4E92-96C7-6B4911A5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2A48-E0D3-42F8-AAC3-A5355B62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2F48-370B-4562-8588-B7B40833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B75-DDF2-4CFD-866E-925FA6A2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31D0-B869-4F39-80D1-38E8395F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1DE6-C0EC-4C9F-9F16-21F2D44F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6A1C-ED3E-46AE-941D-EF26631E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AD4A-058A-45C1-9372-1F912FF9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19FC-887A-4232-8FC5-1F3F1971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C87A-E2C7-41E1-A602-C6B14E57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E65-C5A7-4EB2-9518-CDDA0BC5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E0A0-6D56-419F-A096-6D1CBDC1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183F-7758-4A2D-8581-DAC6ABF4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E8BD-CD61-48AD-B78C-B10F6570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221-B37C-48D7-9815-E9BBF405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580C-7E03-4B38-B598-8D941871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7A2A-DAA1-4222-8A80-40E655DBB300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289E-AB76-4362-B8FE-B7A53BC171D6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795241"/>
                </a:solidFill>
                <a:latin typeface="Times New Roman"/>
              </a:rPr>
              <a:t>February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435312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4800600" y="914400"/>
          <a:ext cx="3657600" cy="54100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5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6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2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3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9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0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6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7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4:55:52Z</dcterms:created>
  <dc:creator>Claudia</dc:creator>
  <dc:description/>
  <dc:language>en-US</dc:language>
  <cp:lastModifiedBy>Claudia</cp:lastModifiedBy>
  <dcterms:modified xsi:type="dcterms:W3CDTF">2005-03-08T00:30:47Z</dcterms:modified>
  <cp:revision>2</cp:revision>
  <dc:subject/>
  <dc:title>PowerPoint-Präsentation</dc:title>
</cp:coreProperties>
</file>