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3BC-14F2-4659-958D-4A28F7D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6AA-8E2F-4F66-86FF-142EC100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F6A-F0FA-4768-B7BB-737AB947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AA2-2CDD-42D7-A76C-6F0D62F1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E82F-A685-41BA-A371-70F0564B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BE42-1A15-457A-A6DD-F899541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683B-A8C3-4C3D-9498-50754E5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B4A7-AD5C-47D7-9AE7-535F6B8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40AA-A119-4C07-B3EC-CF39E03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4C62-29A9-49D5-B58F-80CE02FE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C24-CD7C-4DD2-9B60-47F3158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7A4-F797-4718-A4A2-6DAB62B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800A-920E-4276-9803-1E12AE1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5630-C7EC-4CC9-A852-B6845F60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895A-2794-4452-8B79-FEB94040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798D-CDE6-408B-B93D-256B30D2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9AFF-D712-4CF4-879D-FFB041F0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E7B-86AC-4EB0-B39C-F45AE49F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F1D-B419-49C6-8A6A-B451D545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F2F-8F40-4931-ACBA-5B8EF0F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85C-77A0-41B9-BDE4-46FA6440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889-F4BC-43B5-9087-8ADBF47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5E4-B409-4394-954E-F528CFF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45C-4B35-4A20-8C28-815650B7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63634"/>
                </a:solidFill>
                <a:latin typeface="Times New Roman"/>
              </a:rPr>
              <a:t>Josh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EA5-7BA5-4FA0-9CB6-FAE88750F247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463634"/>
                </a:solidFill>
                <a:latin typeface="Times New Roman"/>
              </a:rPr>
              <a:t>Josh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9FA-C3D5-4A2F-BAD0-D35748BEA815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95241"/>
                </a:solidFill>
                <a:latin typeface="Times New Roman"/>
              </a:rPr>
              <a:t>Januar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990720"/>
            <a:ext cx="439272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80060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1402fc"/>
                          </a:solidFill>
                          <a:latin typeface="Times New Roman"/>
                        </a:rPr>
                        <a:t>31 Justin Birthday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49:40Z</dcterms:created>
  <dc:creator>Claudia</dc:creator>
  <dc:description/>
  <dc:language>en-US</dc:language>
  <cp:lastModifiedBy>Claudia</cp:lastModifiedBy>
  <dcterms:modified xsi:type="dcterms:W3CDTF">2005-03-08T00:30:31Z</dcterms:modified>
  <cp:revision>2</cp:revision>
  <dc:subject/>
  <dc:title>PowerPoint-Präsentation</dc:title>
</cp:coreProperties>
</file>