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612-D1F7-412D-AFF3-84EE3824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557-2908-4F82-8A2F-AE2B9387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8B4-3561-42C0-A070-343EA79E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A0A-F518-422A-9FDD-DBC7F223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782C-4092-49BD-AE5D-C55C764C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954B-B367-4FA2-840D-F4AADD11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055C-5B02-47D4-B51F-5E011997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BA31-49D4-4904-86FD-6404D1DD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7C45-E9DC-493F-9607-C8A7E0AA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5A9A-2BE7-4671-A016-31B8FFAA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0270-3D35-4F40-8014-8AEDECEF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DFC-C4AD-45B6-9877-F067AED8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6920-7950-4D0B-AE1B-27B9EE38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C0BE-A84A-4E89-A4B9-756283DA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4C96-DF06-45B0-B561-60CD5611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9070-DA67-44F5-B518-C2798BDA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D4E-BEF8-48F8-BF82-25F797FD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021-2EE4-4441-8C67-75EF7995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163-0D89-4F85-9F0D-6A58A5A1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514-CA6E-4357-AE43-5FD20E2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D6D-149E-470E-AEF3-E7A9FA1D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281-5E5B-47B9-8825-6ADF18DF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51C-7974-49CB-9742-7F265AB2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B5A-FC19-4278-BA4B-1B23BC05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93E5-40BA-43CE-80A0-1AF7FF07CA99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5081-A052-47C4-9C66-158359283DBF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795241"/>
                </a:solidFill>
                <a:latin typeface="Times New Roman"/>
              </a:rPr>
              <a:t>Joshtin Calender</a:t>
            </a:r>
            <a:endParaRPr b="0" i="1" lang="en-US" sz="25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385740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28284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5867280"/>
            <a:ext cx="731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500" spc="-1" strike="noStrike">
                <a:solidFill>
                  <a:srgbClr val="795241"/>
                </a:solidFill>
                <a:latin typeface="Times New Roman"/>
              </a:rPr>
              <a:t>2005</a:t>
            </a:r>
            <a:endParaRPr b="0" lang="en-US" sz="35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4:45:06Z</dcterms:created>
  <dc:creator>Claudia</dc:creator>
  <dc:description/>
  <dc:language>en-US</dc:language>
  <cp:lastModifiedBy>Claudia</cp:lastModifiedBy>
  <dcterms:modified xsi:type="dcterms:W3CDTF">2005-03-04T14:46:30Z</dcterms:modified>
  <cp:revision>1</cp:revision>
  <dc:subject/>
  <dc:title>Joshtin Calender</dc:title>
</cp:coreProperties>
</file>