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76F-015B-4116-8BDD-843BC191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9E4-EBC9-48DC-8477-4A8C6CD0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EA2-68D7-427E-BAB7-5F7258E4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A26-1302-4771-859B-F1F9EDA2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5D0-7D5E-4E7B-9CA1-E8A63DE5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53F0-B61C-4D4F-85AD-E48DDD13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A17-73E7-42A4-B333-9561CA0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2F2-32F4-4914-B39B-3E56726A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827-F44B-4A22-9B2E-D7274DD5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B21-2C03-4BD2-AD99-F99C349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186-3A73-41BD-96BD-DF76B7F5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D04-C841-4428-AE3D-43A6783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A92B-AA0F-4F12-A2DF-EAFAC540A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130480"/>
            <a:ext cx="83818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sex Pines Country Club, I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Shareholder’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ship Stati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280" y="1600200"/>
          <a:ext cx="8834400" cy="433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83440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1523880"/>
          <a:ext cx="7162920" cy="50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71629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14400" y="7238880"/>
          <a:ext cx="7619760" cy="3551400"/>
        </p:xfrm>
        <a:graphic>
          <a:graphicData uri="http://schemas.openxmlformats.org/drawingml/2006/table">
            <a:tbl>
              <a:tblPr/>
              <a:tblGrid>
                <a:gridCol w="1814040"/>
                <a:gridCol w="2593440"/>
                <a:gridCol w="1646640"/>
                <a:gridCol w="156564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mary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Accou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v/Unf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       (11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un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anqu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     (106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un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       (76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un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en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reens/C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       (17.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un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House (&amp; COG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$       (8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Insu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$       (15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Loan Inte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$         (9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Arial"/>
                        </a:rPr>
                        <a:t>fav de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urse &amp; Prosh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        22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unfav in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17526 L -0.0125 -0.85225 E">
                                      <p:cBhvr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Reporting – 2009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6600" y="596880"/>
            <a:ext cx="793728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9 Dues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-if” scenarios</a:t>
            </a:r>
            <a:br>
              <a:rPr sz="4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if we lose SH’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7086600"/>
          <a:ext cx="8229600" cy="2495520"/>
        </p:xfrm>
        <a:graphic>
          <a:graphicData uri="http://schemas.openxmlformats.org/drawingml/2006/table">
            <a:tbl>
              <a:tblPr/>
              <a:tblGrid>
                <a:gridCol w="1506240"/>
                <a:gridCol w="1273320"/>
                <a:gridCol w="1901880"/>
                <a:gridCol w="1771560"/>
                <a:gridCol w="1776600"/>
              </a:tblGrid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Loss of 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Revenu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$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Dues would 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rease of approx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835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2,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751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2,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715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2,8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  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703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2,9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659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3,1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3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617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3,4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  6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1,573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3,8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   1,0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85800" y="1371600"/>
          <a:ext cx="7696080" cy="468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6960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6152E-006 L -3.33333E-006 -0.80342 E">
                                      <p:cBhvr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130480"/>
            <a:ext cx="83818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ssex Pines Country Club, I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Shareholder’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2:26:16Z</dcterms:created>
  <dc:creator>David Zorb</dc:creator>
  <dc:description/>
  <dc:language>en-US</dc:language>
  <cp:lastModifiedBy>D99TOB</cp:lastModifiedBy>
  <dcterms:modified xsi:type="dcterms:W3CDTF">2008-11-13T23:35:05Z</dcterms:modified>
  <cp:revision>35</cp:revision>
  <dc:subject/>
  <dc:title>Slide 1</dc:title>
</cp:coreProperties>
</file>