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552-A54C-4816-BAA0-C70B2904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7C0-FB88-45B2-85E5-F27B68BF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B4B-648F-4FDD-B218-52710A5A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9AFC-C94D-44FE-A331-706EE5A0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9E0-FC72-4C13-A376-4F67C470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2DDB-BA53-48DD-B59A-D949D4C4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895-A65F-439F-BD7C-CA304139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2214-DA1D-43C8-AFF7-C04B4FB8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135-5463-415E-BB1C-E9F8E9FC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DCDD-7529-4BD4-B197-17443CE3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5C9E-BAD9-4DF9-ABD3-0060EE05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930-704B-4B3C-89F9-D7FCE438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E433-75BE-4E5C-8405-FB7FA0D9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0D0-F242-4353-9F12-11310A94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C88-01AF-4EDF-8661-ED32B52E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43F-23DA-4752-9595-693971D1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4C98-6DCC-433F-B3B6-230C40EE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3E9-6773-4A7B-94F7-3FD2311D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889F-275C-4E24-A510-2FCD10DE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03D1-6B93-431E-82FD-8D803AD1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372-573F-4D0F-B2CD-5D83AD00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8F3-DCEC-4C6D-8A9D-D3F2846B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D38-3925-4DF6-BAF6-CE199371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0D67-1B7B-4AA1-8709-DFBAA4FB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A267-9AAE-4FE1-9FC2-80E462B9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39F-8F60-4875-87A2-68A84659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0E89-54AC-42CB-954F-9C22E1D3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070D-5140-4A82-897D-7DB16E00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9F2-454C-4C1C-8143-C1ED3DEE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97F-20E1-4CA9-816A-93A8B2DF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68A-D0F0-4F57-BD1C-681D0C74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F34-4434-4A57-ABC4-14CD4853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75E-2A61-486E-90D8-9426292D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036-2BFC-4BD4-B094-E12234ED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B20-F91B-4184-B82A-169B5568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A9E-2987-43CE-9E73-15AE0D7F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0ED4-6F9E-4302-B838-B05647DA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5DE9-AFFD-4F9F-8AA8-B4BF0BE7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9BCD-AFB7-4F85-8665-6428CD9E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297-947A-4A6B-8ED6-BAF83788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0CF9-75BF-482E-86E1-AF0F1EEA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8752-E774-4A68-9A14-0ED19F64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03DE-5F0B-45C4-9C5A-EC7A835D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48BC-8607-4F37-A3B8-4C9DDBC3E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9400" y="413640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1569-5913-41EB-8159-FDC606015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336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438F-6810-4B01-A411-E4388D092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516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092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940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516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092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C646-9AEF-4D4B-8DA0-99660F4C0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6520" y="169920"/>
            <a:ext cx="86392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986C-0379-417F-9B19-A4F16180A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336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39400" y="413640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336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516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70920" y="143208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3940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516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70920" y="4136400"/>
            <a:ext cx="24908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E83C-B1C9-47A6-8C5F-711ABC2B8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B944-6F8F-4C5A-883C-D50736808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487D-0459-41BB-BB1C-7B9841C34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520" y="169920"/>
            <a:ext cx="86392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A8BF-9577-48D5-A412-B06734660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3CA6-64C0-40C8-B984-61C9396DD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3360" y="413640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CDD-5F7D-45DF-8338-B9CF2F5FA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3360" y="1432080"/>
            <a:ext cx="377496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9400" y="4136400"/>
            <a:ext cx="7736040" cy="24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2791-C071-4D8C-AE5A-1C2E3CB88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07960"/>
          </a:xfrm>
          <a:prstGeom prst="rect">
            <a:avLst/>
          </a:prstGeom>
          <a:solidFill>
            <a:srgbClr val="003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2120" y="6422760"/>
            <a:ext cx="7365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79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798"/>
                </a:solidFill>
                <a:latin typeface="Arial"/>
              </a:rPr>
              <a:t>| </a:t>
            </a:r>
            <a:fld id="{27928941-FBA9-4807-B115-0195CBE821F2}" type="slidenum">
              <a:rPr b="0" lang="en-US" sz="1000" spc="-1" strike="noStrike">
                <a:solidFill>
                  <a:srgbClr val="003798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3798"/>
                </a:solidFill>
                <a:latin typeface="Arial"/>
              </a:rPr>
              <a:t>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NFHS-Small-Logo-color-Trans"/>
          <p:cNvPicPr/>
          <p:nvPr/>
        </p:nvPicPr>
        <p:blipFill>
          <a:blip r:embed="rId2"/>
          <a:stretch/>
        </p:blipFill>
        <p:spPr>
          <a:xfrm>
            <a:off x="298440" y="5499000"/>
            <a:ext cx="57636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0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NFHS-Small-Logo-color-Trans"/>
          <p:cNvPicPr/>
          <p:nvPr/>
        </p:nvPicPr>
        <p:blipFill>
          <a:blip r:embed="rId2"/>
          <a:stretch/>
        </p:blipFill>
        <p:spPr>
          <a:xfrm>
            <a:off x="4233960" y="728640"/>
            <a:ext cx="672840" cy="979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5110200" y="627372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Part. </a:t>
            </a:r>
            <a:r>
              <a:rPr b="0" lang="en-US" sz="2000" spc="-1" strike="noStrike">
                <a:solidFill>
                  <a:srgbClr val="f791a4"/>
                </a:solidFill>
                <a:latin typeface="Arial"/>
              </a:rPr>
              <a:t>Get Set For Life.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5072040" y="6362640"/>
            <a:ext cx="0" cy="4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006640" y="138240"/>
            <a:ext cx="50925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onal Federation of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School Assoc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520" y="376200"/>
            <a:ext cx="86392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elcome Coaches &amp; Umpi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9720" y="1432080"/>
            <a:ext cx="823608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-in procedures for interp. mtg. cred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 coaches should sign-in on coaches’ sheets.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e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aches only.  Assistant coaches’ signatures will be annotated as Assistants before submittal, so only Head Coaches should sig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pires not from the Delco Chapter should use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 fo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p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pires from the Delco Chapter should use the Secretary’s regular sign-in 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39400" y="1432080"/>
            <a:ext cx="7736040" cy="517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Page-6"/>
          <p:cNvPicPr/>
          <p:nvPr/>
        </p:nvPicPr>
        <p:blipFill>
          <a:blip r:embed="rId2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7105680" y="3105000"/>
            <a:ext cx="1619280" cy="609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156080" y="3141720"/>
            <a:ext cx="1460520" cy="593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age-3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2832120"/>
            <a:ext cx="1778040" cy="177804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486080" y="3429000"/>
            <a:ext cx="1650960" cy="5461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4764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96000" y="182880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ers’ gloves:  color doesn’t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Page-1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Page-1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75320" y="1668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 Illegal Pitch is an illegal act committed by the pitcher…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6-2-1e Penalt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Clarification (cont.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tcher who goes to his mouth, touches the ball without wiping it off and then engages the pitcher’s plate will have a ball added to the count (with runners on base or bases empt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tcher who goes to his mouth and then touches the ball without distinctly wiping it off may request a new ball to be legal, provided he has not yet engaged the pitcher’s plat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44520" y="5130720"/>
            <a:ext cx="717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3.1  “…field umpire and UIC shall have concurrent jurisdiction in … calling … illegal pitch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0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863360"/>
            <a:ext cx="865332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009 NFH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seball Rules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28600" y="3790800"/>
            <a:ext cx="86454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91a4"/>
                </a:solidFill>
                <a:latin typeface="Arial"/>
              </a:rPr>
              <a:t>B. Elliot Hopkins, C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91a4"/>
                </a:solidFill>
                <a:latin typeface="Arial"/>
              </a:rPr>
              <a:t>NFHS Baseball Rules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91a4"/>
                </a:solidFill>
                <a:latin typeface="Arial"/>
              </a:rPr>
              <a:t>Kyle McNe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91a4"/>
                </a:solidFill>
                <a:latin typeface="Arial"/>
              </a:rPr>
              <a:t>NFHS Baseball Rules Committee Chair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per Field Marking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1-2-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nes on the playing field shall be marked with a material which is not injurious to the eyes or s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on-permanent lines should be w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lines, such as sewn lines in artificial turf, may be a color other than w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cation for proper lining instructions for grass and turf fiel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8645400" cy="23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91a4"/>
              </a:solidFill>
              <a:latin typeface="Arial"/>
            </a:endParaRPr>
          </a:p>
        </p:txBody>
      </p:sp>
      <p:pic>
        <p:nvPicPr>
          <p:cNvPr id="147" name="Picture 4" descr="Page-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age-1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age-13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93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3280" y="4292640"/>
            <a:ext cx="2544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ule 7-3-4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batter shall not permit a pitched ball to touch hi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994360" y="3568680"/>
            <a:ext cx="2527200" cy="520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30720" y="3544920"/>
            <a:ext cx="2409480" cy="495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tter may not permit a pitched ball to touch him (Rule 7-3-4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39400" y="1647720"/>
            <a:ext cx="77360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batter has the ability to avoid being h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ional movement toward the pitch is umpire jud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is Dead, pitch is called a Ball or Str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 remains at bat unless S3 or B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tter is not rewarded for intentionally “taking one for the tea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520" y="8424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view of 2008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54200" y="1944720"/>
            <a:ext cx="72435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coaches AND CAPTAINS must att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game mtg.  (PI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definition of Ob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er’s glove:  no white or g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er going to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mpires’ Slack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10-1-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9320" y="1584000"/>
            <a:ext cx="79264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499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a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y slacks are no longer required in the NFHS rule book;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..shall wear gray slack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change provides more flexibility in the type of gray slacks w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pires must still dress professionally when on the play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AA still requires heather gr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tching Intentionally Close to a Batter (Rule 6-2-3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le has not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cher may not “intentionally throw pitch close to a batter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tcher shall be ejected if the pitch is judged to be intentional.  In case of doubt, the umpire may warn the pit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ion for change came from a District 1 Rules Interpr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11800" y="2075040"/>
            <a:ext cx="85716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ach is touched by thrown live ball (Rule 3-2-3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39400" y="1571400"/>
            <a:ext cx="77360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was changed to read, “If a thrown live b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ntentio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uches a base coach in foul territory, or a pitched or thrown ball touches an umpire, the ball is live and in pl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“accidentally” was changed to “unintentional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520" y="360360"/>
            <a:ext cx="86392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FHS Points of Emphasis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pages 67 – 69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39400" y="1660320"/>
            <a:ext cx="77360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99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Personne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99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of Gam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99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ing Staff Profess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99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port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99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rilla stance/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874960"/>
            <a:ext cx="6545520" cy="11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520" y="419040"/>
            <a:ext cx="86392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eam Personnel loc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should not be on bucke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ugout/bench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recommended to extend the dugouts toward home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 are not permitted to leave the dugout/bench area during liv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iz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age-17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324160" y="4400640"/>
            <a:ext cx="26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ve bal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-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440" y="213372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ad ball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Page-1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05480" y="4513320"/>
            <a:ext cx="39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ammates must stay off the dirt encircling hom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6520" y="262080"/>
            <a:ext cx="863928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intaining Pace of Pla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delays in game action detract from what otherwise is an exciting and enjoyable cont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pecific rules to improve the pace of the game that should be enforced more consist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d conferences should be conducted and administered in a timely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age-1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aches Professionalis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39400" y="1589040"/>
            <a:ext cx="773604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good sportin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interaction with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pregam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ethical and appropriat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 their dug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8" descr="Page-1"/>
          <p:cNvPicPr/>
          <p:nvPr/>
        </p:nvPicPr>
        <p:blipFill>
          <a:blip r:embed="rId1"/>
          <a:stretch/>
        </p:blipFill>
        <p:spPr>
          <a:xfrm>
            <a:off x="0" y="0"/>
            <a:ext cx="91440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520" y="360360"/>
            <a:ext cx="86392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aching Staff Professionalis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viewed upo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s on the field of 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t is imperative that they model appropriate behavior so the students who play for them emulate positive interaction with opponents and ump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allowance for disrespect in any athletic contest, especially in education-based athle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520" y="404640"/>
            <a:ext cx="86392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od Sporting Behavi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pires and coache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k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benefit of the students they officiate and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situations provide coaches and officials excellent “teachable moments” to reinforce proper behavior and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ve values that are learned will serve the students long after their high school careers have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Page-16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Page-16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03520" y="1994040"/>
            <a:ext cx="2514600" cy="799920"/>
          </a:xfrm>
          <a:prstGeom prst="wedgeRoundRectCallout">
            <a:avLst>
              <a:gd name="adj1" fmla="val -43518"/>
              <a:gd name="adj2" fmla="val 83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5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guys SUCK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tching Requir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1487520" y="1862280"/>
            <a:ext cx="72039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ri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nce and/or motion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ching hand must be at the side or behind th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be hangin’ or dangli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326200"/>
            <a:ext cx="12193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414600" y="1720800"/>
            <a:ext cx="54482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AA is rescinding its ruling last year that the coaches’ affirmations that their players are “properly equipped” served as the official team warning for jewelry vio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:  First violation results in </a:t>
            </a:r>
            <a:r>
              <a:rPr b="0" lang="en-US" sz="2400" spc="-1" strike="noStrike">
                <a:solidFill>
                  <a:srgbClr val="e96b10"/>
                </a:solidFill>
                <a:latin typeface="Arial"/>
              </a:rPr>
              <a:t>Team W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violators on that team are </a:t>
            </a:r>
            <a:r>
              <a:rPr b="0" lang="en-US" sz="2400" spc="-1" strike="noStrike">
                <a:solidFill>
                  <a:srgbClr val="e96b10"/>
                </a:solidFill>
                <a:latin typeface="Arial"/>
              </a:rPr>
              <a:t>DQ’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3-3-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nalty for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00" y="1785960"/>
            <a:ext cx="28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429000" y="1619280"/>
            <a:ext cx="54482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responsible to ensure all bats and helmets are displayed for inspection no later than 15 minutes before game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the need for umpires to rummage through each player’s equipment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8520" y="178596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Don’t m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us ask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36760" y="4340160"/>
            <a:ext cx="5123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25960" y="1822320"/>
            <a:ext cx="5448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bat gr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deem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b10"/>
                </a:solidFill>
                <a:latin typeface="Arial"/>
              </a:rPr>
              <a:t>Matting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ip:  rounded V-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b10"/>
                </a:solidFill>
                <a:latin typeface="Arial"/>
              </a:rPr>
              <a:t>Vendet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s: octagon shap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6b10"/>
                </a:solidFill>
                <a:latin typeface="Arial"/>
              </a:rPr>
              <a:t>Vector-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3 triangular holes, less wind re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s must still display </a:t>
            </a:r>
            <a:r>
              <a:rPr b="1" lang="en-US" sz="2400" spc="-1" strike="noStrike">
                <a:solidFill>
                  <a:srgbClr val="e96b10"/>
                </a:solidFill>
                <a:latin typeface="Arial"/>
              </a:rPr>
              <a:t>BES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2480" y="185724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429000" y="1619280"/>
            <a:ext cx="5448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s for running lane should be accurately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4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touching the fou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age-2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71760" y="4341960"/>
            <a:ext cx="819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341960"/>
            <a:ext cx="819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7720" y="4341960"/>
            <a:ext cx="819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62040" y="4181400"/>
            <a:ext cx="3142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62400" y="4343400"/>
            <a:ext cx="295200" cy="2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82880" y="3936960"/>
            <a:ext cx="2425680" cy="90180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Page-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2440" y="5862600"/>
            <a:ext cx="47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ult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required to have dual earfl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29000" y="1619280"/>
            <a:ext cx="5448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gu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cked sw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rguing balls and str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jection follows w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9000" y="1619280"/>
            <a:ext cx="5448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ging an umpire:  AUTOMATIC E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3-1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per Dr. Lomb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520" y="318600"/>
            <a:ext cx="8639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AA Issues/Concerns/Remind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Rectangle 3" descr=""/>
          <p:cNvPicPr/>
          <p:nvPr/>
        </p:nvPicPr>
        <p:blipFill>
          <a:blip r:embed="rId1"/>
          <a:stretch/>
        </p:blipFill>
        <p:spPr>
          <a:xfrm>
            <a:off x="225360" y="3421080"/>
            <a:ext cx="2679840" cy="2944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429000" y="1619280"/>
            <a:ext cx="5448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ch who is ejected must leave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ht and sou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direct or indirect communication with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ch may only return to the field to attend to an injured player, break up a fight, etc. </a:t>
            </a:r>
            <a:r>
              <a:rPr b="1" lang="en-US" sz="2400" spc="-1" strike="noStrike">
                <a:solidFill>
                  <a:srgbClr val="e96b10"/>
                </a:solidFill>
                <a:latin typeface="Arial"/>
              </a:rPr>
              <a:t>IF THE UMPIRE REQUESTS HIS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Book 3.3.2, pg.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bstitu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3-1-1 &amp; 3-1-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39400" y="1574640"/>
            <a:ext cx="77360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 issues continue to crop up annually with misinterpretations by umpires and misunderstandings by coa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the pitcher (who falls under certain conditions), a substitute may replace a player of his team when the ball is dead and time has been c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 of substitutions, </a:t>
            </a: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ANNOU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e96b10"/>
                </a:solidFill>
                <a:uFillTx/>
                <a:latin typeface="Arial"/>
              </a:rPr>
              <a:t>UN</a:t>
            </a: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ANNOU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Page-10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Page-9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05280" y="587844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 penalty for unannounced sub. if a legal s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itchers’ Uniforms Interpret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1-4-2 &amp; 6-2-1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FHS Baseball Rules Committee was asked to rule on the very popular </a:t>
            </a:r>
            <a:r>
              <a:rPr b="1" lang="en-US" sz="2800" spc="-1" strike="noStrike">
                <a:solidFill>
                  <a:srgbClr val="e96b10"/>
                </a:solidFill>
                <a:latin typeface="Arial"/>
              </a:rPr>
              <a:t>vest type uniform jersey t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T-shirt underneath that is part of the team’s colors.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-shir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worn underneath the vest is considered to b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t of the uniform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type of uniform, white or gray T-shirts are permissible as long as it is the color of the team and the sleeves do not extend below the el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Page-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097760" y="5892840"/>
            <a:ext cx="652320" cy="29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75240" y="59832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61000" y="3512880"/>
            <a:ext cx="463680" cy="26845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832520" y="3519360"/>
            <a:ext cx="376200" cy="2627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6320" y="1706400"/>
            <a:ext cx="35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-shirt extends below elb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dical Sleev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worn by pitcher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39400" y="1546200"/>
            <a:ext cx="7736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leeves are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y be worn on either arm, and may be white or gr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y cannot extend below the elbow on the pitching ar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e a color that is distrac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ule 2-22-3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bstruction Defini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er without possession of the ball denies access to the base the runner is attempting to achie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“access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runner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empt to reach the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rule provides positive benefits to both offensive and defensive teams by minimizing r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Page-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14840" y="5864400"/>
            <a:ext cx="6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75040" y="59832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92960" y="2287440"/>
            <a:ext cx="14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dical sleeve of F1 extends below elbow and is a distracting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dical Sleev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worn by pitcher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3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edical sleeves are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ey may be worn on either arm if they are white or gr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They cannot extend below the elbow on the pitching arm </a:t>
            </a:r>
            <a:r>
              <a:rPr b="1" lang="en-US" sz="2600" spc="-1" strike="noStrike" u="sng">
                <a:solidFill>
                  <a:srgbClr val="b2b2b2"/>
                </a:solidFill>
                <a:uFillTx/>
                <a:latin typeface="Arial"/>
              </a:rPr>
              <a:t>and</a:t>
            </a: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 be a color that is distracting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d21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worn on 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n-throw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rm, they may be of any length, may be white or gray as long as they are not distrac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7680" y="53132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at? What?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commendation: pick a color other than white or gray for vest-type jersey uniform T-shirts.  At the very least, don’t let your pitcher wear white or gray medical sleeves and avoid the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58760" y="5326200"/>
            <a:ext cx="7796160" cy="12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0640" y="812880"/>
            <a:ext cx="6995880" cy="415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928800" y="971640"/>
            <a:ext cx="7024680" cy="3976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7520" y="1174680"/>
            <a:ext cx="6666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ways err on the side of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aches are responsible to keep players in a safe place.  That includes getting them away from c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, while waiting 30 minutes,  you see another lightning strike, start your timing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:  Always err on the side of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0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863360"/>
            <a:ext cx="865332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ank you and have a great season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57040" y="3798720"/>
            <a:ext cx="8645760" cy="18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t any time may be referr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m Ellis 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mellis37@comcast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age-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age-5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9400" y="1432080"/>
            <a:ext cx="7736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age-14"/>
          <p:cNvPicPr/>
          <p:nvPr/>
        </p:nvPicPr>
        <p:blipFill>
          <a:blip r:embed="rId1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520" y="169920"/>
            <a:ext cx="86392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9400" y="1432080"/>
            <a:ext cx="7736040" cy="517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age-7"/>
          <p:cNvPicPr/>
          <p:nvPr/>
        </p:nvPicPr>
        <p:blipFill>
          <a:blip r:embed="rId2"/>
          <a:stretch/>
        </p:blipFill>
        <p:spPr>
          <a:xfrm>
            <a:off x="-19080" y="-117360"/>
            <a:ext cx="9182160" cy="70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5:54:51Z</dcterms:created>
  <dc:creator>ehopk</dc:creator>
  <dc:description/>
  <dc:language>en-US</dc:language>
  <cp:lastModifiedBy>Tom Ellis</cp:lastModifiedBy>
  <dcterms:modified xsi:type="dcterms:W3CDTF">2009-02-22T14:02:42Z</dcterms:modified>
  <cp:revision>71</cp:revision>
  <dc:subject/>
  <dc:title>Slide 1</dc:title>
</cp:coreProperties>
</file>